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166B-A2FE-467C-98D3-C415555F1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510D-6A7B-42F0-AF55-2CF4317C0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71BB-CBBD-47D5-97FF-EA7B43E7B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1C60-2967-41A3-8E18-219A7D8D7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CA0F-65D3-491A-8E2F-3453864EEF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47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5C1D-B4DF-416B-A88C-E65B69CB0F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9A0F-2343-4EA1-BED0-29168380BD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41A5-3BCF-4988-8590-F6C60BBE1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C190-EFC9-46C1-8307-C6E99030DC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415D-4E1A-4D0E-8AA3-50682B134F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6B3F-13BE-4D4E-BB70-21744E7F1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475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FDBA-4E29-4875-876D-78DEFE198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5A9F-3B1B-4661-ACCA-A9CFD027E3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CC8E-6BAC-4363-997E-370C0F6366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B394-1770-4EB0-BA26-37DB2721A1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3112-0603-40EA-A887-7BABF338C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85840"/>
            <a:ext cx="225720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8246-D21B-4FF7-9A04-2EBF81ABF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1054-8050-451A-AACA-2B278025F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7165-542C-4FC3-A6BA-EC3DA956D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3778-6C8F-41D5-8EBE-598F512F3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B2FD-29FB-441C-A4D2-110A25A74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540E-8E97-420A-B3BC-70A997B62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8584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1C7A-5908-473B-89D6-B7C17A8D8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85840"/>
            <a:ext cx="70102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D240-EF36-42FE-B9C5-276E076C8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956-8424-408C-B57A-06AB2EEB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6467-EE9B-4CC2-9865-0DE748B8E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2 - Other Topic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st_cas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interpret_cas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ame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perator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plicit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table Class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s to Class Members (.* and -&gt;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2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 Inheritance and virtual Bas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6F94-BF54-49DF-9B6D-F6820D55B5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3: fig22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namespa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 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td namespac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namespace Exampl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ample {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two constants and one variab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18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Valu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sted namespace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ner {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enumeration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xample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86000" y="228600"/>
            <a:ext cx="4114800" cy="1339560"/>
            <a:chOff x="2286000" y="228600"/>
            <a:chExt cx="4114800" cy="1339560"/>
          </a:xfrm>
        </p:grpSpPr>
        <p:sp>
          <p:nvSpPr>
            <p:cNvPr id="121" name=""/>
            <p:cNvSpPr/>
            <p:nvPr/>
          </p:nvSpPr>
          <p:spPr>
            <a:xfrm>
              <a:off x="3733920" y="228600"/>
              <a:ext cx="266688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 This includes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llowing us to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286000" y="399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33360" y="3505320"/>
            <a:ext cx="4115160" cy="857160"/>
            <a:chOff x="2133360" y="3505320"/>
            <a:chExt cx="4115160" cy="857160"/>
          </a:xfrm>
        </p:grpSpPr>
        <p:sp>
          <p:nvSpPr>
            <p:cNvPr id="124" name=""/>
            <p:cNvSpPr/>
            <p:nvPr/>
          </p:nvSpPr>
          <p:spPr>
            <a:xfrm>
              <a:off x="3581280" y="350532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nested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n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133360" y="367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1580760"/>
            <a:ext cx="4343400" cy="1692720"/>
            <a:chOff x="2133720" y="1580760"/>
            <a:chExt cx="4343400" cy="1692720"/>
          </a:xfrm>
        </p:grpSpPr>
        <p:sp>
          <p:nvSpPr>
            <p:cNvPr id="127" name=""/>
            <p:cNvSpPr/>
            <p:nvPr/>
          </p:nvSpPr>
          <p:spPr>
            <a:xfrm>
              <a:off x="3809880" y="1676520"/>
              <a:ext cx="266724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namespa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amp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it has a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ifferent from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5640" y="1847880"/>
              <a:ext cx="152388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8920" bIns="178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133720" y="1580760"/>
              <a:ext cx="16761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3880" bIns="83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285640" y="1847880"/>
              <a:ext cx="1523880" cy="14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2BDE-53C6-4028-9DC9-1C7AEFA0F1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65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unnamed namespac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InUnnam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8.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unnamed namespac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alue doubleInUnnamed of unnamed nam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InUnname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InUnnam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global) 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alues of Example nam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ample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SCAL3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ample::Inner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xample::printValu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rintValues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581280" y="50760"/>
            <a:ext cx="4114800" cy="1096200"/>
            <a:chOff x="3581280" y="50760"/>
            <a:chExt cx="4114800" cy="1096200"/>
          </a:xfrm>
        </p:grpSpPr>
        <p:sp>
          <p:nvSpPr>
            <p:cNvPr id="134" name=""/>
            <p:cNvSpPr/>
            <p:nvPr/>
          </p:nvSpPr>
          <p:spPr>
            <a:xfrm>
              <a:off x="5029200" y="5076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unnamed namespace. Its variables are glob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581280" y="222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F2F3-D470-4669-BD4F-A47E158A0C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variable and consta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ample::printValues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 printValues:\ninteger1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InUnname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InUnnam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global) integer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::integ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SCAL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ner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SCAL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B3CA-67FE-4643-B7D9-018881FF73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39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InUnnamed = 88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global) integer1 = 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 =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 = 2.718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1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SCAL3 =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 print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1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 =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 = 2.718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InUnnamed = 88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global) integer1 = 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SCAL3 =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CBB9-4E4D-477F-A909-A31134D29B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perator Keywor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instead of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keyboards with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 | 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50BA-FCDE-4885-BCF2-7B72179CA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perator Keywor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1371600"/>
          <a:ext cx="6032520" cy="42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03252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9638-4C55-43A3-A3B6-E119FDF490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5: fig22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keyword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o646.h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oolalph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a and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and b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a 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or b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not a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not a 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not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not_eq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bitand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bitand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bit_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bitor b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a xor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xor b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compl a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compl a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and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and_eq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a or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or_eq b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 xor_eq b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( a xor_eq b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809880" y="2800440"/>
            <a:ext cx="4114800" cy="857160"/>
            <a:chOff x="3809880" y="2800440"/>
            <a:chExt cx="4114800" cy="857160"/>
          </a:xfrm>
        </p:grpSpPr>
        <p:sp>
          <p:nvSpPr>
            <p:cNvPr id="148" name=""/>
            <p:cNvSpPr/>
            <p:nvPr/>
          </p:nvSpPr>
          <p:spPr>
            <a:xfrm>
              <a:off x="5257800" y="280044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operator keywor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8098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D4AD-C1EB-4EC7-A72C-4537576960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0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43000"/>
            <a:ext cx="7010280" cy="2755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nd b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or b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 a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not_eq b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itand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bit_or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xor b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 a: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and_eq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or_eq b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xor_eq b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54DE-B222-49C5-93F8-B808BA40DE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plicit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con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hapter 8, compiler may perform im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structor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have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( int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Class y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cal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 3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sing the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new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5820-F066-40B2-AE5A-4F67EA45C2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plicit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have desired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construc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pl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used in implicit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sh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with implicit con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sh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plic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3984-D9B7-44E7-A9B7-94F8959BBC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dditional C++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keyw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D50C-9F61-4D02-AFD9-D7097E504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6: arra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e class Array (for integers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/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61960" y="2076480"/>
            <a:ext cx="4115160" cy="1339560"/>
            <a:chOff x="2361960" y="2076480"/>
            <a:chExt cx="4115160" cy="1339560"/>
          </a:xfrm>
        </p:grpSpPr>
        <p:sp>
          <p:nvSpPr>
            <p:cNvPr id="160" name=""/>
            <p:cNvSpPr/>
            <p:nvPr/>
          </p:nvSpPr>
          <p:spPr>
            <a:xfrm>
              <a:off x="3809880" y="2076480"/>
              <a:ext cx="2667240" cy="133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o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plic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keyword, this constructor can be used for implicit convers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361960" y="2247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2E34-7F87-456B-817F-48DB16DF07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7: arra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arraySiz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onstructor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elements to zero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3DBD-88D3-489D-AE6B-1EF49C98A0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76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 insertion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Ref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arrayRef.ptr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DDF8-A067-4AA8-82BB-1268FF8F63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29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22.8: fig22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imple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integers1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15 to an Array and outp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0" y="2822400"/>
            <a:ext cx="4114800" cy="1582920"/>
            <a:chOff x="2286000" y="2822400"/>
            <a:chExt cx="4114800" cy="1582920"/>
          </a:xfrm>
        </p:grpSpPr>
        <p:sp>
          <p:nvSpPr>
            <p:cNvPr id="169" name=""/>
            <p:cNvSpPr/>
            <p:nvPr/>
          </p:nvSpPr>
          <p:spPr>
            <a:xfrm>
              <a:off x="3733920" y="2822400"/>
              <a:ext cx="2666880" cy="1582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as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works beca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mplicitly converted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 the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86000" y="2994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B9B8-7F04-4FAC-8712-B5134A1C32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81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rray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rece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rrayTo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23920"/>
            <a:ext cx="7010280" cy="1872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onstructor called for 7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receive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0 0 0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onstructor called for 15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receive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0 0 0 0 0 0 0 0 0 0 0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2EE9-05B8-4433-8B67-41F60CB8C9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9: arra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mple class Array (for integers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xplici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438280" y="2133720"/>
            <a:ext cx="4114800" cy="857160"/>
            <a:chOff x="2438280" y="2133720"/>
            <a:chExt cx="4114800" cy="857160"/>
          </a:xfrm>
        </p:grpSpPr>
        <p:sp>
          <p:nvSpPr>
            <p:cNvPr id="177" name=""/>
            <p:cNvSpPr/>
            <p:nvPr/>
          </p:nvSpPr>
          <p:spPr>
            <a:xfrm>
              <a:off x="3886200" y="213372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time, declare construc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plic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438280" y="2305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1808-F3F9-4010-874E-535D79D43B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10: arra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arraySiz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onstructor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elements to zero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F556-5601-4032-BC9B-8B55E9B1D0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766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sertion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Ref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arrayRef.ptr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A6E3-A615-4964-92CC-34598655DA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05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11: fig22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imple class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integers1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ERROR: construction not allowed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outputArray( 15 );  // convert 15 to an Array and output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Array( Arra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st use construc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438280" y="3098880"/>
            <a:ext cx="4114800" cy="857160"/>
            <a:chOff x="2438280" y="3098880"/>
            <a:chExt cx="4114800" cy="857160"/>
          </a:xfrm>
        </p:grpSpPr>
        <p:sp>
          <p:nvSpPr>
            <p:cNvPr id="186" name=""/>
            <p:cNvSpPr/>
            <p:nvPr/>
          </p:nvSpPr>
          <p:spPr>
            <a:xfrm>
              <a:off x="3886200" y="309888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all will cause an error when compi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438280" y="32702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6743-6C54-48CA-AF1E-38F8F35E0C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862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rray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Outpu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rece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rrayTo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74800"/>
            <a:ext cx="7010280" cy="227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4e\ch22\FIG22_09_10_11\Fig22_11.cpp(18) : error C2664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outputArray' : cannot convert parameter 1 from 'const int'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const class Array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son: cannot convert from 'const int' to 'const class Array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 constructor could take the source type, or constructor overload resolution was ambig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81AD-029B-4AED-B10A-8274652497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_cast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cast aw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rid of a variable'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es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cast &lt;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ew data typ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EAB3-0D2B-4C8C-911B-B5C354F543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table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modifiable, even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need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with no mutabl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_c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chance of accident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BF9B-2E3A-4D3C-BBFB-906DB6FF35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2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1.12: fig21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orage class specifier mut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estMutab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Mutab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Muta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value = v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value++; }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u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table member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estMu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Mutable te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valu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Val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modifyValu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difies mutable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odified valu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Valu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90560" y="1143000"/>
            <a:ext cx="4115160" cy="2133720"/>
            <a:chOff x="2590560" y="1143000"/>
            <a:chExt cx="4115160" cy="2133720"/>
          </a:xfrm>
        </p:grpSpPr>
        <p:sp>
          <p:nvSpPr>
            <p:cNvPr id="196" name=""/>
            <p:cNvSpPr/>
            <p:nvPr/>
          </p:nvSpPr>
          <p:spPr>
            <a:xfrm>
              <a:off x="4038480" y="1143000"/>
              <a:ext cx="266724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utable 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be modifi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590560" y="1676520"/>
              <a:ext cx="1447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590560" y="16765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09DE-6723-4FEC-9FEF-9D1875D253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1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20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38320"/>
            <a:ext cx="7010280" cy="7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value: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dified value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9238-7F31-4739-8470-B47624E63C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Class Members (.* and -&gt;*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access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he same as previously discussed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memPtr 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function pointer, to function that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( Test::*memPtr )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function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all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Ptr-&gt;*memPtr)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BB9E-96C6-4182-B005-5E6222774F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Class Members (.* and -&gt;*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ata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v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st::*v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ointer to objec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*tPtr).*v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0441-DAB1-4FC2-8955-3F929F8DFE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3 : fig22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s .* and -&gt;*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Tes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()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blic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owStar( Test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tStar( Test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 test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value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owStar( &amp;test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to arrow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tStar( &amp;test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to dot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E69A-8514-4E37-A575-FFEC88B234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member function of Test object using -&gt;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owStar( Test *te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function pointe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::*memPtr )() = &amp;Test::fun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function indirect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( testPtr-&gt;*memPtr )(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ow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members of Test object data member using .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tStar( Test *testPtr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::*vPtr = &amp;Test::valu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e poin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*testPtr2 ).*vPtr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tSt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1254240"/>
            <a:ext cx="4648320" cy="2069640"/>
            <a:chOff x="2895480" y="1254240"/>
            <a:chExt cx="4648320" cy="2069640"/>
          </a:xfrm>
        </p:grpSpPr>
        <p:sp>
          <p:nvSpPr>
            <p:cNvPr id="211" name=""/>
            <p:cNvSpPr/>
            <p:nvPr/>
          </p:nvSpPr>
          <p:spPr>
            <a:xfrm>
              <a:off x="4876920" y="1254240"/>
              <a:ext cx="2666880" cy="20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 function pointer to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neither side refers to a specif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xt,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429000" y="1425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895480" y="1425600"/>
              <a:ext cx="1981440" cy="14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0400" y="3409920"/>
            <a:ext cx="4114800" cy="1314360"/>
            <a:chOff x="3200400" y="3409920"/>
            <a:chExt cx="4114800" cy="1314360"/>
          </a:xfrm>
        </p:grpSpPr>
        <p:sp>
          <p:nvSpPr>
            <p:cNvPr id="215" name=""/>
            <p:cNvSpPr/>
            <p:nvPr/>
          </p:nvSpPr>
          <p:spPr>
            <a:xfrm>
              <a:off x="4648320" y="340992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pointer to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n, access th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20040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200400" y="358128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7472-5BAA-40A5-8DD0-D4B0D3BABE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7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9DCC-D310-424E-8BA0-5023F9C742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has several ba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can cause ambiguity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oth base classes have functions of the sam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specify exact function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Object.BaseClass1::func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public Base1, public Base2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AD6B-E086-4A7F-B5F2-E6C7C13A55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1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4: bas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Bas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1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Value ) { value = parameter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ible to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herited by derived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190760" y="1330200"/>
            <a:ext cx="4115160" cy="1826280"/>
            <a:chOff x="4190760" y="1330200"/>
            <a:chExt cx="4115160" cy="1826280"/>
          </a:xfrm>
        </p:grpSpPr>
        <p:sp>
          <p:nvSpPr>
            <p:cNvPr id="225" name=""/>
            <p:cNvSpPr/>
            <p:nvPr/>
          </p:nvSpPr>
          <p:spPr>
            <a:xfrm>
              <a:off x="5638680" y="1330200"/>
              <a:ext cx="2667240" cy="1826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re are two base classes in this example, each has its ow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base class contai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190760" y="1501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9B49F-EF17-4390-AC65-2EED34AE2F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: fig22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const_cast.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onstCastTes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nstCast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se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 ) { number = num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ge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523880" y="2971800"/>
            <a:ext cx="14479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743200" y="1981080"/>
            <a:ext cx="4114800" cy="857520"/>
            <a:chOff x="2743200" y="1981080"/>
            <a:chExt cx="4114800" cy="857520"/>
          </a:xfrm>
        </p:grpSpPr>
        <p:sp>
          <p:nvSpPr>
            <p:cNvPr id="97" name=""/>
            <p:cNvSpPr/>
            <p:nvPr/>
          </p:nvSpPr>
          <p:spPr>
            <a:xfrm>
              <a:off x="4191120" y="198108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cannot modify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743200" y="2152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B83A-C95D-4A36-9E00-7E57270D4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5: bas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Bas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2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Data ) { letter = characterData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ccessible to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tter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herited by derived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4EFC-28FA-4235-8B3E-FCE67445D26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rived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3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6: derived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Derived which inher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le base classes (Base1 and Base2)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operator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l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 class's privat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124080" y="2362320"/>
            <a:ext cx="4114800" cy="857160"/>
            <a:chOff x="3124080" y="2362320"/>
            <a:chExt cx="4114800" cy="857160"/>
          </a:xfrm>
        </p:grpSpPr>
        <p:sp>
          <p:nvSpPr>
            <p:cNvPr id="232" name=""/>
            <p:cNvSpPr/>
            <p:nvPr/>
          </p:nvSpPr>
          <p:spPr>
            <a:xfrm>
              <a:off x="4572000" y="2362320"/>
              <a:ext cx="26668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comma-separated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124080" y="2533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AA55-BB48-4B12-88AC-F1EEC0BE926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rived.cpp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67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7: derived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Derived calls constructors for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1 and class Base2.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member initializers to call base-class constructor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::Derive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Base1( integer ), Base2( character ), real( double1 ) { }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:getRe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l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all data members of Deri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operator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&amp;deriv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rea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ables cascaded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62160" y="380880"/>
            <a:ext cx="4115160" cy="1524240"/>
            <a:chOff x="3962160" y="380880"/>
            <a:chExt cx="4115160" cy="1524240"/>
          </a:xfrm>
        </p:grpSpPr>
        <p:sp>
          <p:nvSpPr>
            <p:cNvPr id="237" name=""/>
            <p:cNvSpPr/>
            <p:nvPr/>
          </p:nvSpPr>
          <p:spPr>
            <a:xfrm>
              <a:off x="5410080" y="380880"/>
              <a:ext cx="266724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base-class constructors in derived class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838080"/>
              <a:ext cx="14475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2977-ADAB-4569-B02A-AEE7CCD297F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18: fig22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multiple inheritance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 bas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*base1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ase1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 base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*base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Bas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 derive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Derived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a members of base-class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base1 contains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1.getData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 base2 contains charac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2.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 derived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A5E9-7EC4-44C5-8F6F-BB697FB928E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data members of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cope resolution operator resolves getData ambigu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members of Derived can b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ccessed individually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Base1::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ac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Base2::get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eal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erived.getReal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 can be treated as a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of either base clas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reat Derived as a Base1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1Ptr = &amp;derived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1Ptr-&gt;getData()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1Ptr-&gt;getData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treat Derived as a Bas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2Ptr = &amp;derived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2Ptr-&gt;getData()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base2Ptr-&gt;getData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676480" y="1447920"/>
            <a:ext cx="2667600" cy="1310040"/>
            <a:chOff x="5676480" y="1447920"/>
            <a:chExt cx="2667600" cy="1310040"/>
          </a:xfrm>
        </p:grpSpPr>
        <p:sp>
          <p:nvSpPr>
            <p:cNvPr id="244" name=""/>
            <p:cNvSpPr/>
            <p:nvPr/>
          </p:nvSpPr>
          <p:spPr>
            <a:xfrm>
              <a:off x="5676840" y="190512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s to specific base class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676480" y="1447920"/>
              <a:ext cx="1104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14800" y="3105000"/>
            <a:ext cx="3962520" cy="1314720"/>
            <a:chOff x="4114800" y="3105000"/>
            <a:chExt cx="3962520" cy="1314720"/>
          </a:xfrm>
        </p:grpSpPr>
        <p:sp>
          <p:nvSpPr>
            <p:cNvPr id="247" name=""/>
            <p:cNvSpPr/>
            <p:nvPr/>
          </p:nvSpPr>
          <p:spPr>
            <a:xfrm>
              <a:off x="5410080" y="310500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treat derived-class pointer as either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114800" y="3276720"/>
              <a:ext cx="1295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1680" bIns="12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114800" y="358128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2B4F-1238-4638-A3D8-A630AB9D242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614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base1 contains integer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base2 contains character 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derived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number: 3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members of Derived can be accessed individually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: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number: 3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can be treated as an object of either base cla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Ptr-&gt;getData() yield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Ptr-&gt;getData() yields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2AD0-C5CA-456E-8D58-1C3387BE6DF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0  Multiple Inheritance and virtual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ities from 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ld have duplicate sub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ed in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cas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is a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objects could exist, which is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biguous, results in syntax err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actually have thi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09480" y="1758960"/>
            <a:ext cx="5486400" cy="1670040"/>
            <a:chOff x="609480" y="1758960"/>
            <a:chExt cx="5486400" cy="1670040"/>
          </a:xfrm>
        </p:grpSpPr>
        <p:sp>
          <p:nvSpPr>
            <p:cNvPr id="255" name=""/>
            <p:cNvSpPr/>
            <p:nvPr/>
          </p:nvSpPr>
          <p:spPr>
            <a:xfrm>
              <a:off x="609480" y="2251080"/>
              <a:ext cx="548640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175896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1280" y="213984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76160" y="22161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560" y="27496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o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361600" y="19875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0400" y="19875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09680" y="24447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429000" y="24447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B7EA-5439-4B36-BF7F-27AB271BBB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10  Multiple Inheritance and virtual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use virtual base class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ne subobject inherited into multiply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295280" y="2286000"/>
            <a:ext cx="6324480" cy="3583440"/>
            <a:chOff x="1295280" y="2286000"/>
            <a:chExt cx="6324480" cy="3583440"/>
          </a:xfrm>
        </p:grpSpPr>
        <p:sp>
          <p:nvSpPr>
            <p:cNvPr id="267" name=""/>
            <p:cNvSpPr/>
            <p:nvPr/>
          </p:nvSpPr>
          <p:spPr>
            <a:xfrm>
              <a:off x="4724280" y="373356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ond Derived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295280" y="2286000"/>
              <a:ext cx="5943600" cy="3583440"/>
              <a:chOff x="1295280" y="2286000"/>
              <a:chExt cx="5943600" cy="3583440"/>
            </a:xfrm>
          </p:grpSpPr>
          <p:sp>
            <p:nvSpPr>
              <p:cNvPr id="269" name=""/>
              <p:cNvSpPr/>
              <p:nvPr/>
            </p:nvSpPr>
            <p:spPr>
              <a:xfrm>
                <a:off x="3581280" y="228600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76160" y="3733560"/>
                <a:ext cx="243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rst Derived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1440" y="5470560"/>
                <a:ext cx="281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ultiply-Derived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295280" y="2666880"/>
                <a:ext cx="1447560" cy="703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inherit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38680" y="2666880"/>
                <a:ext cx="1600200" cy="6426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inheritan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2819160" y="2819160"/>
                <a:ext cx="83808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495680" y="2819160"/>
                <a:ext cx="76176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4572000"/>
                <a:ext cx="7621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028480" y="4343400"/>
                <a:ext cx="83844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42840" y="304776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181480" y="2971800"/>
                <a:ext cx="38088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2866-683D-47B7-81B8-453C18EC1C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20: fig22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polymorphically call a function that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ly inherited from two base class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On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On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71600" y="1295280"/>
            <a:ext cx="4114800" cy="1096200"/>
            <a:chOff x="1371600" y="1295280"/>
            <a:chExt cx="4114800" cy="1096200"/>
          </a:xfrm>
        </p:grpSpPr>
        <p:sp>
          <p:nvSpPr>
            <p:cNvPr id="283" name=""/>
            <p:cNvSpPr/>
            <p:nvPr/>
          </p:nvSpPr>
          <p:spPr>
            <a:xfrm>
              <a:off x="2819520" y="129528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example will demonstrate the ambiguity of multiple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371600" y="1467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B810-407C-4F5E-9998-8C80C6BAECC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272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Two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Two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Multip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p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qualify which version of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DerivedTwo::print()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Multi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ABA6-AD93-4CFD-B7D5-C3A9A6F54BB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05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CastTest::pri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Number after modification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t away const-ness to allow modification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onstCastTest * &g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-&gt;number--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CastTest tes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nstCastTest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setNumb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private data number to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value of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.get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.printNumb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100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value of number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after modification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14800" y="568440"/>
            <a:ext cx="4114800" cy="1096200"/>
            <a:chOff x="4114800" y="568440"/>
            <a:chExt cx="4114800" cy="1096200"/>
          </a:xfrm>
        </p:grpSpPr>
        <p:sp>
          <p:nvSpPr>
            <p:cNvPr id="103" name=""/>
            <p:cNvSpPr/>
            <p:nvPr/>
          </p:nvSpPr>
          <p:spPr>
            <a:xfrm>
              <a:off x="5562720" y="56844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t away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nes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. This allows the data to be modifi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114800" y="739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3452-C5AC-470E-ADC4-5A82B2245C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71024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ultiple bo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stantiate Multip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One on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On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Two two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Tw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rray of base-class poin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 *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array[ 0 ] = &amp;both;   // ERROR--ambiguous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tw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cally invoke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[ i ] -&gt;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14600" y="1371600"/>
            <a:ext cx="4114800" cy="857160"/>
            <a:chOff x="2514600" y="1371600"/>
            <a:chExt cx="4114800" cy="857160"/>
          </a:xfrm>
        </p:grpSpPr>
        <p:sp>
          <p:nvSpPr>
            <p:cNvPr id="290" name=""/>
            <p:cNvSpPr/>
            <p:nvPr/>
          </p:nvSpPr>
          <p:spPr>
            <a:xfrm>
              <a:off x="3962520" y="1371600"/>
              <a:ext cx="266688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ich base subobject will be us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514600" y="1542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B525-CD91-45C5-AA52-F6197DD9115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8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4e\ch22\fig22_20_21\fig22_20.cpp(52) : error C2594: '='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mbiguous conversions from 'class Multiple *' to 'class Base *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xecuting cl.ex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exe - 1 error(s), 0 warning(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02CB-26C1-43F8-8C47-8BE76D5C214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62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22.21: fig22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virtual base class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Bas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Bas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On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default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On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rivedOn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352680" y="3276720"/>
            <a:ext cx="4114800" cy="2069640"/>
            <a:chOff x="3352680" y="3276720"/>
            <a:chExt cx="4114800" cy="2069640"/>
          </a:xfrm>
        </p:grpSpPr>
        <p:sp>
          <p:nvSpPr>
            <p:cNvPr id="297" name=""/>
            <p:cNvSpPr/>
            <p:nvPr/>
          </p:nvSpPr>
          <p:spPr>
            <a:xfrm>
              <a:off x="4800600" y="3276720"/>
              <a:ext cx="2666880" cy="206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virtual inheritance to solve the ambiguity proble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mpiler generates default constructors, which greatly simplifies the hierarch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352680" y="344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86200" y="3448080"/>
              <a:ext cx="91440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DAE3-E139-47BD-800F-3474BF6B626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586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erivedTwo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default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verride print function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Two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rivedTwo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Multipl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p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On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Two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 default constructor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rivedOne and DerivedTwo default construc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qualify which version of function print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DerivedTwo::print(); 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ultipl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352320" y="837720"/>
            <a:ext cx="3810600" cy="1158120"/>
            <a:chOff x="3352320" y="837720"/>
            <a:chExt cx="3810600" cy="1158120"/>
          </a:xfrm>
        </p:grpSpPr>
        <p:sp>
          <p:nvSpPr>
            <p:cNvPr id="303" name=""/>
            <p:cNvSpPr/>
            <p:nvPr/>
          </p:nvSpPr>
          <p:spPr>
            <a:xfrm>
              <a:off x="4495680" y="1143000"/>
              <a:ext cx="2667240" cy="85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ance, as bef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3352320" y="837720"/>
              <a:ext cx="11430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35D8-14D8-4EBE-834F-B394C8FBAF7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483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ultiple both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Multip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One on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On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rivedTwo two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DerivedTw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array of base-class pointers and initial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ach element to a derived-class 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 *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both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on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tw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cally invoke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rray[ i ]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5164-2876-4276-9232-CD1FC0F3A7E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85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8559-C2E7-45A6-AC8A-1C81652F60D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interpret_cast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interpret_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nonstandard casts (i.e., one pointer to anoth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for standard casts (i.e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4721-C18C-4BB8-9504-56877636C6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2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91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2.2: fig22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operator reinterpret_ca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&amp;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reinterpret_cast to cast from int * to char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ptr 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9112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1080" y="1523880"/>
            <a:ext cx="4114800" cy="1524240"/>
            <a:chOff x="1981080" y="1523880"/>
            <a:chExt cx="4114800" cy="1524240"/>
          </a:xfrm>
        </p:grpSpPr>
        <p:sp>
          <p:nvSpPr>
            <p:cNvPr id="111" name=""/>
            <p:cNvSpPr/>
            <p:nvPr/>
          </p:nvSpPr>
          <p:spPr>
            <a:xfrm>
              <a:off x="3429000" y="1523880"/>
              <a:ext cx="2666880" cy="1096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Cast i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printing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ASCII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x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981080" y="1695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361960" y="1695600"/>
              <a:ext cx="1066680" cy="13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3CA2-D634-4B01-822A-489001B147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amesp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has identifiers in different 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times scopes overlap, lead to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defines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identifiers and variables within name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with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guaranteed to b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space 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named namespaces are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 qua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paces can be nes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072F-D9B1-4447-93D0-6A14C03C08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2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amespac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 namespace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that namespace can be used without preceding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space_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used with individual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uraged by some programmers, because includes entire conten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namespace std::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ri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6199-1A81-4D3E-A422-56197034DC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28:09Z</dcterms:created>
  <dc:creator>kalid</dc:creator>
  <dc:description/>
  <dc:language>en-US</dc:language>
  <cp:lastModifiedBy>Pearson Education</cp:lastModifiedBy>
  <dcterms:modified xsi:type="dcterms:W3CDTF">2002-09-03T14:50:27Z</dcterms:modified>
  <cp:revision>294</cp:revision>
  <dc:subject/>
  <dc:title>PowerPoint Presentation</dc:title>
</cp:coreProperties>
</file>