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5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E4AB0-985C-4A5F-87E4-376340F5F7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6D468-109A-47DF-A90D-D2F7D487E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C58B-A6EF-42F4-8A88-63C1A245F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C836-731E-4B8A-B559-A8C67B13A1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F08C9-7FB1-4113-90E6-0A457A9791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F6869-34CA-42EA-876A-4725CB9EA6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BE8F7-FD28-4CA4-9FFF-2CD59CD5A9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46582-3868-43C5-B432-17230980AF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BFEA1-3593-4610-81C4-2DB73B546E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0F478-7116-47A3-AFFF-6FD90682E3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E42C9-A6EB-43E1-A573-757DE28B10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BC777-8EF8-4A10-9177-FE0E414D0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255CA-DB57-4699-9157-1999D8D19E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3C38F-4BDE-4F93-8EE2-64B21DE5CC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09AF7-9410-465B-9AA2-4C31964E92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9B450-5B01-4A76-8A34-6A662A30D1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C4DF2-E386-450F-87C7-60EF127DAE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031BB-C606-4C05-8BA6-78C578740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E513E-0EED-4A17-8570-138947665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2FCA-CA3E-4238-8663-2A8AA7E25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93909-D5A0-4DE7-8DCF-069DE0A04E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A469-1AD7-4BFF-9FD6-4214BFD30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0804A-A9D5-4AB2-8839-3747DF266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430D3-6677-4D65-876A-77EDB48D93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B99D-5B27-4980-936E-AC2DB5DE8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0382-E398-43EF-A834-13317284E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1 - Standard Template Library (STL)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353960"/>
            <a:ext cx="77724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1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troduction to the Standard Template Library (ST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1.1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troduction to Contai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1.2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troduction to Iter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1.3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troduction to Algorit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2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equence Contai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2.1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vector Sequence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2.2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list Sequence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2.3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deque Sequence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3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Associative Contai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3.1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multiset Associative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3.2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et Associative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3.3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multimap Associative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3.4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map Associative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4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Container Adap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4.1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tack 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4.2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queue 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4.3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priority_queue 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B8CBD-9309-4535-BC80-DC6F30982D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724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5: fig21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input and output with iterato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terator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stream_iterator and istream_it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two integer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istream_iterator for reading int values from c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i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putInt( cin );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1 = *inputIn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int from standard in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+inputInt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ve iterator to next input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2 = *inputIn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int from standard in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600200" y="1752480"/>
            <a:ext cx="4114800" cy="1752840"/>
            <a:chOff x="1600200" y="1752480"/>
            <a:chExt cx="4114800" cy="1752840"/>
          </a:xfrm>
        </p:grpSpPr>
        <p:sp>
          <p:nvSpPr>
            <p:cNvPr id="108" name=""/>
            <p:cNvSpPr/>
            <p:nvPr/>
          </p:nvSpPr>
          <p:spPr>
            <a:xfrm>
              <a:off x="3048120" y="175248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crea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stream_iter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For compilation reasons, we 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d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ather than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s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600200" y="2819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048120" y="2914560"/>
            <a:ext cx="5715000" cy="971640"/>
            <a:chOff x="3048120" y="2914560"/>
            <a:chExt cx="5715000" cy="971640"/>
          </a:xfrm>
        </p:grpSpPr>
        <p:sp>
          <p:nvSpPr>
            <p:cNvPr id="111" name=""/>
            <p:cNvSpPr/>
            <p:nvPr/>
          </p:nvSpPr>
          <p:spPr>
            <a:xfrm>
              <a:off x="6095880" y="291456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ccess and assign the iterator like a 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048120" y="3076560"/>
              <a:ext cx="3047760" cy="8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52EE6-2713-4755-BD6C-1B56372D5F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5 Mathematical Algorith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ccumulate(iter1, iter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sum of elements in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_each(iter1, iter2, func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every element in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modify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ansform(iter1, iter2, iter3, functi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all elements in rang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1-iter2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result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1D457-CD29-4121-BF3F-7741D74EA98D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30: fig21_3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thematical algorithms of the standard librar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gorithm definitions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umeric&gt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umulate is defined he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ater9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lculateCub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1[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Vector v before random_shuffl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.begin(), v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611CA-E21A-4711-8E21-FA928559206A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uffle elements of v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random_shuffle( v.begin(), v.en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v after random_shuffl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.begin(), v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2[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int &gt; v2( a2, a2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v2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2.begin(), v2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unt number of elements in v2 with value 8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 = std::count( v2.begin(), v2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Number of elements matching 8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resu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unt number of elements in v2 that are greater than 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std::count_if( v2.begin(), v2.end(), greater9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Number of elements greater than 9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resu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FDB57-2F43-4388-AE19-A68E34BA53A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cate minimum element in v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Minimum element in Vector v2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*( std::min_element( v2.begin(), v2.end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cate maximum element in v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Maximum element in Vector v2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*( std::max_element( v2.begin(), v2.end()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sum of elements in 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total of the elements in Vector v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d::accumulate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square of every integer in Vector v i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square of every element in v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for_each( v.begin(), v.end(), outputSquar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cube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cube of each element in v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lace results in cubes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transform(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.begin(), v.end(), cubes.begin(), calculateCub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138AC-7F05-4C88-8CAC-84C96F9DC894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cube of every integer in Vector v i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cubes.begin(), cube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argument is greater than 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ater9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reater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square of arg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value * 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utputSqua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5E1F4-6419-4F23-A17F-C2F0C3386B52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5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ube of argu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lculateCub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* value * valu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calculateCub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1523880"/>
            <a:ext cx="7010280" cy="4038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 before random_shuffle: 1 2 3 4 5 6 7 8 9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 after random_shuffle: 5 4 1 3 7 8 9 10 6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2 contains: 100 2 8 1 50 3 8 8 9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of elements matching 8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of elements greater than 9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um element in Vector v2 is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um element in Vector v2 is: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total of the elements in Vector v is: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quare of every integer in Vector v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5 16 1 9 49 64 81 100 36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cube of every integer in Vector v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5 64 1 27 343 512 729 1000 216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3BDBE-6510-450F-8B5D-561EF6FB6A6C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6 Basic Searching and Sorting Algorith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nd(iter1, iter2, val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iterator to first instanc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in rang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nd_if(iter1, iter2, function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iterator whe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ort(iter1, iter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rts elements in ascending 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inary_search(iter1, iter2, val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arches ascending sorted list for valu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binary sear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CBC3B-7DF1-4350-A544-20947C13A29F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31: fig21_3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search and sort algorithm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gorithm defin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ector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ater10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ctor v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.begin(), v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cate first occurrence of 16 in v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::iterator location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cation = std::find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E7052-00FA-49D3-B17D-9FB7389CB600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ocation != v.end(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Found 16 at location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( location - v.begi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16 not fou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cate first occurrence of 100 in v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cation = std::find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ocation != v.end(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Found 100 at location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( location - v.begi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100 not fou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cate first occurrence of value greater than 10 in v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cation = std::find_if( v.begin(), v.end(), greater10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ocation != v.end(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first value greater than 10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*location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found at location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( location - v.begi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No values greater than 10 were fou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460CA-43BF-47A2-BEA4-5314B467D9EC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elements of 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sort( v.begin(), v.en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v after sor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.begin(), v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binary_search to locate 13 in 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td::binary_search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13 was found in 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13 was not found in 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binary_search to locate 100 in 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td::binary_search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100 was found in 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100 was not found in 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0C93C-4165-4EEA-9072-40C4B42112E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ostream_iterator for writing int values to co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Int( cout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um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outputInt = number1 + number2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result to co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438280"/>
            <a:ext cx="7010280" cy="609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wo integers: 12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m is: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361960" y="1294920"/>
            <a:ext cx="3276720" cy="2592000"/>
            <a:chOff x="2361960" y="1294920"/>
            <a:chExt cx="3276720" cy="2592000"/>
          </a:xfrm>
        </p:grpSpPr>
        <p:sp>
          <p:nvSpPr>
            <p:cNvPr id="117" name=""/>
            <p:cNvSpPr/>
            <p:nvPr/>
          </p:nvSpPr>
          <p:spPr>
            <a:xfrm>
              <a:off x="2971800" y="28195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stream_iter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similar. Assigning to this iterator output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2361960" y="1294920"/>
              <a:ext cx="6094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B7AFA-F800-40BD-9258-2F05801369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523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argument is greater than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ater10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reater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1523880"/>
            <a:ext cx="7010280" cy="2895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 contains: 10 2 17 5 16 8 13 11 20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16 at loc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first value greater than 10 is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at loc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 after sort: 2 5 7 8 10 11 13 16 17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3 was found in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was not found in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8EEDE-BD3D-4E09-A933-D08F7101B8BA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7 swap, iter_swap and swap_ran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ap(element1, element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hanges two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ap( a[ 0 ], a[ 1 ]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ter_swap(iter1, iter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hanges the values to which the iterators re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ap_ranges(iter1, iter2, iter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 the element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1-iter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elements beginning 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92341-7DF9-4C96-9EAB-AC7D82D31C78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32: fig21_3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algorithms iter_swap, swap and swap_rang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gorithm defin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 a contains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wap elements at locations 0 and 1 of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swap(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Array a after swapping a[0] and a[1]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ing swap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0216C-6A9A-44B5-9576-1A08389458B6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iterators to swap elements at loc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and 1 of array a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iter_swap( &amp;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&amp;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rray a after swapping a[0] and a[1]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ing iter_swap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wap elements in first five elements of array a wi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lements in last five elements of array a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swap_ranges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rray a after swapping the first five elements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th the last five elements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461BF-37DA-4761-ADDD-4350DBC7161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a contain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 6 7 8 9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a after swapping a[0] and a[1] using swap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1 3 4 5 6 7 8 9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a after swapping a[0] and a[1] using iter_swap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 6 7 8 9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a after swapping the first five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 the last five element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7 8 9 10 1 2 3 4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09859-090B-4C54-98C3-0986800B12A1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8 copy_backward, merge, unique and revers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py_backward(iter1, iter2, iter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elements fro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1-ite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n reverse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erge(iter1, iter2, iter3, iter4, iter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g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1-ite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3-iter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be sorted in ascending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pies both lists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n ascending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nique(iter1, iter2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duplicate elements from a sorted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iterator to new end of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(iter1, iter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erses element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1-ite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7CB49-BF9F-4FEC-A0F1-9DBFAFE28A98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33: fig21_3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functions copy_backward, merg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nique and revers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gorithm defin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ector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2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1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2( a2, a2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ctor v1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1.begin(), v1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v2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2.begin(), v2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A529A-3387-4684-AFA4-C0FF89995E38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results( v1.siz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lace elements of v1 into results in reverse order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_backward( v1.begin(), v1.end(), results.en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copy_backward, result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results.begin(), result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results2( v1.size() + v2.size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rge elements of v1 and v2 into results2 in sorted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merge( v1.begin(), v1.end(), v2.begin(), v2.end(),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sults2.begin() );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merge of v1 and v2 results2 contain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results2.begin(), results2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liminate duplicate values from results2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::iterator endLocation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ndLocation =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d::unique( results2.begin(), results2.en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unique results2 contain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results2.begin(), endLocation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5E51A-5024-45D1-919D-7ED4AB2A64F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819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v1 after revers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verse elements of v1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reverse( v1.begin(), v1.en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1.begin(), v1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2819520"/>
            <a:ext cx="7010280" cy="289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1 contains: 1 3 5 7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2 contains: 2 4 5 7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copy_backward, results contains: 1 3 5 7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merge of v1 and v2 results2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 5 7 7 9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unique results2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 7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1 after reverse: 9 7 5 3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66244-F93D-4C4E-92D6-97DF97C93B5A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9 inplace_merge, unique_copy and reverse_cop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place_merge(iter1, iter2, iter3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ges two sorted sequences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1-ite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2-iter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nside the same cont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nique_copy(iter1, iter2, iter3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all unique elements in sorted array (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1-ite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_copy(iter1, iter2, iter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erses elements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1-ite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pies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C8F4A-38F7-4C6D-961E-3FE6526913A6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terator Categories (Fig. 21.6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 elements from container, can only move forw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 elements to container, only forw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bines input and output, retains pos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-pass (can pass through sequence twi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direc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forward, but can move backwards as w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bidirectional, but can also jump to any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F6165-BA68-4480-90FD-0817F9EA79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34: fig21_3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algorithms inplace_merg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verse_copy and unique_cop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gorithm defin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ector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terator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ck_inserter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1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ctor v1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1.begin(), v1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rge first half of v1 with second half of v1 such th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1 contains sorted set of elements after merge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inplace_merge( v1.begin(), v1.begin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v1.en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DEA5E-A531-455B-89BF-C268C354154B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inplace_merge, v1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1.begin(), v1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results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only unique elements of v1 into results1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unique_copy(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1.begin(), v1.end(), std::back_inserter( results1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unique_copy results1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results1.begin(), results1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results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reverse_copy, results2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elements of v1 into results2 in reverse order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reverse_copy(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1.begin(), v1.end(), std::back_inserter( results2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results2.begin(), results2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8AFE3-A2AA-4B65-9653-029521A648C4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1 contains: 1 3 5 7 9 1 3 5 7 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inplace_merge, v1 contains: 1 1 3 3 5 5 7 7 9 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unique_copy results1 contains: 1 3 5 7 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reverse_copy, results2 contains: 9 9 7 7 5 5 3 3 1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5477F-9292-4C43-9D77-F38165398A0C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10 Set Oper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cludes(iter1, iter2, iter3, iter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1-ite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3-iter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ranges must be s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:  1 2 3 4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2:  1 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 includes 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_difference(iter1, iter2, iter3, iter4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ter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elements in first set (1-2) that are not in second set (3-4) in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_intersection(iter1, iter2, iter3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ter4, iter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common elements from the two sets (1-2, 3-4)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C7819-47D0-48FE-80B6-D48F083D8098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10 Set Oper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_symmetric_difference(iter1, iter2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ter3, iter4, iter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elements in set (1-2) but not set (3-4), and vice versa,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1: 1 2 3 4 5 6 7 8 9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2: 4 5 6 7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t_symmetric_difference: 1 2 3 9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sets must be s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_union( iter1, iter2, iter3, iter4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ter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elements in either or both set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sets must be s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B81D4-5D39-4CC8-89CC-48B348461912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35: fig21_3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algorithms includes, set_differenc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_intersection, set_symmetric_difference and set_un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gorithm defin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2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3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1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2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a2, a2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3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a3, a3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1C74B-E999-4B48-9F00-32A6837AF234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set a2 is completely contained in a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td::includes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2, a2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1 includes a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a1 does not include a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set a3 is completely contained in a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td::includes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3, a3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1 includes a3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1 does not include a3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fferenc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elements of a1 not in a2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 = std::set_difference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2, a2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ifference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et_difference of a1 and a2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difference, ptr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section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elements in both a1 and a2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 = std::set_intersection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2, a2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intersection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AA680-4FFE-469C-BE86-6A3EE9750149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et_intersection of a1 and a2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intersection, ptr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ymmetric_differenc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elements of a1 that are not in a2 and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lements of a2 that are not in a1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 = std::set_symmetric_difference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2, a2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ymmetric_difference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et_symmetric_difference of a1 and a2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symmetric_difference, ptr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nionSe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elements that are in either or both se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 = std::set_union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3, a3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unionSet );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et_union of a1 and a3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unionSet, ptr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FA10C-2F52-4BD3-9EDF-7C1F0C0FD69A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352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1 contains: 1 2 3 4 5 6 7 8 9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2 contains: 4 5 6 7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3 contains: 4 5 6 11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1 includes a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1 does not include a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t_difference of a1 and a2 is: 1 2 3 9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t_intersection of a1 and a2 is: 4 5 6 7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t_symmetric_difference of a1 and a2 is: 1 2 3 9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t_union of a1 and a3 is: 1 2 3 4 5 6 7 8 9 10 11 15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D9328-32CD-4AF1-A4E3-BF432B6776AC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11 lower_bound, upper_bound and equal_rang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wer_bound(iter1, iter2, valu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orted elements, returns iterator to the first location whe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ld be inserted and elements remain s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pper_bound(iter1, iter2, val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wer_bou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returns iterator to last element whe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be 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qual_range(iter1, iter2, val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iterators,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wer_bou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pper_b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 them to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i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9DB76-6267-4175-BC4D-003C0AFA0C01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terator Types Supported (Fig. 21.8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ce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random 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random 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bidirect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ive containers (all bidirec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ulti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ultim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 adapters (no iterators suppor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ority_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D507D-705B-47C9-990C-FCA92C321E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36: fig21_3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functions lower_bound, upper_bound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qual_range for a sorted sequence of valu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gorithm defin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ector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1[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ctor v contain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.begin(), v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lower-bound insertion point for 6 in 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::iterator lower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wer = std::lower_bound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71866-AB4A-4FBF-B162-50695BD86D3F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Lower bound of 6 is eleme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lower - v.begin()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 vector 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upper-bound insertion point for 6 in 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::iterator upper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pper = std::upper_bound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Upper bound of 6 is eleme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upper - v.begin()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 vector 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equal_range to determine both the lower-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per-bound insertion points for 6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pair&lt;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::iterator,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::iterator &gt; eq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q = std::equal_range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Using equal_range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Lower bound of 6 is elemen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eq.first - v.begin()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 vector 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Upper bound of 6 is elemen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eq.second - v.begin()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 vector 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Use lower_bound to locate the first point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t which 5 can be inserted in ord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46D61-47DC-438B-8A52-4A7CE02DD183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lower-bound insertion point for 5 in 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wer = std::lower_bound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Lower bound of 5 is eleme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lower - v.begin()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 vector 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Use upper_bound to locate the last point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t which 7 can be inserted in ord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upper-bound insertion point for 7 in 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pper = std::upper_bound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   Upper bound of 7 is element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upper - v.begin()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 vector 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Use equal_range to locate the first and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 point at which 5 can be inserted in ord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equal_range to determine both the lower-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per-bound insertion points for 5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q = std::equal_range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Lower bound of 5 is elemen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eq.first - v.begin()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 vector 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   Upper bound of 5 is elemen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eq.second - v.begin()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 vector v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A5571-FA4B-4508-A302-7A86CFD51444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1066680"/>
            <a:ext cx="7010280" cy="487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2 4 4 4 6 6 6 6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r bound of 6 is element 5 of vector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pper bound of 6 is element 9 of vector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equal_ran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r bound of 6 is element 5 of vector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pper bound of 6 is element 9 of vector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 lower_bound to locate the first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 which 5 can be inserted in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r bound of 5 is element 5 of vector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 upper_bound to locate the last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 which 7 can be inserted in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pper bound of 7 is element 9 of vector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 equal_range to locate the firs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 point at which 5 can be inserted in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r bound of 5 is element 5 of vector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pper bound of 5 is element 5 of vector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7B1C1-9A31-4851-816F-BC2907EB6D84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12 Heapsor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sort - sorting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p binary tr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rgest element at top of he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ildren always less than parent n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ke_heap(iter1, iter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heap in the range of the it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random access iterator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rrays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e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ort_heap(iter1, iter2)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s a heap sequence fro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5D570-BD96-42BF-895A-E37A0303DF9C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12 Heapsor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sh_heap(iter1, iter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terators must specify a h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last element in object to h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s other elements already in heap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p_heap(iter1, iter2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the top element of a heap and puts it at the end of the container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checks that all other elements still in a h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ge of the iterators must be a hea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ll the elements popped, sorted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AFBFF-9825-446C-AB3C-86C998F177B9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37: fig21_3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algorithms push_heap, pop_heap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ke_heap and sort_hea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v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ctor v before make_heap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.begin(), v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heap from vector v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make_heap( v.begin(), v.en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v after make_heap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.begin(), v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3429000" y="4191120"/>
            <a:ext cx="4114800" cy="838080"/>
            <a:chOff x="3429000" y="4191120"/>
            <a:chExt cx="4114800" cy="838080"/>
          </a:xfrm>
        </p:grpSpPr>
        <p:sp>
          <p:nvSpPr>
            <p:cNvPr id="513" name=""/>
            <p:cNvSpPr/>
            <p:nvPr/>
          </p:nvSpPr>
          <p:spPr>
            <a:xfrm>
              <a:off x="4876920" y="41911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new heap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3429000" y="4343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2F7CC-215E-4FBC-8D0C-2A48789856E6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elements of v with sort_hea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sort_heap( v.begin(), v.en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v after sort_heap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.begin(), v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erform the heapsort with push_heap and pop_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rray a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lace elements of array a into v2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intain elements of v2 in 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++i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2.push_back( a[ i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d::push_heap( v2.begin(), v2.end()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2 after push_heap(a[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]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d::copy( v2.begin(), v2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3124080" y="2971800"/>
            <a:ext cx="4114800" cy="838080"/>
            <a:chOff x="3124080" y="2971800"/>
            <a:chExt cx="4114800" cy="838080"/>
          </a:xfrm>
        </p:grpSpPr>
        <p:sp>
          <p:nvSpPr>
            <p:cNvPr id="518" name=""/>
            <p:cNvSpPr/>
            <p:nvPr/>
          </p:nvSpPr>
          <p:spPr>
            <a:xfrm>
              <a:off x="4572000" y="29718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dd elements one at a ti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3124080" y="3124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D3F9F-41A9-407A-97B6-269970FA7C14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elements from heap in sorted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v2.size(); ++j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2 afte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v2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opped from heap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d::pop_heap( v2.begin(), v2.end() - j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d::copy( v2.begin(), v2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D3593-73C2-4594-A1E2-61DF161E338E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 before make_heap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100 52 77 22 31 1 98 13 4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 after make_heap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98 52 77 40 31 1 3 13 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 after sort_heap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3 13 22 31 40 52 77 98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a contains: 3 100 52 77 22 31 1 98 13 4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push_heap(a[0]):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push_heap(a[1]): 100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push_heap(a[2]): 100 3 5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push_heap(a[3]): 100 77 52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push_heap(a[4]): 100 77 52 3 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push_heap(a[5]): 100 77 52 3 22 3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push_heap(a[6]): 100 77 52 3 22 31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push_heap(a[7]): 100 98 52 77 22 31 1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push_heap(a[8]): 100 98 52 77 22 31 1 3 1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push_heap(a[9]): 100 98 52 77 40 31 1 3 13 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F7769-9171-40F1-B0B6-7ABAB0C11DDB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terator Operations (Fig. 21.10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+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it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= p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== p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!= p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it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= p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 it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functionality of input and output it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E30BD-54BC-47FD-A5AB-7E78608F8B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100 popped from 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8 77 52 22 40 31 1 3 13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98 popped from 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7 40 52 22 13 31 1 3 98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77 popped from 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 40 31 22 13 3 1 77 98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52 popped from 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 22 31 1 13 3 52 77 98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40 popped from 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1 22 3 1 13 40 52 77 98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31 popped from 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 13 3 1 31 40 52 77 98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22 popped from 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3 1 3 22 31 40 52 77 98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13 popped from 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1 13 22 31 40 52 77 98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3 popped from 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3 13 22 31 40 52 77 98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2 after 1 popped from he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3 13 22 31 40 52 77 98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D1381-A16C-4E9E-8590-F0491F33BC24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13 min and max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in(value1, value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smaller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x(value1, value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larger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8F8C1-24DB-4775-9CF4-0D26D002CB11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38: fig21_3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algorithms min and max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minimum of 12 and 7 is: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d::mi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maximum of 12 and 7 is: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d::ma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The minimum of 'G' and 'Z' is: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d::mi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G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Z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maximum of 'G' and 'Z' is: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d::ma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G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Z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&lt;&lt; endl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94A9C-98B5-48CE-BA11-774D2B0108DE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3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21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inimum of 12 and 7 is: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aximum of 12 and 7 is: 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inimum of 'G' and 'Z' is: 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aximum of 'G' and 'Z' is: 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48F2D-8A53-4FBE-B231-E05880424498}" type="slidenum">
              <a:t>1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14 Algorithms Not Covered in This Chap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jacent_dif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ner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rtial_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th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rt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ble_part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xt_permu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ev_permu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o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otate_co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jacent_f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rtial_s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rtial_sort_co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ble_s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A7531-E137-4583-B832-A5095AAF5F20}" type="slidenum">
              <a:t>1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ass bits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it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s a set of bit 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manipulate bit 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tset &lt;size&gt; b;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bit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set( bitNumber)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bit bitNumber to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set()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bits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reset(bitNumber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bit bitNumber to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rese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bits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flip(bitNumber)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ip bit (on to off, off to 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flip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ip all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[bitNumber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s reference to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at(bitNumber)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nge checking, returns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9ACEB-F27E-4B03-B99D-5A175C4B43A4}" type="slidenum">
              <a:t>1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ass bits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test(bitNumber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 range checking; if bit on, retur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size(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ze of bit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coun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bits set to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any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e if any bits are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none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e if no bits are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n use &amp;=, |=, !=, &lt;&lt;=, &gt;&gt;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&amp;= 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cal AND betwe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result i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to_string()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 to 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to_ulong()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 to 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7C7F9-20AE-4ED7-8B96-47EE1AC51DCA}" type="slidenum">
              <a:t>1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4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40: fig21_40.cpp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 bitset to demonstrate the Sieve of Eratosthen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bitset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itse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math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qrt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bitset&lt; size &gt; siev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ieve.flip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A3E0D-59B5-46C4-B0A6-FEDBBBE38C99}" type="slidenum">
              <a:t>1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4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erform Sieve of Eratosthen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nalBit = sqrt( sieve.size()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finalBit; ++i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ieve.test( i 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i; j &lt; size; j += i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ieve.reset( j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prime numbers in the range 2 to 1023 are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prime numbers in range 2-102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ount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 &lt; size; ++k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ieve.test( k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++counte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er if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3962160" y="298440"/>
            <a:ext cx="4115160" cy="1067400"/>
            <a:chOff x="3962160" y="298440"/>
            <a:chExt cx="4115160" cy="1067400"/>
          </a:xfrm>
        </p:grpSpPr>
        <p:sp>
          <p:nvSpPr>
            <p:cNvPr id="543" name=""/>
            <p:cNvSpPr/>
            <p:nvPr/>
          </p:nvSpPr>
          <p:spPr>
            <a:xfrm>
              <a:off x="5410080" y="29844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eve of Eratosthenes: turn off bits for all multiples of a number. What bits remain are pri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3962160" y="450720"/>
              <a:ext cx="144756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2ED76-7E0D-4376-8BDE-E95ECAF24FDD}" type="slidenum">
              <a:t>1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4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value from user to determine whether value is pr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nter a value from 1 to 1023 (-1 to end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value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ieve[ value 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a prime numb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not a prime numb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nter a value from 2 to 1023 (-1 to end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FA773-ACCD-45F6-9160-3B3D4F934658}" type="slidenum">
              <a:t>1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terator Operations (Fig. 21.10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direc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-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-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+ 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+= 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- 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-= 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[i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&lt; p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&lt;= p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&gt; p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&gt;= p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4A8EC-0975-42EC-A028-9D2FE2E82C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4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prime numbers in the range 2 to 1023 ar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3    5    7   11   13   17   19   23   29   31   3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1   43   47   53   59   61   67   71   73   79   83   8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7  101  103  107  109  113  127  131  137  139  149  15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7  163  167  173  179  181  191  193  197  199  211  22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7  229  233  239  241  251  257  263  269  271  277  28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83  293  307  311  313  317  331  337  347  349  353  3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67  373  379  383  389  397  401  409  419  421  431  43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39  443  449  457  461  463  467  479  487  491  499  50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9  521  523  541  547  557  563  569  571  577  587  59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99  601  607  613  617  619  631  641  643  647  653  6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61  673  677  683  691  701  709  719  727  733  739  74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51  757  761  769  773  787  797  809  811  821  823  82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29  839  853  857  859  863  877  881  883  887  907  9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19  929  937  941  947  953  967  971  977  983  991  99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9 1013 1019 102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value from 1 to 1023 (-1 to end): 38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89 is a prime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value from 2 to 1023 (-1 to end): 8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8 is not a prime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value from 2 to 1023 (-1 to end): -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B4FBE-B9A1-49A1-98F4-F375045E0398}" type="slidenum">
              <a:t>1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objects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functional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functions invoked using operator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985680" y="2255760"/>
          <a:ext cx="6089760" cy="429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2255760"/>
                    <a:ext cx="608976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577F3-BA89-4C09-9213-CCEC2D0127F6}" type="slidenum">
              <a:t>1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4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42: fig21_4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function objec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ector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algorith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umeric&gt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umulate algorith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unctional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inary_function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inary function adds square of its second argument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unning total in its first argument, then returns sum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Square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)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+ value * value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umSquares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4038480" y="2514600"/>
            <a:ext cx="4114800" cy="838080"/>
            <a:chOff x="4038480" y="2514600"/>
            <a:chExt cx="4114800" cy="838080"/>
          </a:xfrm>
        </p:grpSpPr>
        <p:sp>
          <p:nvSpPr>
            <p:cNvPr id="556" name=""/>
            <p:cNvSpPr/>
            <p:nvPr/>
          </p:nvSpPr>
          <p:spPr>
            <a:xfrm>
              <a:off x="5486400" y="25146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function to be used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ccumul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4038480" y="2666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8B9C6-7B4F-4D37-A2B4-919D389A5285}" type="slidenum">
              <a:t>1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4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inary function class template defines overloaded operato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at adds suare of its second argument and running total in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ts first argument, then returns sum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class T &gt;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SquaresClass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binary_function&lt; T, T, T &gt;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square of value to total and return result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operator()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amp;total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amp;value )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+ value * value;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()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umSquaresClass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4228920" y="1295280"/>
            <a:ext cx="4115160" cy="838440"/>
            <a:chOff x="4228920" y="1295280"/>
            <a:chExt cx="4115160" cy="838440"/>
          </a:xfrm>
        </p:grpSpPr>
        <p:sp>
          <p:nvSpPr>
            <p:cNvPr id="561" name=""/>
            <p:cNvSpPr/>
            <p:nvPr/>
          </p:nvSpPr>
          <p:spPr>
            <a:xfrm>
              <a:off x="5676840" y="12952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function object (it can also encapsulate data). Overloa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perator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4228920" y="14479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78F0A-FC49-4E82-92B4-BE277924DEFA}" type="slidenum">
              <a:t>1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4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[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egers( array, array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ctor v contain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integers.begin(), integer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sum of squares of elements of vector integer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binary function sumSquares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std::accumulate( integers.begin(), integers.end(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umSquares );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um of squares of elements in integers using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nary\nfunction sumSquare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resu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4419720" y="2333520"/>
            <a:ext cx="4419360" cy="1797480"/>
            <a:chOff x="4419720" y="2333520"/>
            <a:chExt cx="4419360" cy="1797480"/>
          </a:xfrm>
        </p:grpSpPr>
        <p:sp>
          <p:nvSpPr>
            <p:cNvPr id="566" name=""/>
            <p:cNvSpPr/>
            <p:nvPr/>
          </p:nvSpPr>
          <p:spPr>
            <a:xfrm>
              <a:off x="6172200" y="2333520"/>
              <a:ext cx="266688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ccumul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itially pas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the first argument, with the first element as the second. It then uses the return value as the first argument, and iterates through the other ele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4419720" y="2819520"/>
              <a:ext cx="17524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0F11F-5305-44DD-9263-DE56EBACBB51}" type="slidenum">
              <a:t>1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4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4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sum of squares of elements of vector integer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binary-function object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std::accumulate( integers.begin(), integers.end(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umSquaresClass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) )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um of squares of elements in integers using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inary\nfunction object of type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mSquaresClass&lt; int &gt;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resul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2895480"/>
            <a:ext cx="7010280" cy="213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 6 7 8 9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of squares of elements in integers using b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umSquares: 3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of squares of elements in integers using b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object of type SumSquaresClass&lt; int &gt;: 3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666880" y="1066320"/>
            <a:ext cx="3733920" cy="1571760"/>
            <a:chOff x="2666880" y="1066320"/>
            <a:chExt cx="3733920" cy="1571760"/>
          </a:xfrm>
        </p:grpSpPr>
        <p:sp>
          <p:nvSpPr>
            <p:cNvPr id="572" name=""/>
            <p:cNvSpPr/>
            <p:nvPr/>
          </p:nvSpPr>
          <p:spPr>
            <a:xfrm>
              <a:off x="3733920" y="2057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ccumul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th a function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flipV="1">
              <a:off x="2666880" y="1066320"/>
              <a:ext cx="10670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6D955-330E-43F8-B845-490139EB9D80}" type="slidenum">
              <a:t>1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1.3 Introduction to Algorith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L has algorithms used generically across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e on elements indirectly via it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ften operate on sequences of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d by pairs of it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and last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gorithms often return it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d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iterator to element,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not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made algorithms save programmers time and eff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50E19-8AEA-484F-B118-1DD487BF78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equence Contain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sequence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based on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based on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robust linked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BC074-1B06-4471-A4C0-7C331A4FFB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.1 vector Sequenc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vector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structure with contiguous memory lo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elements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when data must be sorted and easily access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memory exhau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cates larger, contiguous area of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ies itself th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allocates old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random access it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3B5B3-1A98-4DD5-900F-2FF34DB887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.1 vector Sequenc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a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vector &lt;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 v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vector&lt;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::const_iterator iterVa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_iter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not modify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vector&lt;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::reverse_iterator iterVa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its elements in reverse order (end to beginn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beg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get starting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get ending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A4DA9-90CC-479B-B065-465E3A1A8F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1 - Standard Template Library (STL)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295280"/>
            <a:ext cx="7772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Algorit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1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fill, fill_n, generate and generate_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2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equal, mismatch and lexicographical_com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3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remove, remove_if, remove_copy and remove_copy_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4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replace, replace_if, replace_copy and replace_copy_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5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Mathematical Algorit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6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Basic Searching and Sorting Algorit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7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wap, iter_swap and swap_r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8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copy_backward, merge, unique and re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9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place_merge, unique_copy and reverse_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10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et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11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lower_bound, upper_bound and equal_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12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Heaps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13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min and m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5.14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Algorithms Not Covered in This Ch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6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Class bit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21.7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Function 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68698-8C8A-4427-8591-80F368551B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.1 vector Sequenc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.push_back(valu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element to end (found in all sequence  container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.siz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size of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.capacity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much vector can hold before reallocatin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llocation doubles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tor&lt;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v(a, a + SIZ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tor 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ith elements from arra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p to (not including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+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959ED-A3CE-4412-8FCA-9EF046EDAB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.1 vector Sequenc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.insert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terat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ert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efore location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t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.insert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terat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rra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rray + SIZ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erts array elements (up to, but not includ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rray + SIZE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o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.erase( iterato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e element from con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.erase( iter1, ite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e elements starting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er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up to (not including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e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.clea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ases entire con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E279-CED8-4EBD-9AC4-3607307BDB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.1 vector Sequenc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.front(), v.b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first and last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.[elementNumber] 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ig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an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.at[elementNumber] 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above, with range che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_of_boun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EC89B-D730-4B2C-ACB8-E87A887C41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.1 vector Sequenc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stream_it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ostream_iterator&lt;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 outputStream, separator 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outputs values of a certain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iterator output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par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haracter separating out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d::ostream_iterator&lt; int &gt; output( cout, " "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d::copy( iterator1, iterator2, output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element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ator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 to (not including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ato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output,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stream_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D6101-8D83-423A-A15A-3869D47987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14: fig21_1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andard library vector class templa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ector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 for function template printVe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 &lt;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Vecto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vector&lt; T &gt; &amp;integers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ege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initial size of integers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s.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initial capacity of integers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s.capacit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361960" y="3505320"/>
            <a:ext cx="4115160" cy="838080"/>
            <a:chOff x="2361960" y="3505320"/>
            <a:chExt cx="4115160" cy="838080"/>
          </a:xfrm>
        </p:grpSpPr>
        <p:sp>
          <p:nvSpPr>
            <p:cNvPr id="146" name=""/>
            <p:cNvSpPr/>
            <p:nvPr/>
          </p:nvSpPr>
          <p:spPr>
            <a:xfrm>
              <a:off x="3809880" y="35053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ec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361960" y="3657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971800" y="4170240"/>
            <a:ext cx="4114800" cy="1316160"/>
            <a:chOff x="2971800" y="4170240"/>
            <a:chExt cx="4114800" cy="1316160"/>
          </a:xfrm>
        </p:grpSpPr>
        <p:sp>
          <p:nvSpPr>
            <p:cNvPr id="149" name=""/>
            <p:cNvSpPr/>
            <p:nvPr/>
          </p:nvSpPr>
          <p:spPr>
            <a:xfrm>
              <a:off x="4419720" y="417024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971800" y="4322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276360" y="4343400"/>
              <a:ext cx="1143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CC8E6-3B45-4898-A321-6540BC3F28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ush_back is in every sequence coll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.push_back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.push_back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.push_back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size of integers i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integers.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capacity of integers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s.capacit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Output array using pointer notation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 = array; ptr != array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++pt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*pt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Output vector using iterator notation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Vector( integer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Reversed contents of vector integer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48120" y="247680"/>
            <a:ext cx="5371920" cy="590400"/>
            <a:chOff x="3048120" y="247680"/>
            <a:chExt cx="5371920" cy="590400"/>
          </a:xfrm>
        </p:grpSpPr>
        <p:sp>
          <p:nvSpPr>
            <p:cNvPr id="155" name=""/>
            <p:cNvSpPr/>
            <p:nvPr/>
          </p:nvSpPr>
          <p:spPr>
            <a:xfrm>
              <a:off x="5753160" y="247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dd elements to end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ec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sh_bac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048120" y="399960"/>
              <a:ext cx="270504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206C0-7053-4D3B-A8E1-D678C928E9F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::reverse_iterator reverseItera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verseIterator = integers.rbegi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verseIterator!= integers.rend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++reverseIterator )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*reverseIterato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emplate for outputting vector elements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Vecto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vector&lt; T &gt; &amp;integers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T &gt;::const_iterator constIterator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nstIterator = integers2.begin(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stIterator != integers2.end();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nstIterator++ )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*constIterato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Vector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71640" y="457200"/>
            <a:ext cx="3772440" cy="1204920"/>
            <a:chOff x="4571640" y="457200"/>
            <a:chExt cx="3772440" cy="1204920"/>
          </a:xfrm>
        </p:grpSpPr>
        <p:sp>
          <p:nvSpPr>
            <p:cNvPr id="160" name=""/>
            <p:cNvSpPr/>
            <p:nvPr/>
          </p:nvSpPr>
          <p:spPr>
            <a:xfrm>
              <a:off x="5676840" y="8380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alk throug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ec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ackwards us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verse_iter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4724280" y="457200"/>
              <a:ext cx="9525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4571640" y="838080"/>
              <a:ext cx="11048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886200" y="2590920"/>
            <a:ext cx="4114800" cy="1676160"/>
            <a:chOff x="3886200" y="2590920"/>
            <a:chExt cx="4114800" cy="1676160"/>
          </a:xfrm>
        </p:grpSpPr>
        <p:sp>
          <p:nvSpPr>
            <p:cNvPr id="164" name=""/>
            <p:cNvSpPr/>
            <p:nvPr/>
          </p:nvSpPr>
          <p:spPr>
            <a:xfrm>
              <a:off x="5334120" y="2590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mplate function to walk throug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ec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orward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886200" y="2743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886200" y="2743200"/>
              <a:ext cx="144792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DC14E-00CE-489B-9389-F7A0A6D642C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98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initial size of v is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initial capacity of v is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ize of v is: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capacity of v is: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ents of array a using pointer notation: 1 2 3 4 5 6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ents of vector v using iterator notation: 2 3 4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versed contents of vector v: 4 3 2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89BD1-68BC-47B0-A971-6F96132F3C6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15: fig21_1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ing Standard Library vector class templat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lement-manipulation func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ector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algorithm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egers( array, array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ctor integer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integers.begin(), integer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First element of integer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s.fro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Last element of integer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s.b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647960" y="2743200"/>
            <a:ext cx="4115160" cy="838080"/>
            <a:chOff x="4647960" y="2743200"/>
            <a:chExt cx="4115160" cy="838080"/>
          </a:xfrm>
        </p:grpSpPr>
        <p:sp>
          <p:nvSpPr>
            <p:cNvPr id="172" name=""/>
            <p:cNvSpPr/>
            <p:nvPr/>
          </p:nvSpPr>
          <p:spPr>
            <a:xfrm>
              <a:off x="6095880" y="27432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ec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initialized using an array)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stream_iter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4647960" y="28954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876920" y="3809880"/>
            <a:ext cx="4114800" cy="762120"/>
            <a:chOff x="4876920" y="3809880"/>
            <a:chExt cx="4114800" cy="762120"/>
          </a:xfrm>
        </p:grpSpPr>
        <p:sp>
          <p:nvSpPr>
            <p:cNvPr id="175" name=""/>
            <p:cNvSpPr/>
            <p:nvPr/>
          </p:nvSpPr>
          <p:spPr>
            <a:xfrm>
              <a:off x="5715000" y="3809880"/>
              <a:ext cx="3276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y range of iterator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ut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stream_itera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876920" y="4057560"/>
              <a:ext cx="838080" cy="5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5DF88-4753-48CC-8647-B4CB78EA953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first element to 7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.a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element at position 2 to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22 as 2nd element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.insert( integers.begin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Contents of vector integers after change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integers.begin(), integer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ess out-of-range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egers.a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7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tch out_of_range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td::out_of_range outOfRang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Exception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outOfRange.wha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rase first element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.erase( integers.begi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integers after erasing first eleme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integers.begin(), integer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743200" y="609120"/>
            <a:ext cx="5334120" cy="809640"/>
            <a:chOff x="2743200" y="609120"/>
            <a:chExt cx="5334120" cy="809640"/>
          </a:xfrm>
        </p:grpSpPr>
        <p:sp>
          <p:nvSpPr>
            <p:cNvPr id="180" name=""/>
            <p:cNvSpPr/>
            <p:nvPr/>
          </p:nvSpPr>
          <p:spPr>
            <a:xfrm>
              <a:off x="5410080" y="838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ec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2743200" y="609120"/>
              <a:ext cx="2666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352320" y="2057400"/>
            <a:ext cx="3810600" cy="590400"/>
            <a:chOff x="3352320" y="2057400"/>
            <a:chExt cx="3810600" cy="590400"/>
          </a:xfrm>
        </p:grpSpPr>
        <p:sp>
          <p:nvSpPr>
            <p:cNvPr id="183" name=""/>
            <p:cNvSpPr/>
            <p:nvPr/>
          </p:nvSpPr>
          <p:spPr>
            <a:xfrm>
              <a:off x="4495680" y="20574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has range checking, and can throw an excep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352320" y="2209680"/>
              <a:ext cx="114300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5FA2C-4083-4E5F-A7CB-31E9389C7AE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 to the Standard Template Library (STL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werful, template-based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ers: template data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erators: like pointers, access elements of conta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s: data manipulation, searching, sorting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- oriented programming: reuse, reuse, re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an introduction to STL, a huge class libr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722D4-DF12-4F5D-AC45-9B599447E6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rase remaining elements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.erase( integers.begin(), integers.end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erasing all elements, vector integer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ntegers.empty(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 no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emp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elements from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.insert( integers.begin(), array, array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Contents of vector integers before clea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integers.begin(), integer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ty integers; clear calls erase to empty a colle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.clear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clear, vector integer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ntegers.empty(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s no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emp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863F2-D569-42B3-A040-E3F526EFA6C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200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integers contains: 1 2 3 4 5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 element of integers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 element of integers: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ents of vector integers after changes: 7 22 2 10 4 5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ion: invalid vector&lt;T&gt; subscrip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integers after erasing first element: 22 2 10 4 5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erasing all elements, vector integers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ents of vector integers before clear: 1 2 3 4 5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clear, vector integers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505BF-5767-421B-BE9C-435F9426321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.2 list Sequenc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e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fficient insertion/deletion anywhere in contai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ubly-linked list (two pointers per nod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directional it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list&lt;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&gt;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2B841-7205-4635-9D9F-5C292E9F43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.2 list Sequenc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 for objec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or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rts in ascending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plice(iterator, otherObjec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value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therOb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fo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merge( otherObjec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therObj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inserts it in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o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uniqu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es duplicate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74C35-3EC7-4D19-993C-8DB3994BCE9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.2 list Sequenc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wap(otherObject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 cont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assign(iterator1, iterator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laces contents with elements in range of it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remove(val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ases all instances o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56468-E8BB-4CD5-ADEA-B2F7D880A9B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17: fig21_1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list class template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list&gt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algorithm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 for function template print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Lis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ist&lt; T &gt; &amp;listRef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list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alues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list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therValu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items in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ush_fro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ush_fro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ush_back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ush_back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971800" y="3581280"/>
            <a:ext cx="4114800" cy="838440"/>
            <a:chOff x="2971800" y="3581280"/>
            <a:chExt cx="4114800" cy="838440"/>
          </a:xfrm>
        </p:grpSpPr>
        <p:sp>
          <p:nvSpPr>
            <p:cNvPr id="198" name=""/>
            <p:cNvSpPr/>
            <p:nvPr/>
          </p:nvSpPr>
          <p:spPr>
            <a:xfrm>
              <a:off x="4419720" y="35812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tw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971800" y="3733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2B7F1-1058-45A9-B8C0-219010B2B8B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sor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alues after sorting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elements of array into other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therValues.insert( otherValues.begin(),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rray, array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insert, other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other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otherValues elements and insert at end of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splice( values.end(), otherValues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After splice, 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sor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sort, 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057400" y="247680"/>
            <a:ext cx="4114800" cy="2114640"/>
            <a:chOff x="2057400" y="247680"/>
            <a:chExt cx="4114800" cy="2114640"/>
          </a:xfrm>
        </p:grpSpPr>
        <p:sp>
          <p:nvSpPr>
            <p:cNvPr id="203" name=""/>
            <p:cNvSpPr/>
            <p:nvPr/>
          </p:nvSpPr>
          <p:spPr>
            <a:xfrm>
              <a:off x="3505320" y="247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riou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2057400" y="3999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361960" y="399960"/>
              <a:ext cx="1143000" cy="196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5D535-2231-4E10-AE70-253904136AA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elements of array into other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therValues.insert( otherValues.begin(),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rray, array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therValues.sort()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insert, other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other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otherValues elements and insert into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 sorted order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merge( otherValues )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merge:\n   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other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other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op_fro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element from fro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op_back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element from back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pop_front and pop_back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   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uniqu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duplicate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unique, 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8B437-5EC5-454B-8E23-3C08ADDF919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wap elements of values and other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swap( otherValues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swap:\n   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other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other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lace contents of values with elements of other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assign( otherValues.begin(), otherValues.end()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After assign, 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otherValues elements and insert into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 sorted order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merge( otherValues )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merge, 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values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remov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all 4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remove( 4 ), 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List( valu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9094F-2D22-42CA-A97B-2A526E0B657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List function template definition; us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stream_iterator and copy algorithm to output list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Lis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ist&lt; T &gt; &amp;listRef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istRef.empty(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ist is emp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d::ostream_iterator&lt; T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d::copy( listRef.begin(), listRef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4865D-9CDE-4EC4-A191-B08A4D6D9EB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1.1 Introduction to Contain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 of contain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quence contain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 data structures (vectors, linked lis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-class cont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ociative contain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linear, can find elements quick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/value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-class cont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er adapte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containers, with reduced functiona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s have some comm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FB272-FAEF-4563-B134-45F8E247A2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91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contains: 2 1 4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after sorting contains: 1 2 3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insert, otherValues contains: 2 6 4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plice, values contains: 1 2 3 4 2 6 4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ort, values contains: 1 2 2 3 4 4 6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insert, otherValues contains: 2 4 6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merg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contains: 1 2 2 2 3 4 4 4 6 6 8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therValues contains: Lis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pop_front and pop_back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contains: 2 2 2 3 4 4 4 6 6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unique, values contains: 2 3 4 6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wap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contains: Lis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therValues contains: 2 3 4 6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assign, values contains: 2 3 4 6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merge, values contains: 2 2 3 3 4 4 6 6 8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remove( 4 ), values contains: 2 2 3 3 6 6 8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AE203-76BF-4D62-AD20-5B45D5469FC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2.3 deque Sequenc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"deek"): double-ended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dequ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exed access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fficient insertion/deletion in front and ba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contiguous memory: has "smarter" it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basic operations a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 h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_fro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nsert at fron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_fro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lete from fro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BEC3F-60F8-4CBD-803B-ADD85DE0D7E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18: fig21_1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class deque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deque&gt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que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algorith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deque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alu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elements in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ush_fro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ush_fro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5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ush_back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subscript operator to obtain elements of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values.size(); ++i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values[ i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057400" y="1981080"/>
            <a:ext cx="4114800" cy="1752840"/>
            <a:chOff x="2057400" y="1981080"/>
            <a:chExt cx="4114800" cy="1752840"/>
          </a:xfrm>
        </p:grpSpPr>
        <p:sp>
          <p:nvSpPr>
            <p:cNvPr id="219" name=""/>
            <p:cNvSpPr/>
            <p:nvPr/>
          </p:nvSpPr>
          <p:spPr>
            <a:xfrm>
              <a:off x="3505320" y="1981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q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use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2057400" y="2133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2285640" y="21337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B0516-141A-4DE2-85ED-B41FA3AA53D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op_fro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firs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pop_front, 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alues.begin(), value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subscript operator to modify element at location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.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values[ 1 ] = 5.4, values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alues.begin(), value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733920"/>
            <a:ext cx="701028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contains: 3.5 2.2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pop_front, values contains: 2.2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values[ 1 ] = 5.4, values contains: 2.2 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2961A-95A7-4067-A3D9-63EB5E85E71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ssociative Contain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contain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access to store/retrieve ele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keys (search key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types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ulti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ultima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s in sorted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ti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tima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low duplicate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tima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ve keys and associated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ti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ly have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C6BE9-1F17-478A-B990-F1E888F8760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.1 multiset Associativ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lti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e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st storage, retrieval of keys (no valu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duplic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directional it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ing of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ne by comparator function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when creating multi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integer multi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ss&lt;int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arator functio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tiset&lt; int, std::less&lt;int&gt; &gt; myObj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s will be sorted in ascending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0B27D-1451-456B-B209-07C0B40890B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.1 multiset Associativ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se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s.insert(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value into multi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s.count(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number of occurrences of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s.find(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iterator to first instance of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s.lower_bound(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iterator to first location o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s.upper_bound(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iterator to location after last occurrence of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47DD0-2D6D-4999-AFC4-756EAE95712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.1 multiset Associativ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ipulate pairs of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i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s contai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r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c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_it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i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 = ms.equal_range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co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wer_bou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pper_bou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a given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7F2FF-977E-4053-9DA0-4F1566D6058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19: fig21_1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ing Standard Library class multi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et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ltiset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e short name for multiset type used in this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ype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multiset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d::less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&gt; ims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algorith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ms intMultise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s is typedef for "integer multiset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re are currently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Multiset.cou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values of 15 in the multiset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886200" y="1523880"/>
            <a:ext cx="4114800" cy="1067400"/>
            <a:chOff x="3886200" y="1523880"/>
            <a:chExt cx="4114800" cy="1067400"/>
          </a:xfrm>
        </p:grpSpPr>
        <p:sp>
          <p:nvSpPr>
            <p:cNvPr id="236" name=""/>
            <p:cNvSpPr/>
            <p:nvPr/>
          </p:nvSpPr>
          <p:spPr>
            <a:xfrm>
              <a:off x="5334120" y="15238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yped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 help clarify program. This declares an integer multiset that stores values in ascending or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3886200" y="1676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4F29F-F006-43E5-8EBE-C17DC90B890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Multiset.inser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15 in intMulti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Multiset.inser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15 in intMulti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fter inserts, there are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Multiset.cou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values of 15 in the multiset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terator that cannot be used to change eleme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ms::const_iterator resul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15 in intMultiset; find returns it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intMultiset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!= intMultiset.end() )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iterator not at e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Found value 15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und search value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20 in intMultiset; find returns it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intMultiset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intMultiset.end() )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ill be true h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d not find value 20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d not find 2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elements of array a into intMulti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Multiset.insert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insert, intMultiset contain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intMultiset.begin(), intMultiset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200400" y="1752480"/>
            <a:ext cx="4114800" cy="838440"/>
            <a:chOff x="3200400" y="1752480"/>
            <a:chExt cx="4114800" cy="838440"/>
          </a:xfrm>
        </p:grpSpPr>
        <p:sp>
          <p:nvSpPr>
            <p:cNvPr id="241" name=""/>
            <p:cNvSpPr/>
            <p:nvPr/>
          </p:nvSpPr>
          <p:spPr>
            <a:xfrm>
              <a:off x="4648320" y="17524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member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200400" y="1905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74274-43BA-4FAB-B4B8-634BA007AA3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L Container Classes (Fig. 21.1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ce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ive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ulti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ultim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 adap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ority_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D648-6DAE-46E0-A59F-8CB53A25BF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lower and upper bound of 22 in intMulti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Lower bound of 22: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*( intMultiset.lower_bou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Upper bound of 22: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*( intMultiset.upper_bou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 represents pair of const_iterators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pair&lt; ims::const_iterator, ims::const_iterator &gt; 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equal_range to determine lower and upper b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f 22 in intMultiset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 = intMultiset.equal_rang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equal_range of 22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Lower boun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*( p.firs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Upper boun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*( p.secon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429000" y="1752480"/>
            <a:ext cx="4114800" cy="838440"/>
            <a:chOff x="3429000" y="1752480"/>
            <a:chExt cx="4114800" cy="838440"/>
          </a:xfrm>
        </p:grpSpPr>
        <p:sp>
          <p:nvSpPr>
            <p:cNvPr id="246" name=""/>
            <p:cNvSpPr/>
            <p:nvPr/>
          </p:nvSpPr>
          <p:spPr>
            <a:xfrm>
              <a:off x="4876920" y="1752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ai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to get the lower and upper bound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2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3429000" y="1905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E970C-DF6A-4522-A651-8DCD9640F34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re are currently 0 values of 15 in the multi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inserts, there are 2 values of 15 in the multi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value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id not find value 2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insert, intMultiset contain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7 9 13 15 15 18 22 22 30 85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r bound of 22: 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pper bound of 22: 3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_range of 22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r bound: 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pper bound: 3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1B2C6-2459-4D69-8F73-9ABECA24640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.2 set Associativ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e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identical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ulti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que ke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plicates ignored and not 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rts bidirectional iterators (but not random acce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set&lt;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, std::less&lt;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 &gt;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966BD-792A-477A-944E-9D5C5AA94CF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20: fig21_2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class set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e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e short name for set type used in this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ype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d::less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&gt; double_se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.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ouble_set doubleSet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oubleSet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doubleSet.begin(), doubleSet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038480" y="1523880"/>
            <a:ext cx="4114800" cy="838440"/>
            <a:chOff x="4038480" y="1523880"/>
            <a:chExt cx="4114800" cy="838440"/>
          </a:xfrm>
        </p:grpSpPr>
        <p:sp>
          <p:nvSpPr>
            <p:cNvPr id="255" name=""/>
            <p:cNvSpPr/>
            <p:nvPr/>
          </p:nvSpPr>
          <p:spPr>
            <a:xfrm>
              <a:off x="5486400" y="1523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Syntax simila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ulti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4038480" y="1676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63A48-D7A1-4BCC-BF1C-55D4D40749C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 represents pair containing const_iterator and boo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pair&lt; double_set::const_iterato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p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13.8 in doubleSet; insert returns pair in whi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.first represents location of 13.8 in doubleSet and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.second represents whether 13.8 was inserted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 = doubleSet.inser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.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lue not in set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*( p.firs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p.second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wa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was no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nsert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oubleSet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doubleSet.begin(), doubleSet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9.5 in doubleSet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 = doubleSet.inser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lue already in s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*( p.firs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p.second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was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was not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insert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581280" y="1143000"/>
            <a:ext cx="4114800" cy="838080"/>
            <a:chOff x="3581280" y="1143000"/>
            <a:chExt cx="4114800" cy="838080"/>
          </a:xfrm>
        </p:grpSpPr>
        <p:sp>
          <p:nvSpPr>
            <p:cNvPr id="260" name=""/>
            <p:cNvSpPr/>
            <p:nvPr/>
          </p:nvSpPr>
          <p:spPr>
            <a:xfrm>
              <a:off x="5029200" y="11430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ai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h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lue representing whether or not the item was inser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3581280" y="1295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19C74-550D-401B-B529-5CDCD6819AC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057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oubleSet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doubleSet.begin(), doubleSet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057400"/>
            <a:ext cx="701028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Set contains: 2.1 3.7 4.2 9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3.8 was inse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Set contains: 2.1 3.7 4.2 9.5 13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.5 was not inse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Set contains: 2.1 3.7 4.2 9.5 13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835B3-7A8B-4F28-9B41-DDEE5F2CB76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.3 multimap Associativ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ult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map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storage and retrieval of keys and associated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key/value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plicate keys allowed (multiple values for a single ke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-to-many relationsh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, one student can take many cour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i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s (with a key and val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directional it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6351D-6215-4602-9C1C-6C50C47E331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.3 multimap Associativ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d::multimap&lt; int, double, std::less&lt; int &gt; &gt; mmapObjec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ted in ascending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ypede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implify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ypedef std::multimap&lt;int, double, std::less&lt;int&gt;&gt; mm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mid mmapObjec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mapObject.insert( mmid::value_type( 1, 3.4 )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s ke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valu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mid::value_ty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reates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i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21A0E-C3D8-4675-B7DB-EFA1E720B0A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21: fig21_2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class multimap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map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p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e short name for multimap type used in this program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ype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multimap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d::less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&gt; mm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mid pai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re are currently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pairs.cou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airs with key 15 in the multimap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two value_type objects in pairs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2.7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.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fter inserts, there are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pairs.cou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airs with key 15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733560" y="1066680"/>
            <a:ext cx="4115160" cy="1295640"/>
            <a:chOff x="3733560" y="1066680"/>
            <a:chExt cx="4115160" cy="1295640"/>
          </a:xfrm>
        </p:grpSpPr>
        <p:sp>
          <p:nvSpPr>
            <p:cNvPr id="272" name=""/>
            <p:cNvSpPr/>
            <p:nvPr/>
          </p:nvSpPr>
          <p:spPr>
            <a:xfrm>
              <a:off x="5181480" y="10666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tion for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ultim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hat maps integer keys to double valu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3733560" y="1523880"/>
              <a:ext cx="14475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752480" y="2685960"/>
            <a:ext cx="4114800" cy="1886040"/>
            <a:chOff x="1752480" y="2685960"/>
            <a:chExt cx="4114800" cy="1886040"/>
          </a:xfrm>
        </p:grpSpPr>
        <p:sp>
          <p:nvSpPr>
            <p:cNvPr id="275" name=""/>
            <p:cNvSpPr/>
            <p:nvPr/>
          </p:nvSpPr>
          <p:spPr>
            <a:xfrm>
              <a:off x="3200400" y="268596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multimap and insert key-value pai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1752480" y="2838600"/>
              <a:ext cx="144792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2362320" y="2838600"/>
              <a:ext cx="838080" cy="173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4D15F-ECCC-4C0D-B836-C4A22F37E52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five value_type objects in pairs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1.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.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3.33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3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7.5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ultimap pairs contains:\nKey\tValu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const_iterator to walk through elements of pai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mid::const_iterator iter = pairs.begin()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 != pairs.end(); ++iter )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iter-&gt;firs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iter-&gt;second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666880" y="1828800"/>
            <a:ext cx="4114800" cy="838080"/>
            <a:chOff x="2666880" y="1828800"/>
            <a:chExt cx="4114800" cy="838080"/>
          </a:xfrm>
        </p:grpSpPr>
        <p:sp>
          <p:nvSpPr>
            <p:cNvPr id="281" name=""/>
            <p:cNvSpPr/>
            <p:nvPr/>
          </p:nvSpPr>
          <p:spPr>
            <a:xfrm>
              <a:off x="4114800" y="18288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iterator to print enti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ultim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666880" y="1981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A5E05-1D61-4214-94A7-C862ED14918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mmon STL Member Functions (Fig. 21.2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functions for all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constructor, copy constructor, de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mp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x_siz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 &lt; &lt;= &gt; &gt;= == !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for first-class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beg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ra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e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12BD1-EBA6-4EA9-A176-A32DAEEC9C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74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re are currently 0 pairs with key 15 in the multim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inserts, there are 2 pairs with key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ultimap pairs contain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ey    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77.5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     22.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      2.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      99.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      9.34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5      33.33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      111.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C0618-C1F0-4648-9189-0E12ED352CB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3.4 map Associative Contain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map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ultima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but only unique key/value pai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to-one mapping (duplicates ignor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access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[30] = 4000.2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the value of key 30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000.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subscript not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reates new key/value pai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d::map&lt; int, double, std::less&lt; int &gt; &gt;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44495-B9C9-44F8-B31A-9371AF8C9E7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22: fig21_2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class map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map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p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e short name for map type used in this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ype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map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d::less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&gt; m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id pai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eight value_type objects in pairs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1.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10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.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3.33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7.5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upe igno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3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.insert( mid::value_typ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.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upe igno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752120" y="1523880"/>
            <a:ext cx="5220360" cy="1752840"/>
            <a:chOff x="1752120" y="1523880"/>
            <a:chExt cx="5220360" cy="1752840"/>
          </a:xfrm>
        </p:grpSpPr>
        <p:sp>
          <p:nvSpPr>
            <p:cNvPr id="290" name=""/>
            <p:cNvSpPr/>
            <p:nvPr/>
          </p:nvSpPr>
          <p:spPr>
            <a:xfrm>
              <a:off x="4305240" y="15238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gain, 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yped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 to simplify declar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857320" y="16765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752120" y="1676520"/>
              <a:ext cx="25527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800600" y="3484440"/>
            <a:ext cx="4114800" cy="1544760"/>
            <a:chOff x="4800600" y="3484440"/>
            <a:chExt cx="4114800" cy="1544760"/>
          </a:xfrm>
        </p:grpSpPr>
        <p:sp>
          <p:nvSpPr>
            <p:cNvPr id="294" name=""/>
            <p:cNvSpPr/>
            <p:nvPr/>
          </p:nvSpPr>
          <p:spPr>
            <a:xfrm>
              <a:off x="6248520" y="348444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uplicate keys igno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4800600" y="3637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4800600" y="3637080"/>
              <a:ext cx="1447920" cy="13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F2506-4E77-4F3B-81F6-BC284B81463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irs contains:\nKey\tValu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const_iterator to walk through elements of pai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id::const_iterator iter = pairs.begin()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 != pairs.end(); ++iter )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iter-&gt;firs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iter-&gt;second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subscript operator to change value for key 2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99.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subscript operator insert value for key 4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ir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765.4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subscript operations, pairs contains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Key\tValu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id::const_iterator iter2 = pairs.begi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ter2 != pairs.end(); ++iter2 )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iter2-&gt;firs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iter2-&gt;second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857320" y="1371600"/>
            <a:ext cx="4115160" cy="1523880"/>
            <a:chOff x="2857320" y="1371600"/>
            <a:chExt cx="4115160" cy="1523880"/>
          </a:xfrm>
        </p:grpSpPr>
        <p:sp>
          <p:nvSpPr>
            <p:cNvPr id="300" name=""/>
            <p:cNvSpPr/>
            <p:nvPr/>
          </p:nvSpPr>
          <p:spPr>
            <a:xfrm>
              <a:off x="4305240" y="13716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 use subscript operator to add or change key-value pai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857320" y="1523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857320" y="1523880"/>
              <a:ext cx="1447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99B73-388E-4C9B-98B6-209D92520AF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irs contain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ey    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1010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      22.22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      2.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      9.34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5      33.33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      111.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ubscript operations, pairs contain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ey    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1010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     22.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      2.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      9.34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5      9999.9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      111.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      8765.4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CFEC9-F4B5-4C63-8CF3-59D7096FE91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tainer Adap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er adap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c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ority_que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first class contain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support it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provide actual data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mer can select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A930C-56D7-4561-8918-6C602CE382A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4.1 stack Adap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ack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ions and deletions at one e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st-in, first-out (LIFO) data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defaul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ck&lt;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vector&lt;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 &gt; myStac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ck&lt;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list&lt;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 &gt; myOtherStac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ck&lt;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 anotherStack; // default de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efaul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change behavior, just performanc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aste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36B79-6E29-4558-9F48-36E62C2BD60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23: fig21_2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adapter stack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ack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ck adapter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ector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list&gt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pElements function-template prototyp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pElements( T &amp;stackRef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ck with default underlying deq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stack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DequeStack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ck with underlying vector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stack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&gt; intVectorSta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ck with underlying list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stack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d::list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&gt; intListSta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733560" y="3362400"/>
            <a:ext cx="4115160" cy="2047680"/>
            <a:chOff x="3733560" y="3362400"/>
            <a:chExt cx="4115160" cy="2047680"/>
          </a:xfrm>
        </p:grpSpPr>
        <p:sp>
          <p:nvSpPr>
            <p:cNvPr id="312" name=""/>
            <p:cNvSpPr/>
            <p:nvPr/>
          </p:nvSpPr>
          <p:spPr>
            <a:xfrm>
              <a:off x="5181480" y="33624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stacks with various implementa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733560" y="3514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962520" y="3514680"/>
              <a:ext cx="1218960" cy="113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4190760" y="3514680"/>
              <a:ext cx="990360" cy="18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43D26-5037-4DAD-BBD5-941B71FBB07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sh the values 0-9 onto each stack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++i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DequeStack.push( i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VectorStack.push( i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ListStack.push( i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and remove elements from each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opping from intDequeStack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pElements( intDequeSta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opping from intVectorStack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pElements( intVectorSta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opping from intListStack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pElements( intListSta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276360" y="838080"/>
            <a:ext cx="4115160" cy="337320"/>
            <a:chOff x="3276360" y="838080"/>
            <a:chExt cx="4115160" cy="337320"/>
          </a:xfrm>
        </p:grpSpPr>
        <p:sp>
          <p:nvSpPr>
            <p:cNvPr id="319" name=""/>
            <p:cNvSpPr/>
            <p:nvPr/>
          </p:nvSpPr>
          <p:spPr>
            <a:xfrm>
              <a:off x="4724280" y="83808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member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s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3276360" y="990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61E96-F189-468B-93F1-9E46AE62B01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p elements from stack object to which stackRef ref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pElements( T &amp;stackRef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stackRef.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tackRef.top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iew top element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ckRef.pop();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top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op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2666880"/>
            <a:ext cx="7010280" cy="838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pping from intDequeStack: 9 8 7 6 5 4 3 2 1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pping from intVectorStack: 9 8 7 6 5 4 3 2 1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pping from intListStack: 9 8 7 6 5 4 3 2 1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53622-7E93-4D13-BBAF-9D6D8B19A94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mmon STL typedefs (Fig. 21.4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for first-class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lue_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_re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t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_it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_it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_reverse_it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ifference_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_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E4DDB-8865-4820-B7BB-A0D06F9F0C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4.2 queue Adap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queu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ions at back, deletions at fro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-in-first-out (FIFO) data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e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defaul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queue&lt;double&gt; valu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sh( element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_b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d to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p( element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_fro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emove from 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mpty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3326E-259B-4590-B643-2A89E0CC41A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24: fig21_2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adapter queue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queue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queue adapter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queue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alu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sh elements onto queu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us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ush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9.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s.pus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.4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pping from value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values.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values.front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iew front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s.pop();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element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590560" y="1752480"/>
            <a:ext cx="4115160" cy="1600200"/>
            <a:chOff x="2590560" y="1752480"/>
            <a:chExt cx="4115160" cy="1600200"/>
          </a:xfrm>
        </p:grpSpPr>
        <p:sp>
          <p:nvSpPr>
            <p:cNvPr id="329" name=""/>
            <p:cNvSpPr/>
            <p:nvPr/>
          </p:nvSpPr>
          <p:spPr>
            <a:xfrm>
              <a:off x="4038480" y="17524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que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dd values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s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2590560" y="19051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590560" y="1905120"/>
              <a:ext cx="14475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096D4-2267-4E25-9A1B-00ACF25E9A8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371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371600"/>
            <a:ext cx="701028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pping from values: 3.2 9.8 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AAE39-B14D-4311-8BB6-A98E71E9D687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4.3 priority_queue Adap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ority_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queu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ions happen in sorted order, deletions from fro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e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default)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ighest priorit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lement always removed fir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psort algorithm puts largest elements at 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ss&lt;T&g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, programmer can specify other compa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(value), pop(val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ew top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ty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E252A-2F3C-49E2-98AF-757D2C92CA5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25: fig21_2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adapter priority_queue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queue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ority_queue adapter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priority_queue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prioriti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sh elements onto priorit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orities.push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3.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orities.pus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8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orities.pus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.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pping from prioritie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priorities.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priorities.top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iew top element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orities.pop();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top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971800" y="1752480"/>
            <a:ext cx="4114800" cy="838440"/>
            <a:chOff x="2971800" y="1752480"/>
            <a:chExt cx="4114800" cy="838440"/>
          </a:xfrm>
        </p:grpSpPr>
        <p:sp>
          <p:nvSpPr>
            <p:cNvPr id="340" name=""/>
            <p:cNvSpPr/>
            <p:nvPr/>
          </p:nvSpPr>
          <p:spPr>
            <a:xfrm>
              <a:off x="4419720" y="17524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priority queu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2971800" y="1905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2666520" y="2971800"/>
            <a:ext cx="3810600" cy="2133720"/>
            <a:chOff x="2666520" y="2971800"/>
            <a:chExt cx="3810600" cy="2133720"/>
          </a:xfrm>
        </p:grpSpPr>
        <p:sp>
          <p:nvSpPr>
            <p:cNvPr id="343" name=""/>
            <p:cNvSpPr/>
            <p:nvPr/>
          </p:nvSpPr>
          <p:spPr>
            <a:xfrm>
              <a:off x="3809880" y="29718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sert items using push. When using pop, highest priority (largest) items removed fir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971800" y="3200400"/>
              <a:ext cx="838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2666520" y="3200400"/>
              <a:ext cx="114300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5B725-E722-4CEC-B750-06797EF7F60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295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1295280"/>
            <a:ext cx="701028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pping from priorities: 9.8 5.4 3.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84955-7D5D-40D5-BD57-98CAA1E61F7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lgorith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 ST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libraries incompatible among vend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gorithms built into contain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L separates containers and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sier to add new algorith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efficient, avoid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algorithm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AA14E-81A3-4924-B228-85F271A0FB3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1 fill, fill_n, generate and generate_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to change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l(iterator1, iterator2, value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range of element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l_n(iterator1, n, val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tarting 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ato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nerate(iterator1, iterator2, functio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et each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nerate(iterator1, quantity, fun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l_n, "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DB33E-10B5-4EBB-BF3A-4B2377EB75B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26: fig21_2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algorithms fill, fill_n, gener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generate_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gorithm defin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ector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Letter(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char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l chars with 5s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fill( chars.begin(), chars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5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ctor chars after filling with 5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chars.begin(), char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666880" y="2590920"/>
            <a:ext cx="4114800" cy="838080"/>
            <a:chOff x="2666880" y="2590920"/>
            <a:chExt cx="4114800" cy="838080"/>
          </a:xfrm>
        </p:grpSpPr>
        <p:sp>
          <p:nvSpPr>
            <p:cNvPr id="356" name=""/>
            <p:cNvSpPr/>
            <p:nvPr/>
          </p:nvSpPr>
          <p:spPr>
            <a:xfrm>
              <a:off x="4114800" y="2590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ec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, to be used with various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2666880" y="2743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4572000" y="3505320"/>
            <a:ext cx="4114800" cy="838080"/>
            <a:chOff x="4572000" y="3505320"/>
            <a:chExt cx="4114800" cy="838080"/>
          </a:xfrm>
        </p:grpSpPr>
        <p:sp>
          <p:nvSpPr>
            <p:cNvPr id="359" name=""/>
            <p:cNvSpPr/>
            <p:nvPr/>
          </p:nvSpPr>
          <p:spPr>
            <a:xfrm>
              <a:off x="6019920" y="35053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l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4572000" y="3657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9AEBC-2AB5-47D6-A5E6-3D71F892A37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l first five elements of chars with A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fill_n( chars.begin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A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chars after filling five elements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with A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chars.begin(), char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nerate values for all elements of chars with next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generate( chars.begin(), chars.end(), nextLetter 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chars after generating letters A-J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chars.begin(), char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nerate values for first five elements of cha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ith nextLetter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generate_n( chars.begin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nextLetter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chars after generating K-O for the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first five element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chars.begin(), chars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723920" y="1066680"/>
            <a:ext cx="4343760" cy="2362320"/>
            <a:chOff x="4723920" y="1066680"/>
            <a:chExt cx="4343760" cy="2362320"/>
          </a:xfrm>
        </p:grpSpPr>
        <p:sp>
          <p:nvSpPr>
            <p:cNvPr id="364" name=""/>
            <p:cNvSpPr/>
            <p:nvPr/>
          </p:nvSpPr>
          <p:spPr>
            <a:xfrm>
              <a:off x="6400800" y="10666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ner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nerate_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se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xtLet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4952880" y="1219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4723920" y="1219320"/>
              <a:ext cx="167652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A8834-7729-4B19-A335-83BB9516324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1.2 Introduction to It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ors similar to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 to first element in a contai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erator operators same for all contain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s to next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turns iterator to first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turns iterator to last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iterators with sequences (rang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sequence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tream_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sequence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stream_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65BB5-F5C8-4ED1-9DCF-04EF4A346B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981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s next letter in the alphabet (starts with A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Letter()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tt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A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tter++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next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1981080"/>
            <a:ext cx="7010280" cy="266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chars after filling with 5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5 5 5 5 5 5 5 5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chars after filling five elements with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A A A A 5 5 5 5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chars after generating letters A-J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B C D E F G H I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chars after generating K-O for the first five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 L M N O F G H I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58632-B729-4413-9E5D-C27ECE53917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2 equal, mismatch and lexicographical_compa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to compare sequences of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qua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sequences are equal (us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of unequal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qual(iterator1, iterator2, iterator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s sequence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ator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ator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sequence beginning 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ato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isma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ments 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q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i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with iterators pointing to mism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mismatch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i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terators equal to las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ir &lt; iterator, iterator &gt; myPairObjec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PairObject = mismatch( iter1, iter2, iter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930B5-D880-4037-B25E-A14C645BEFC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2 equal, mismatch and lexicographical_compa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to compare sequences of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exicographical_comp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contents of two character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element in first sequence smaller than corresponding element in 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 result = lexicographical_compare(iter1, iter2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er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F183E-CF63-4E05-BAFF-EF7FB303C4CE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27: fig21_2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functions equal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ismatch and lexicographical_compar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gorithm defin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ector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2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1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2( a1, a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3( a2, a2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389A1-FE33-46C9-8ACB-50E73524DCEF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ctor v1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1.begin(), v1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v2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2.begin(), v2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v3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3.begin(), v3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are vectors v1 and v2 for equality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 =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d::equal( v1.begin(), v1.end(), v2.begi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v1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( result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 no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equal to vector v2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are vectors v1 and v3 for equality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std::equal( v1.begin(), v1.end(), v3.begi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Vector v1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( result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 no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equal to vector v3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cation represents pair of vector iter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pair&lt;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::iterator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::iterator &gt; loca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eck for mismatch between v1 and v3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cation =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d::mismatch( v1.begin(), v1.end(), v3.begin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429000" y="1295280"/>
            <a:ext cx="4114800" cy="838440"/>
            <a:chOff x="3429000" y="1295280"/>
            <a:chExt cx="4114800" cy="838440"/>
          </a:xfrm>
        </p:grpSpPr>
        <p:sp>
          <p:nvSpPr>
            <p:cNvPr id="379" name=""/>
            <p:cNvSpPr/>
            <p:nvPr/>
          </p:nvSpPr>
          <p:spPr>
            <a:xfrm>
              <a:off x="4876920" y="1295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q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Compares all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429000" y="1447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190760" y="4800600"/>
            <a:ext cx="4115160" cy="838080"/>
            <a:chOff x="4190760" y="4800600"/>
            <a:chExt cx="4115160" cy="838080"/>
          </a:xfrm>
        </p:grpSpPr>
        <p:sp>
          <p:nvSpPr>
            <p:cNvPr id="382" name=""/>
            <p:cNvSpPr/>
            <p:nvPr/>
          </p:nvSpPr>
          <p:spPr>
            <a:xfrm>
              <a:off x="5638680" y="48006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ismatc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4190760" y="4952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FBD07-123B-4398-94F5-82F317CBB436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re is a mismatch between v1 and v3 a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tio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location.first - v1.begin(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where v1 contain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*location.fir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nd v3 contain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*location.seco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har c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LL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har c2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YE BY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erform lexicographical comparison of c1 and c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std::lexicographical_compare(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1, c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2, c2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c1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result ?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is less tha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greater than or equal to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c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124080" y="1523880"/>
            <a:ext cx="4876920" cy="838440"/>
            <a:chOff x="3124080" y="1523880"/>
            <a:chExt cx="4876920" cy="838440"/>
          </a:xfrm>
        </p:grpSpPr>
        <p:sp>
          <p:nvSpPr>
            <p:cNvPr id="387" name=""/>
            <p:cNvSpPr/>
            <p:nvPr/>
          </p:nvSpPr>
          <p:spPr>
            <a:xfrm>
              <a:off x="4572000" y="1523880"/>
              <a:ext cx="3429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exicographical_compa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3124080" y="1676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ADCB2-8A0E-4CFB-80B2-F750DB7F2FFA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1 contains: 1 2 3 4 5 6 7 8 9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2 contains: 1 2 3 4 5 6 7 8 9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3 contains: 1 2 3 4 1000 6 7 8 9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1 is equal to vector v2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1 is not equal to vector v3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re is a mismatch between v1 and v3 at location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here v1 contains 5 and v3 contains 10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 is greater than or equal to BYE BY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198CD-74F4-4DEB-9046-A493F2B3E1A6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3 remove, remove_if, remove_copy and remove_copy_if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move( iter1, iter2, val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s all instances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rang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ter1-iter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s instance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wards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change size of container or delete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iterator to "new" end of contai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ements after new iterator are undefined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move_c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ies one vector to another while removing an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move_copy(iter1, iter2, iter3, val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elements not equal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utput itera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rang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1-ite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65FA1-EBDD-497A-B690-6F04C1815A8A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3 remove, remove_if, remove_copy and remove_copy_if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move_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iterator to last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elements that 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specified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_if(iter1,iter2, functio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s passed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ich return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move_copy_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move_cop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move_i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ies range of element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ter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xcept those for whic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_copy_if(iter1, iter2, iter3, functio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DA8BC-D0FA-4E49-BF16-EFE5252ACEAA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28: fig21_2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functions remove, remove_if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_copy and remove_copy_if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gorithm defini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ector class-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ater9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::iterator newLastElem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ctor v before removing all 10s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.begin(), v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1FFF6-B3A0-4FF8-AFDC-F63700EAFEC9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1.2 Introduction to It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istream_iterator&lt; int &gt; inputInt( ci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read input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input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eference to read fir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input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 to nex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ostream_iterator&lt; int &gt; outputInt(co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utpu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outputInt =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output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ances iterator so we can output nex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4FD94-7515-490B-8F3C-B02C1A07B3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10 from v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ewLastElement = std::remove( v.begin(), v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v after removing all 10s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.begin(), newLastElement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2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c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v2 before removing all 10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d copying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2.begin(), v2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from v2 to c, removing 10s in the process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remove_copy( v2.begin(), v2.end(), c.begin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c after removing all 10s from v2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c.begin(), c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3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v3 before removing all elements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greater than 9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3.begin(), v3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4876560" y="609120"/>
            <a:ext cx="3810240" cy="1053000"/>
            <a:chOff x="4876560" y="609120"/>
            <a:chExt cx="3810240" cy="1053000"/>
          </a:xfrm>
        </p:grpSpPr>
        <p:sp>
          <p:nvSpPr>
            <p:cNvPr id="400" name=""/>
            <p:cNvSpPr/>
            <p:nvPr/>
          </p:nvSpPr>
          <p:spPr>
            <a:xfrm>
              <a:off x="6019920" y="8380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move 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'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Returns an iterator pointing to the new last el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flipV="1">
              <a:off x="4876560" y="609120"/>
              <a:ext cx="11430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4800600" y="2362320"/>
            <a:ext cx="4114800" cy="837720"/>
            <a:chOff x="4800600" y="2362320"/>
            <a:chExt cx="4114800" cy="837720"/>
          </a:xfrm>
        </p:grpSpPr>
        <p:sp>
          <p:nvSpPr>
            <p:cNvPr id="403" name=""/>
            <p:cNvSpPr/>
            <p:nvPr/>
          </p:nvSpPr>
          <p:spPr>
            <a:xfrm>
              <a:off x="6248520" y="2362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move_cop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create a duplicat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with 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's remov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4800600" y="2514600"/>
              <a:ext cx="1447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9038A-E655-4AC5-8CC1-C8AB6FE1C45A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elements greater than 9 from v3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ewLastElement =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d::remove_if( v3.begin(), v3.end(), greater9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Vector v3 after removing all elements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greater than 9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3.begin(), newLastElement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4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c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v4 before removing all elements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greater than 9 and copying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4.begin(), v4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elements from v4 to c2, removing elements grea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an 9 in the process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remove_copy_if(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4.begin(), v4.end(), c2.begin(), greater9 )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c2 after removing all elements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greater than 9 from v4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c2.begin(), c2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876560" y="837720"/>
            <a:ext cx="3733920" cy="977040"/>
            <a:chOff x="4876560" y="837720"/>
            <a:chExt cx="3733920" cy="977040"/>
          </a:xfrm>
        </p:grpSpPr>
        <p:sp>
          <p:nvSpPr>
            <p:cNvPr id="408" name=""/>
            <p:cNvSpPr/>
            <p:nvPr/>
          </p:nvSpPr>
          <p:spPr>
            <a:xfrm>
              <a:off x="5943600" y="9907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eater9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determine whether to remove the el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4876560" y="837720"/>
              <a:ext cx="1066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590560" y="3200400"/>
            <a:ext cx="4876920" cy="838080"/>
            <a:chOff x="2590560" y="3200400"/>
            <a:chExt cx="4876920" cy="838080"/>
          </a:xfrm>
        </p:grpSpPr>
        <p:sp>
          <p:nvSpPr>
            <p:cNvPr id="411" name=""/>
            <p:cNvSpPr/>
            <p:nvPr/>
          </p:nvSpPr>
          <p:spPr>
            <a:xfrm>
              <a:off x="4038480" y="3200400"/>
              <a:ext cx="3429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move_copy_i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590560" y="3352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4C091-9D95-4320-8458-E2B5DD59F34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argument is greater than 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ater9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greater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2CC08-2373-4C17-ADF1-468339A671E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 before removing all 10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2 10 4 16 6 14 8 12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 after removing all 10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4 16 6 14 8 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2 before removing all 10s and copying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2 10 4 16 6 14 8 12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c after removing all 10s from v2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4 16 6 14 8 12 0 0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3 before removing all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reater than 9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2 10 4 16 6 14 8 12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3 after removing all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reater than 9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4 6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4 before removing all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reater than 9 and copying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2 10 4 16 6 14 8 12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c2 after removing all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reater than 9 from v4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4 6 8 0 0 0 0 0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8F545-56BE-4B84-9654-208377E4663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4 replace, replace_if, replace_copy and replace_copy_if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lace( iter1, iter2, value, newvalu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emo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xcept replac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lace_if( iter1, iter2, function, newvalu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laces value 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lace_copy(iter1, iter2, iter3, value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value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laces and copies elements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e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not affect origi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lace_copy_if( iter1, iter2, iter3, function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newvalu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laces and copies elements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er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4E76-590B-406A-B2CC-9527EA3D4C3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29: fig21_2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functions replace, replace_if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lace_copy and replace_copy_if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algorith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ater9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ostream_itera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output( cou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1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ector v1 before replacing all 10s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1.begin(), v1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8CA52-5C12-4378-B9B6-1EED837B067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lace 10s in v1 with 100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replace( v1.begin(), v1.end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v1 after replacing 10s with 100s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1.begin(), v1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2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c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v2 before replacing all 10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nd copying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2.begin(), v2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from v2 to c1, replacing 10s with 100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replace_copy(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2.begin(), v2.end(), c1.begin()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c1 after replacing all 10s in v2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c1.begin(), c1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3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v3 before replacing values greater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than 9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3.begin(), v3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4114440" y="247680"/>
            <a:ext cx="4724640" cy="3181320"/>
            <a:chOff x="4114440" y="247680"/>
            <a:chExt cx="4724640" cy="3181320"/>
          </a:xfrm>
        </p:grpSpPr>
        <p:sp>
          <p:nvSpPr>
            <p:cNvPr id="424" name=""/>
            <p:cNvSpPr/>
            <p:nvPr/>
          </p:nvSpPr>
          <p:spPr>
            <a:xfrm>
              <a:off x="6172200" y="247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functio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pla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place_cop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028840" y="3999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4114440" y="399960"/>
              <a:ext cx="2057400" cy="302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C3718-96AA-432D-A82C-652189F038DB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lace values greater than 9 in v3 with 100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replace_if( v3.begin(), v3.end(), greater9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Vector v3 after replacing all values greater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an 9 with 100s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3.begin(), v3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v4( a, a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c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Vector v4 before replacing all values greater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an 9 and copying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v4.begin(), v4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v4 to c2, replacing elements greater than 9 with 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replace_copy_if(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4.begin(), v4.end(), c2.begin(), greater9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c2 after replacing all values greater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han 9 in v4:\n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py( c2.begin(), c2.end(), out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05F4D-FCDC-4AA0-B47F-226EA665AAB1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argument is greater than 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ater9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reater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1752480"/>
            <a:ext cx="7010280" cy="4648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1 before replacing all 10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2 10 4 16 6 14 8 12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1 after replacing 10s with 100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2 100 4 16 6 14 8 12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2 before replacing all 10s and copy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2 10 4 16 6 14 8 12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c1 after replacing all 10s in v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2 100 4 16 6 14 8 12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3 before replacing values greater than 9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2 10 4 16 6 14 8 12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3 after replacing all values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an 9 with 100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2 100 4 100 6 100 8 100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v4 before replacing all values greater than 9 and copy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2 10 4 16 6 14 8 12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c2 after replacing all values greater than 9 in v4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2 100 4 100 6 100 8 100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D434A-10E3-4773-B3EF-13D1F6E31A50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1.5.5 Mathematical Algorith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om_shuffle(iter1, iter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ly mixes elements in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nt(iter1, iter2, val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number of instance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nt_if(iter1, iter2, func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s number of instances that 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in_element(iter1, iter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iterator to smallest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x_element(iter1, iter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iterator to largest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4A6E3-FBF8-457F-8938-35D5AB591205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20:28:09Z</dcterms:created>
  <dc:creator>kalid</dc:creator>
  <dc:description/>
  <dc:language>en-US</dc:language>
  <cp:lastModifiedBy>Pearson Education</cp:lastModifiedBy>
  <dcterms:modified xsi:type="dcterms:W3CDTF">2002-10-01T19:54:26Z</dcterms:modified>
  <cp:revision>1091</cp:revision>
  <dc:subject/>
  <dc:title>PowerPoint Presentation</dc:title>
</cp:coreProperties>
</file>