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EA10-BF6F-4D54-83F5-B03532635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A4F3-45CF-47FE-A4C3-2699AACA5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0B9C-592D-4226-9021-93A6F1F25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EDA1-D4BA-4407-8A46-E69459C6D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9208-F31D-4F5F-BDD7-88777CE700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1032-BAFE-466C-AA00-AFE364B4CA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1829-C065-45F7-8A8C-A432363CA7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5721-9B9A-42E9-A786-19B61A2A90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0A0C-B6D8-4641-8C9B-454A30C084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31F7-60B6-44D7-8D9E-73ACCDCA0D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EE71-80CD-4270-BD2D-A1BEF40134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3172-E30F-4FAB-87D0-D3AD69990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8AAE-C223-416D-BD1C-D2268DDBAC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3B10D-ECB3-4AE5-9617-E3290A0B03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9946-21F7-48D9-B715-2E04462BDA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1870-1F9C-49C6-A08B-7F7EEA4788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0FAE-3C8B-48D5-A081-D56A5F4EA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4736-F5E9-460F-BAAF-5F5DC3B32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33DF-741B-479B-BD57-8E5F0DE5C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6477-28E0-4724-BFDE-52614D334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08B2-A1D9-4CBE-B80E-131C85D2F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8CBC-BD18-4A20-A2FB-AF5934AF3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A3BE-2C23-439C-AC83-78370174F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2608-978D-4C6B-B02B-077D787F0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675B-1D46-47F0-A8F4-DE4411D2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B6B4-D824-4A6B-95F2-93EC701D4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0 - C Legacy Code Topic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directing Input/Output on UNIX and DO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ariable-Length Argument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Command-Line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Notes on Compiling Multiple-Source-File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 Termination with exit and at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volatile Type Qua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uffixes for Integer and Floating-Point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ignal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ynamic Memory Allocation with calloc and re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Unconditional Branch: 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0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inkage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617C-F01A-40AC-9864-D48178FA86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ouble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3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ouble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4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4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average of double1 and double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ver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uble1, double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average of double1, double2, and double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ver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uble1, double2, double3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average of double1, double2, double3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nd double4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verag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ouble1, double2, double3, double4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09320" y="2590920"/>
            <a:ext cx="3429360" cy="1296000"/>
            <a:chOff x="2209320" y="2590920"/>
            <a:chExt cx="3429360" cy="1296000"/>
          </a:xfrm>
        </p:grpSpPr>
        <p:sp>
          <p:nvSpPr>
            <p:cNvPr id="111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with a variable number of arguments (passing the number of arguments as a paramet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209320" y="25909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8FDE-3DED-4A58-AA85-DC834680B6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, ...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l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storing information needed by va_st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sta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list, c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variable length argument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count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ar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li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he va_st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va_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list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/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80720" y="304920"/>
            <a:ext cx="4267800" cy="1079280"/>
            <a:chOff x="1980720" y="304920"/>
            <a:chExt cx="4267800" cy="1079280"/>
          </a:xfrm>
        </p:grpSpPr>
        <p:sp>
          <p:nvSpPr>
            <p:cNvPr id="116" name=""/>
            <p:cNvSpPr/>
            <p:nvPr/>
          </p:nvSpPr>
          <p:spPr>
            <a:xfrm>
              <a:off x="3581280" y="3049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_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call macr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_sta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parameter before the ellipsi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80720" y="45720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514240" y="457200"/>
              <a:ext cx="106668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962160" y="1600200"/>
            <a:ext cx="4115160" cy="838080"/>
            <a:chOff x="3962160" y="1600200"/>
            <a:chExt cx="4115160" cy="838080"/>
          </a:xfrm>
        </p:grpSpPr>
        <p:sp>
          <p:nvSpPr>
            <p:cNvPr id="120" name=""/>
            <p:cNvSpPr/>
            <p:nvPr/>
          </p:nvSpPr>
          <p:spPr>
            <a:xfrm>
              <a:off x="5410080" y="1600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ract each argumen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reat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62160" y="1752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720" y="2819520"/>
            <a:ext cx="4495680" cy="580680"/>
            <a:chOff x="2133720" y="2819520"/>
            <a:chExt cx="4495680" cy="580680"/>
          </a:xfrm>
        </p:grpSpPr>
        <p:sp>
          <p:nvSpPr>
            <p:cNvPr id="123" name=""/>
            <p:cNvSpPr/>
            <p:nvPr/>
          </p:nvSpPr>
          <p:spPr>
            <a:xfrm>
              <a:off x="396252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d the macros, helps with a normal function retur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33720" y="2971800"/>
              <a:ext cx="182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A60A-AB88-462C-80DF-FC279CA2D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1 = 37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2 = 2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3 = 1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4 = 10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of double1 and double2 is 30.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of double1, double2, and double3 is 20.5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of double1, double2, double3 and double4 is 17.97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DA8B-19DA-43F1-A47A-EE625B1BA6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mmand-Line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ass argument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UNIX/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parameter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 int argc, char *argv[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arg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argv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of strings that contains command-line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copy input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c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[0]: "copy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[1]: "inpu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v[2]: "outpu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104A-C3B7-4BA8-9D46-DE376F7BA7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mmand-Line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copy input file to output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py input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a character from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write to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 when no more characters to read (E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86B3-F13F-4115-AC28-F0A1C0CC50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3: fig20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command-line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gv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number of command-line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gc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age: copyFile infile_name outfile_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fstream inFile(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657600" y="3733920"/>
            <a:ext cx="4114800" cy="838080"/>
            <a:chOff x="3657600" y="3733920"/>
            <a:chExt cx="4114800" cy="838080"/>
          </a:xfrm>
        </p:grpSpPr>
        <p:sp>
          <p:nvSpPr>
            <p:cNvPr id="134" name=""/>
            <p:cNvSpPr/>
            <p:nvPr/>
          </p:nvSpPr>
          <p:spPr>
            <a:xfrm>
              <a:off x="5105520" y="3733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gv[1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input file -- open for rea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6576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76160" y="2209680"/>
            <a:ext cx="4115160" cy="838440"/>
            <a:chOff x="1676160" y="2209680"/>
            <a:chExt cx="4115160" cy="838440"/>
          </a:xfrm>
        </p:grpSpPr>
        <p:sp>
          <p:nvSpPr>
            <p:cNvPr id="137" name=""/>
            <p:cNvSpPr/>
            <p:nvPr/>
          </p:nvSpPr>
          <p:spPr>
            <a:xfrm>
              <a:off x="3124080" y="22096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parameter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6761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B8E4-C04E-4CC8-B57C-B2158EEC7B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fstream outFile(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rgv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File.clos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inFile.get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firs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File.put( c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 = inFile.get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nex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14440" y="542880"/>
            <a:ext cx="3810240" cy="580680"/>
            <a:chOff x="4114440" y="542880"/>
            <a:chExt cx="3810240" cy="580680"/>
          </a:xfrm>
        </p:grpSpPr>
        <p:sp>
          <p:nvSpPr>
            <p:cNvPr id="142" name=""/>
            <p:cNvSpPr/>
            <p:nvPr/>
          </p:nvSpPr>
          <p:spPr>
            <a:xfrm>
              <a:off x="5257800" y="542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gv[2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output file -- open for wri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114440" y="694800"/>
              <a:ext cx="1143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743200" y="2286000"/>
            <a:ext cx="4114800" cy="1067400"/>
            <a:chOff x="2743200" y="2286000"/>
            <a:chExt cx="4114800" cy="1067400"/>
          </a:xfrm>
        </p:grpSpPr>
        <p:sp>
          <p:nvSpPr>
            <p:cNvPr id="145" name=""/>
            <p:cNvSpPr/>
            <p:nvPr/>
          </p:nvSpPr>
          <p:spPr>
            <a:xfrm>
              <a:off x="4191120" y="2286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a character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writ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Loop stops when EOF reach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7432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9838-F2B2-4AA3-A019-BECED914D2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with multiple sourc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must be entirely in on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split up into multiple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 accessible to functions in sa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defined in every file they ar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global variable in anoth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variable defined later in file or in anoth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Global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int myGlobal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ppear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6DEC-E2F1-4979-85C7-F358EF64A9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in other file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prototype in each file function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 files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indicates function defined later in same file, or in anoth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loading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str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prototypes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not need to know where definitions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058D-3862-49CA-8E32-E1B1C6BBB6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context of global variables/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by functions in sa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lin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s/functions have external linkage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ith utility functions called only in on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fined before used, inclu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use with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utility to aid compilation and li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s effort of constantly recompiling for minor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FC69-5C0D-4534-ADBB-23408720BC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advanced topics in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apabilities specific to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pecially UNIX and/or 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for C++ programmers working with C legac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8CF4-CB54-4E82-8C35-FCF4AFB1B1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Termination with exit and atexi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program to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tak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_SUCC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_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ic constan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EXIT_SUCCES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value to environment, indicating success or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value varies with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A87D-742F-47A5-85B5-35672DD3A2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Termination with exit and atexi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t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pointer to function (function na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( myFunc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must ta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s function to run when program end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ccessfu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, or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terminate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gister up to 32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ultip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in reverse order of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AD37-7458-4884-87AA-7952D09641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4: fig20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exit and atexit function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texit( print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gister function pri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1 to terminate program with function ex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2 to terminate program normally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answ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52480" y="2362320"/>
            <a:ext cx="4114800" cy="1797480"/>
            <a:chOff x="1752480" y="2362320"/>
            <a:chExt cx="4114800" cy="1797480"/>
          </a:xfrm>
        </p:grpSpPr>
        <p:sp>
          <p:nvSpPr>
            <p:cNvPr id="160" name=""/>
            <p:cNvSpPr/>
            <p:nvPr/>
          </p:nvSpPr>
          <p:spPr>
            <a:xfrm>
              <a:off x="3200400" y="2362320"/>
              <a:ext cx="26668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gis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called when the program terminate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take no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be called if the program ends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752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752480" y="25146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D3AC-4466-4E76-917F-F1A0ECB0FC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if answer is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nsw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erminating program with function exi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SUCC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erminating program by reaching the end of mai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essage before termination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ecuting function print at program terminatio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termina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33360" y="1066320"/>
            <a:ext cx="4115160" cy="733680"/>
            <a:chOff x="2133360" y="1066320"/>
            <a:chExt cx="4115160" cy="733680"/>
          </a:xfrm>
        </p:grpSpPr>
        <p:sp>
          <p:nvSpPr>
            <p:cNvPr id="166" name=""/>
            <p:cNvSpPr/>
            <p:nvPr/>
          </p:nvSpPr>
          <p:spPr>
            <a:xfrm>
              <a:off x="3276720" y="121932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passing a symbolic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2133360" y="106632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55F6-CFD2-4126-B03D-5A313F1142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terminate program with function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terminate program norm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 by reaching the end of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ng function print at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termin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terminate program with function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terminate program norm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 with function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ing function print at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termin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EA81-F0F5-428F-9E4E-C565F7DBC3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volatile Type Qualifi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variable may be altered outside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ot under control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annot perform certain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063B-99ED-4290-A119-84573D35D0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uffixes for Integer and Floating-Point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has suffixes for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suffi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suffix, uses smallest type that can hold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74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322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364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oating point suffi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suffix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.14159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8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orrect suffix is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136E-0156-4FC9-8BA0-1190623C5B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expected event, can terminat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s (ctrl-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egal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ating-point exceptions (division by 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ps unexpected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ignal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signal number (symbolic constants 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pointer to function (function na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 handler passed signal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required to cal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gain inside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itialize handler after it handles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B6D9-B78C-4D9B-A29F-C820A94B21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9880" y="1395360"/>
          <a:ext cx="7415280" cy="49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395360"/>
                    <a:ext cx="741528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6B36-FFDC-4327-BD7F-4A37580BDE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signal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2BFE-604C-461F-A809-8EC1016327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directing Input/Output on UNIX 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board (input) and screen (outpu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direct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can come from a file, output can go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symbol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ng system feature (not C++ feature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and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myProgram &lt;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executabl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at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ommand-line prom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to program now comes from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ot the key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D260-2ACA-44BB-ADEA-627F80685D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6: fig20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ignal handl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igna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gnalHandl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gna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G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gnalHandl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733920"/>
            <a:ext cx="4648320" cy="838080"/>
            <a:chOff x="2743200" y="3733920"/>
            <a:chExt cx="4648320" cy="838080"/>
          </a:xfrm>
        </p:grpSpPr>
        <p:sp>
          <p:nvSpPr>
            <p:cNvPr id="184" name=""/>
            <p:cNvSpPr/>
            <p:nvPr/>
          </p:nvSpPr>
          <p:spPr>
            <a:xfrm>
              <a:off x="4191120" y="373392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gis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gnal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al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G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v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7432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DFB2-EEE4-4455-947D-19AD9CE88C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nd output random numb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ise SIGINT when x is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x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ai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G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ndl when i is a multiple of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438280" y="533520"/>
            <a:ext cx="4114800" cy="838080"/>
            <a:chOff x="2438280" y="533520"/>
            <a:chExt cx="4114800" cy="838080"/>
          </a:xfrm>
        </p:grpSpPr>
        <p:sp>
          <p:nvSpPr>
            <p:cNvPr id="189" name=""/>
            <p:cNvSpPr/>
            <p:nvPr/>
          </p:nvSpPr>
          <p:spPr>
            <a:xfrm>
              <a:off x="3886200" y="533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i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438280" y="685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064F-4985-40CF-966B-BE3AD8A821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sig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gnalHandl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gnal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rrupt signal 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gna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 received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 you wish to continue (1 = yes or 2 = no)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invalid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respons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1 = yes or 2 = no)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respon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if it is time to ex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pons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IT_SUCCE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signal and pass it SIGINT and address of signal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gna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IG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ignalHandler )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ignal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95480" y="4343400"/>
            <a:ext cx="4114800" cy="838080"/>
            <a:chOff x="2895480" y="4343400"/>
            <a:chExt cx="4114800" cy="838080"/>
          </a:xfrm>
        </p:grpSpPr>
        <p:sp>
          <p:nvSpPr>
            <p:cNvPr id="194" name=""/>
            <p:cNvSpPr/>
            <p:nvPr/>
          </p:nvSpPr>
          <p:spPr>
            <a:xfrm>
              <a:off x="434340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y be required to reinitial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89548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A008-4325-4F17-B06C-C5F660196B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2   3   4   5   6   7   8   9 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  12  13  14  15  16  17  18  19 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  22  23  24  25  26  27  28  29 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32  33  34  35  36  37  38  39 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  42  43  44  45  46  47  48  49 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52  53  54  55  56  57  58  59 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  62  63  64  65  66  67  68  69  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1  72  73  74  75  76  77  78  79 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  82  83  84  85  86  87  88  89  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1  92  93  94  95  96  97  98  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 signal (2) receiv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 you wish to continue (1 = yes or 2 = no)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2   3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rupt signal (2) receiv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 you wish to continue (1 = yes or 2 = no)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A4C7-6453-4222-9D27-C257200A51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0  Dynamic Memory Allocation with calloc and reallo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reate dynamic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calloc(size_t nelmt, size_t siz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l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number of elements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ize of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dynamic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initializ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DC88-2F98-4A00-AC05-D4E6169F1B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0  Dynamic Memory Allocation with calloc and reallo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ll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izes dynamic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not modified if size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hrunk, beginning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realloc(void *ptr, size_t newSiz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ointer to object being real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new size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 =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cts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Size =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 !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emory fr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reallocated memory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no sp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B615-A43E-4006-BB58-02A66CE943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1  The Unconditional Branch: got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performance cru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it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jumps to first statement after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 is an identifier and col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escape from deeply nested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3AD0-9AFF-4840-AE5F-D37A13DBF3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7: fig20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got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rt: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b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to end when count exceeds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o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left &lt;&lt;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to start on line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got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t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95280" y="2819520"/>
            <a:ext cx="4114800" cy="838080"/>
            <a:chOff x="1295280" y="2819520"/>
            <a:chExt cx="4114800" cy="838080"/>
          </a:xfrm>
        </p:grpSpPr>
        <p:sp>
          <p:nvSpPr>
            <p:cNvPr id="207" name=""/>
            <p:cNvSpPr/>
            <p:nvPr/>
          </p:nvSpPr>
          <p:spPr>
            <a:xfrm>
              <a:off x="27432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declaration of labe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2952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057400" y="4724280"/>
            <a:ext cx="4114800" cy="1219320"/>
            <a:chOff x="2057400" y="4724280"/>
            <a:chExt cx="4114800" cy="1219320"/>
          </a:xfrm>
        </p:grpSpPr>
        <p:sp>
          <p:nvSpPr>
            <p:cNvPr id="210" name=""/>
            <p:cNvSpPr/>
            <p:nvPr/>
          </p:nvSpPr>
          <p:spPr>
            <a:xfrm>
              <a:off x="3505320" y="5105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format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o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057400" y="5257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2209320" y="4724280"/>
              <a:ext cx="1295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F913-36DD-4340-9812-E2B4A01A1A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nd: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abel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905120"/>
            <a:ext cx="70102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2  3  4  5  6  7  8  9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92D7-AA50-4EBE-BB8C-8B2E825B26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2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that contains a variety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embers shar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contains one data me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rves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last data member defined can be acc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ation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on Numb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on myObj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9F23-E33B-4DEE-B2DC-79AD04A821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directing Input/Output on UNIX 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 command 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one program becomes input of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firstProgram | second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o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cond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output 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program goes to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myProgram &gt; my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goes 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rases previous cont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361D-4029-4EC1-85F0-524BC0C6E6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2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to union of same typ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addres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union member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members using point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3738-5AAC-4AEC-AAD6-7E132304AFA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2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ymous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typ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 not create a type; creates an unnam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only public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 accessed like norm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name, n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clared globally, 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nteger1;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uble1;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charPtr;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 // end anonymous union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1 = 3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A7C0-1112-4C95-A101-C8388D1E32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20.8: fig20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n example of a un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fine union 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ber {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eger1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1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unio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Number 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union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value.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ssign 100 to member integer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Put a value in the integer memb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and print both members.\nint:  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value.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value.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28800" y="1219320"/>
            <a:ext cx="4114800" cy="838080"/>
            <a:chOff x="1828800" y="1219320"/>
            <a:chExt cx="4114800" cy="838080"/>
          </a:xfrm>
        </p:grpSpPr>
        <p:sp>
          <p:nvSpPr>
            <p:cNvPr id="225" name=""/>
            <p:cNvSpPr/>
            <p:nvPr/>
          </p:nvSpPr>
          <p:spPr>
            <a:xfrm>
              <a:off x="3276720" y="1219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amed union with two data members. They share the same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828800" y="1371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724280" y="4191120"/>
            <a:ext cx="4114800" cy="2040840"/>
            <a:chOff x="4724280" y="4191120"/>
            <a:chExt cx="4114800" cy="2040840"/>
          </a:xfrm>
        </p:grpSpPr>
        <p:sp>
          <p:nvSpPr>
            <p:cNvPr id="228" name=""/>
            <p:cNvSpPr/>
            <p:nvPr/>
          </p:nvSpPr>
          <p:spPr>
            <a:xfrm>
              <a:off x="6172200" y="419112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will print the integ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gram output is implementation dependent, but will show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are represented differen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72428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82AF-53A7-40B7-AB66-90D08774DE2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.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100.0 to member 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t a value in the floating memb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d print both members.\nint:  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value.integ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.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4382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 a value in the integer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-9.25596e+0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 a value in the floating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9E52-8ECB-4857-9ADF-8C6E921FF7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20.9: fig20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anonymous un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clare an anonymous union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mbers integer1, double1 and charPtr share the same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;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;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harPtr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nonymous union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clare local varia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har2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nonymou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23880" y="1905120"/>
            <a:ext cx="4114800" cy="1067400"/>
            <a:chOff x="1523880" y="1905120"/>
            <a:chExt cx="4114800" cy="1067400"/>
          </a:xfrm>
        </p:grpSpPr>
        <p:sp>
          <p:nvSpPr>
            <p:cNvPr id="236" name=""/>
            <p:cNvSpPr/>
            <p:nvPr/>
          </p:nvSpPr>
          <p:spPr>
            <a:xfrm>
              <a:off x="2971800" y="1905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anonymous union. The data members can be accessed without using a union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523880" y="2057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5847-8C01-47D2-858F-C40C38B50A8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 value to each union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ccessively and print ea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ger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integer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double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double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har2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har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harPt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96252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onymous u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46EA-CCD5-4851-A318-C4AE15D6E20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13  Linkage Specif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ll compiled C functions from C++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 does not encode function names like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ds to problems li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age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link properly, tell compiler that function compiled in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ingl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"C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multipl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"C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1C66-4A1F-468B-9A92-7CBC13E6096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directing Input/Output on UNIX 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output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program appends to end of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myProgram &gt;&gt; my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goes to en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0E33-C3FD-4531-896C-0345C9AD9E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++, we use 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-length arguments for programmers working with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functions with unspecified number of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ar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llipsi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t end of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last item in parameter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one named parameter before elli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myFunction(int i, …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EC47-9EFE-4901-ACD5-B63F3B2BEA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(inside fun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bjec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s data needed by other 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list my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mac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is last parameter before ellipsis st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start( myList, i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B4D1-F5D8-425F-84F1-5FD3BC5C3B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arguments with mac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a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is the expected type of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g = va_arg( myList, doubl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different data types for different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mac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end( myLis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3DEA-8ABA-4368-BD20-B33C6877F7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20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20.2: fig20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Using variable-length argument lis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iosflag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cstdar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...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7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4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61960" y="3048120"/>
            <a:ext cx="4115160" cy="838080"/>
            <a:chOff x="2361960" y="3048120"/>
            <a:chExt cx="4115160" cy="838080"/>
          </a:xfrm>
        </p:grpSpPr>
        <p:sp>
          <p:nvSpPr>
            <p:cNvPr id="106" name=""/>
            <p:cNvSpPr/>
            <p:nvPr/>
          </p:nvSpPr>
          <p:spPr>
            <a:xfrm>
              <a:off x="380988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ellipsis in the prototype, and one defined argument before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3619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5041-4C64-45BE-A4BB-06705D8EC2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9:56:27Z</dcterms:created>
  <dc:creator>kalid</dc:creator>
  <dc:description/>
  <dc:language>en-US</dc:language>
  <cp:lastModifiedBy>Pearson Education</cp:lastModifiedBy>
  <dcterms:modified xsi:type="dcterms:W3CDTF">2002-09-03T14:50:44Z</dcterms:modified>
  <cp:revision>580</cp:revision>
  <dc:subject/>
  <dc:title>PowerPoint Presentation</dc:title>
</cp:coreProperties>
</file>