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3933-5513-41C3-B93C-8B3AE222E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1727-821D-4C2E-8E1F-C30391B90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1A52-4AD6-449B-998D-9071C7F6B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FF2A-E7B7-4221-B8E6-B3C3211F2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BA02-152F-472B-BB9D-87166F7A35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1862-5AE1-4F98-9342-E4C84572AD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57A0-E543-4103-89B7-64CB17EE60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ACD2-9C54-4CED-96D0-E02F56C7D7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E93B-4A79-49BC-8B81-F482AA774A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0765-E6AD-4352-BBA7-395CF24BD6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33C8-9097-4386-BD61-9D75EE0349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7BAC-C105-41A2-B727-2564075AA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FDA2-6E4C-4C02-B3AF-161E10731C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4610-AA0D-4DFE-AABC-4E1CCB085F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D8C3-CFB9-49B2-9A06-26FDF69608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0626-5A0F-4B1B-A0BB-CEBF02302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E7AF-DEA4-4A44-8A63-1CBB6F4A1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200E-EC5C-44D7-8B4A-B45DF6819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5CF1-D9A0-4F00-B9CF-A22820235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1192-333C-4468-A9C6-BD6746E5B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3178-F407-43E8-827B-26417D909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B1AC-1BE7-4E25-BB0F-616A92E5A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6366-3873-44C2-A077-B4CC6DAAC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DF5B-9345-4758-A4FE-337ACFBCA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EC30-C1FC-4C56-BAA3-EFB5F1873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914A-5D9F-4C7A-9F10-A9A821997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9 - The Preprocessor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97080"/>
            <a:ext cx="7772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include Preprocessor Dir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define Preprocessor Directive: Symbolic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define Preprocessor Directive: Mac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ditional 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error and #pragma Preprocessor Dir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# and ##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in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edefined Symbolic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9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sser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3514-A6D5-44E5-9137-F83D65D1AF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eprocessor directives and comp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evaluate cast expression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numeration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similar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!defined(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NUL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s if symbolic consta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fined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ined( NULL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ski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0A7A-04A5-44FA-AEA7-4AD0528729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l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"else if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ort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defined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n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ort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!defined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61FF-3042-494E-B89E-35903408D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omment out"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* ... *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C-style com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ne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,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de comment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enable code, chan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96E3-1586-4029-8B47-21B8C2CAE2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DEBU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def DE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rr &lt;&lt; "Variable x = " &lt;&lt; x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BU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nables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code corr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ugging statements are now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8521-50AA-4719-B3EC-A61A95E685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error and #pragma Preprocessor Directiv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error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implementation-dependent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s are groups of characters separated by 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rror 1 - Out of range 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6 to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ation may stop (depends on compil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pragma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s depend on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use compiler-specific o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recogniz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pragm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re ign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4437-21B3-4797-B2F4-9F1401EB25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 and ##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ment text token converted to string with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efine HELLO( x ) cout &lt;&lt; "Hello, " #x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ELLO( JOHN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Hello, " "John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Hello, John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atenates two tok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TOKENCONCAT( x, y )  x ## 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CONCAT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21CD-5400-4DE1-BE61-E23F2A2157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e Nu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numbers subsequent code lines, starting with 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line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name can be inclu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line 100 "file1.cpp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source code line is numbe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rror purposes, file nam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ile1.cpp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ake syntax errors more meaning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numbers do not appear in sourc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FA8A-2EDD-4975-86F9-CA5334664F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edefined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predefined symbolic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und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1120" y="2211480"/>
          <a:ext cx="774360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211480"/>
                    <a:ext cx="77436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5E8C-A604-4D4E-8F53-C8E07EAB06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0  Asser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assert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s value of an exp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rints error message,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s program, prints line number an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checking for illeg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program continues as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ssert( x &lt;= 1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mov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to delete them man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 NDEB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ubsequ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BFDF-0767-48FC-BF35-1E7387AD50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curs before program comp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external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symbolic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comp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directives begi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have whitespace before dir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ives not C++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en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1A47-914F-4629-BB19-7465B78684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include Preprocessor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copy of file in place of dir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n many times in examp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fo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file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tandard library header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predesignated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"filenam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in current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used for programmer-defined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3375-23A1-4710-AF44-F59E950F44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include Preprocessor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ing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ith multiple sourc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mmon declarations and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, structures, enumerations, 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 commonality of multiple program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56EE-462D-48A9-A809-AF367406BE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mbolic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s represented as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rogram compiled, all occurrences re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ier replacement-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PI 3.141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to right of identifier replaces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PI=3.141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plac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=3.14159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bably 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nnot redefine symbolic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1FA1-804F-4F88-AD77-8E30466B9D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n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not be seen by debugger (only replacement t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have specific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0ED5-5F3C-438D-8590-4F8470157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 specifi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ded for legacy C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ro without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like a symbolic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ro with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substituted for replacemen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 exp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a text substit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ata typ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6B5B-CF14-4EFC-BE66-1F1ED89784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CIRCLE_AREA( x ) ( PI * ( x ) * ( x )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ea = CIRCLE_AREA( 4 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ea = ( 3.14159 * ( 4 ) * ( 4 )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aren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them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CIRCLE_AREA( x )  PI * x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= CIRCLE_AREA( c +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.14159 * c + 2 * c +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valuates incorrectl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C311-2492-4DB4-905C-46C7467C5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9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#define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ultipl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RECTANGLE_AREA( x, y )  ( ( x ) * ( y )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rea = RECTANGLE_AREA( a + 4, b + 7 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Area = ( ( a + 4 ) * ( b + 7 ) )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un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fines symbolic constant or mac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later be re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3E38-C0E7-45F5-8CEF-0D8CDBC8D4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18:28:48Z</dcterms:created>
  <dc:creator>kalid</dc:creator>
  <dc:description/>
  <dc:language>en-US</dc:language>
  <cp:lastModifiedBy>Pearson Education</cp:lastModifiedBy>
  <dcterms:modified xsi:type="dcterms:W3CDTF">2002-08-29T20:10:18Z</dcterms:modified>
  <cp:revision>209</cp:revision>
  <dc:subject/>
  <dc:title>Chapter 19 - The Preprocessor</dc:title>
</cp:coreProperties>
</file>