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7652-A4A2-4E8F-9973-E743EC54F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00EB-9935-46D6-BEFB-4188CAECA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CA78-67E0-4449-90C7-B397C7065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4DAA-23A2-4B79-B73D-4D5A661FB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C634-3B8A-48B7-B634-4E7C91EB5B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F438-E0DC-43BE-8CB5-086C57C45A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AC1F-BB05-4EC2-A9BA-FC6087A76B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41AB-00F1-45C8-95A3-0433864347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1D47-9975-4627-B763-AC7F51596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8CA9-42BE-4152-B2D6-263C0A76AC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528B-51D9-41AD-BC95-CFCC99FB0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C7C9-57A8-489B-BD22-C5C190E61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CD8D-548E-4989-84F8-24A86C6D8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F775-543F-4743-90F0-90F7E0B7A8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E0B1-49FB-4436-BCAB-4E5A5D04E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9191-E65A-49D0-AAC2-E5E4BEF49F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727E-1BDE-41C7-AEBC-D60871F52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8342-E94A-42AE-9772-12CE4DB2F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2F0A-9FE0-4DD1-993A-69F9C3F45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68EC-DC5F-4DEC-BF2C-D8E555F31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AAD9-8DFF-431B-8363-3408E1537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8CFA-FC3F-492C-8BA7-EADD2634C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4F01-6D2D-4F14-961A-7E44E5921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D39B-B8ED-48FD-AC4A-B085088CE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2E8-CA82-43C3-BC25-F27481A4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27B0-D745-483F-9B5A-236479F60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8 - Bits, Characters, String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3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lizing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4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ing Structures with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5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ype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6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High-Performance Card-Shuffling and Deal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7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twis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8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9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acter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0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ing-Conversion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 Functions of the String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1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mory Functions of the String-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CD4F-7B9A-489D-8CD3-2590AB254A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High-Performance Card-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ards into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deck[ 52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uffle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 random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 the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hrough deck, pr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DD3F-85F3-441D-84BB-FB46026771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: fig18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huffling and dealing program using structur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tructur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{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ucture Card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3048120"/>
            <a:ext cx="4114800" cy="2361960"/>
            <a:chOff x="2209680" y="3048120"/>
            <a:chExt cx="4114800" cy="2361960"/>
          </a:xfrm>
        </p:grpSpPr>
        <p:sp>
          <p:nvSpPr>
            <p:cNvPr id="128" name=""/>
            <p:cNvSpPr/>
            <p:nvPr/>
          </p:nvSpPr>
          <p:spPr>
            <a:xfrm>
              <a:off x="365760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. In functions, it is used like any other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96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666880" y="3200400"/>
              <a:ext cx="9907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1E2E-90B7-49AA-A022-640073D5C5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ard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u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r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v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r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am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u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pa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llDeck( deck, face, su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uffle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8158-AD61-42C4-95CD-8CD0EB15FD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strings into Card struct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Face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Suit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face = wFace[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suit = wSuit[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ll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d temp = wDeck[ i ]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 = wDeck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j ] = temp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uff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9880" y="304920"/>
            <a:ext cx="4114800" cy="1067400"/>
            <a:chOff x="3809880" y="304920"/>
            <a:chExt cx="4114800" cy="1067400"/>
          </a:xfrm>
        </p:grpSpPr>
        <p:sp>
          <p:nvSpPr>
            <p:cNvPr id="136" name=""/>
            <p:cNvSpPr/>
            <p:nvPr/>
          </p:nvSpPr>
          <p:spPr>
            <a:xfrm>
              <a:off x="5257800" y="304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every face and suit. Note format for accessing a data member in an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09880" y="457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29000" y="2590920"/>
            <a:ext cx="4114800" cy="1067400"/>
            <a:chOff x="3429000" y="2590920"/>
            <a:chExt cx="4114800" cy="1067400"/>
          </a:xfrm>
        </p:grpSpPr>
        <p:sp>
          <p:nvSpPr>
            <p:cNvPr id="139" name=""/>
            <p:cNvSpPr/>
            <p:nvPr/>
          </p:nvSpPr>
          <p:spPr>
            <a:xfrm>
              <a:off x="487692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ick a random car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0-51) and swap with current card. Notice the use of structure 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4290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74C6-323F-4950-A7DB-B097BFE8CC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al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righ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i ].fac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i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88D9-B6E6-419D-B90C-111089A961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Clubs            T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Diamonds        Jack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Spades          Fiv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Spades          King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Clubs          Eight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  Six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Diamonds        Nin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Diamonds       Que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Clubs          Sev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Diamonds        Jack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Spades          King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Diamonds        Four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Fiv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Clubs            Ac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Spades           Ac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Eight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  Six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Diamonds        Nin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Clubs          Queen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Clubs          Queen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Hearts          Fiv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 Jack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Hearts           Ac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Spades          Four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Spades           Six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Spades          King of Spad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3C6A-FDE6-4B47-8241-63E227900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presented internally as sequences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bit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 bits form a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ne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ata types larg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 software requires bit and byte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ng systems, 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5376-71EB-4995-B9CC-901A2F6A3C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ar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A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both bi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in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ither 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ex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xactly one bi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bits ar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itwise one's compl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p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364B-BB59-4F7B-A855-0C393B167A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left shi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all bits left by specified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s from right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&lt;&lt; SHIFT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ight shift with sign exten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bits right by specified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 from left can 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0C01-3850-4F1C-9EC1-0290A9A879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values in their binary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unsigned integ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0000 00000000 00000000 00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a machine with 4-byte integ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stores number in this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with specific bits set to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hide some bits while selecting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ith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23A2-87F8-455F-BCF4-40E5162443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, bits, characters, C-sty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-like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C++ programmers working with legacy C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ld variables of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classes, but all data member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ine how to use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card shuffling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5575-8F12-4E98-83D9-967B3CB9F9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want to see leftmost bit of a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with mas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00 00000000 00000000 0000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a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10101 10110000 10101100 0001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eftmost bit of 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AND will be nonzero (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most bit of result will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bits are "masked off" (AND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eftmost bit of 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AND will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al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C0AD-9825-455A-B574-C063AAC56C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int every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leftmost 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 number 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mask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00000 … 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many bi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(unsigned) *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 with mask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 one less time (mask is already on first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&lt;&lt; sizeof(unsigned) * 8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00000 00000000 00000000 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0C15-4B9F-4E2E-830F-D894337431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5: fig18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n unsigned integer in bi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unsigned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pu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inpu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E704-7780-46E0-81B2-B811C89E82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unsigned integer: 6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5000 = 00000000 00000000 11111101 1110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0" y="990360"/>
            <a:ext cx="6629400" cy="1114560"/>
            <a:chOff x="2286000" y="990360"/>
            <a:chExt cx="6629400" cy="1114560"/>
          </a:xfrm>
        </p:grpSpPr>
        <p:sp>
          <p:nvSpPr>
            <p:cNvPr id="163" name=""/>
            <p:cNvSpPr/>
            <p:nvPr/>
          </p:nvSpPr>
          <p:spPr>
            <a:xfrm>
              <a:off x="3276720" y="1524240"/>
              <a:ext cx="5638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IFT = 32 - 1 = 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SK = 10000000 00000000 00000000 000000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86000" y="99036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581280" y="2401920"/>
            <a:ext cx="5029200" cy="824040"/>
            <a:chOff x="3581280" y="2401920"/>
            <a:chExt cx="5029200" cy="824040"/>
          </a:xfrm>
        </p:grpSpPr>
        <p:sp>
          <p:nvSpPr>
            <p:cNvPr id="166" name=""/>
            <p:cNvSpPr/>
            <p:nvPr/>
          </p:nvSpPr>
          <p:spPr>
            <a:xfrm>
              <a:off x="5943600" y="2401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wise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it is nonzero (true), then the leftmost dig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581280" y="2401920"/>
              <a:ext cx="236232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04760" y="2577960"/>
            <a:ext cx="3733920" cy="1372320"/>
            <a:chOff x="1904760" y="2577960"/>
            <a:chExt cx="3733920" cy="1372320"/>
          </a:xfrm>
        </p:grpSpPr>
        <p:sp>
          <p:nvSpPr>
            <p:cNvPr id="169" name=""/>
            <p:cNvSpPr/>
            <p:nvPr/>
          </p:nvSpPr>
          <p:spPr>
            <a:xfrm>
              <a:off x="2971800" y="2882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f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eft by 1 to examine next bit. 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same 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alue = value &lt;&lt;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904760" y="257796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C17F-F08D-4D4A-AF3A-A5EF2B945F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amp;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|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xclusive O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^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ompl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Left shift and right shi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A8AF-876F-4C17-9FCA-0D40750513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7: fig18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bitwise AND, bitwise inclusive OR, bitwi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clusive OR and bitwise complement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s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it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AF70-52AD-4E0A-B6CF-C03006EFA1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798763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s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mas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AND operator &amp;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amp; mas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|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it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setBi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inclusive OR operator |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| setBit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exclusive 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combining the follow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ing the bitwise exclusive OR operator ^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^ number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AAC4-6F8A-4497-8C75-209A1018B1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comp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8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one's complement of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~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50F0-5B1B-44E7-B294-FDAEB8A21A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4300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79876355 = 10000001 11101110 01000110 0000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AND operator &amp;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 = 00000000 00000000 00000000 0000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1 = 00000000 00000000 00000000 1111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inclusive OR operator |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5 = 00000000 00000000 00000000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39 = 00000000 00000000 00000000 1000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99 = 00000000 00000000 00000000 1100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bitwise exclusive OR operator ^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6 = 00000000 00000000 00000000 01001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ne's compl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845 = 00000000 00000000 01010101 01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94945450 = 11111111 11111111 10101010 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0B63-C3B8-436B-AC84-EF4EE93D58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1: fig18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bitwise shift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left shi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sult of left shift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bit positions using the lef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ft operator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F6BF-D23F-40FF-AE95-92086602B5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tructur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eclare variable of structur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/functions declared with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members need unique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cannot contain instance of itself, only a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 does not reserve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 ends with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74BF-3BA1-42D7-AE8F-65E666D08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bitwise right shi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sult of right shift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bit positions using the righ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ift operator i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splayBits( number1 &gt;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bits of an unsigned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splayBit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I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( value &amp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MAS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1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&lt;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 value left by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 space after 8 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55C2-F9C5-44A5-B46E-C8D9FD9661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isplayB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14300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left shi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0 = 00000000 00000000 00000011 1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bit positions using the left shift operato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760 = 00000000 00000011 11000000 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 of right shi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0 = 00000000 00000000 00000011 1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bit positions using the right shift operato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= 00000000 00000000 00000000 0000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4E25-D7FF-4772-A2DA-4930DDED2B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fiel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f structure whose size (in bits) has been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better memory uti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BitCar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face :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suit :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color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with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width must be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1E67-2E4B-4CC8-8AFE-309D710C24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bit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like any other structure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BitCar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face :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suit :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igned color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Card.face = 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4 bits, can store valu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D52B-E912-4DBC-BA03-D7424716C2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4: fig18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ing cards with bit fields in a stru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tCard structure definition with bit f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{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 bits; 0-15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it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 bits; 0-3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 bit; 0-1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uct BitBar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itCard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llDeck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81080" y="2057400"/>
            <a:ext cx="4114800" cy="838080"/>
            <a:chOff x="1981080" y="2057400"/>
            <a:chExt cx="4114800" cy="838080"/>
          </a:xfrm>
        </p:grpSpPr>
        <p:sp>
          <p:nvSpPr>
            <p:cNvPr id="196" name=""/>
            <p:cNvSpPr/>
            <p:nvPr/>
          </p:nvSpPr>
          <p:spPr>
            <a:xfrm>
              <a:off x="34290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bit fields inside a structure to store car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9810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FE87-699A-460B-A359-34580ED707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Bit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llDeck(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face =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suit =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i ].color = i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ll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371600"/>
            <a:ext cx="4114800" cy="838080"/>
            <a:chOff x="3429000" y="1371600"/>
            <a:chExt cx="4114800" cy="838080"/>
          </a:xfrm>
        </p:grpSpPr>
        <p:sp>
          <p:nvSpPr>
            <p:cNvPr id="201" name=""/>
            <p:cNvSpPr/>
            <p:nvPr/>
          </p:nvSpPr>
          <p:spPr>
            <a:xfrm>
              <a:off x="4876920" y="1371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gn to bit fields as normal, but be careful of each field's ra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4290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51EE-0935-4986-B8F9-279DF21304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ards in two column format; cards 0-25 subscript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k1 (column 1); cards 26-51 subscripted k2 (column 2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Card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k2 = k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1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1++, k2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fa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ui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1 ].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d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ui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sui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wDeck[ k2 ].col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09E3-0944-4213-AFCD-408E7A5058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0  Suit: 0  Color: 0   Card:  0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1  Suit: 0  Color: 0   Card:  1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2  Suit: 0  Color: 0   Card:  2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3  Suit: 0  Color: 0   Card:  3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4  Suit: 0  Color: 0   Card:  4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5  Suit: 0  Color: 0   Card:  5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6  Suit: 0  Color: 0   Card:  6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7  Suit: 0  Color: 0   Card:  7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8  Suit: 0  Color: 0   Card:  8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9  Suit: 0  Color: 0   Card:  9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0  Suit: 0  Color: 0   Card: 10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1  Suit: 0  Color: 0   Card: 11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2  Suit: 0  Color: 0   Card: 12  Suit: 2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0  Suit: 1  Color: 0   Card:  0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1  Suit: 1  Color: 0   Card:  1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2  Suit: 1  Color: 0   Card:  2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3  Suit: 1  Color: 0   Card:  3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4  Suit: 1  Color: 0   Card:  4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5  Suit: 1  Color: 0   Card:  5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6  Suit: 1  Color: 0   Card:  6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7  Suit: 1  Color: 0   Card:  7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8  Suit: 1  Color: 0   Card:  8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 9  Suit: 1  Color: 0   Card:  9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0  Suit: 1  Color: 0   Card: 10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1  Suit: 1  Color: 0   Card: 11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d: 12  Suit: 1  Color: 0   Card: 12  Suit: 3  Colo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2F29-4BDE-4C20-AA5A-C4ED921F74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fields are not arrays of bits (can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take address of bit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named bit fields to pad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  :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nnamed, zero-width fields to align to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  :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alig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next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84F7-93AF-443A-9584-612CCC85C6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Handl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ctyp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o perform tests and manipulations on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character as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represented by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 allow negativ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s often manipul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ually has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A45D-4E92-4009-833E-F4E5CA194E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like other variables: us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clare variables when defin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uct Card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har *fac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7D47-E807-48DF-8523-EAEAB6CB33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alpha( int c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l character functions ta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letter (A-Z, 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digit (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al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letter or digit (A-Z, a-z, 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xdig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hexadecimal digit (A-F, a-f, 0-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19B3-99F5-4321-9DA3-8510DCB7A7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7: fig18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digit, isalpha, isalnum and isxdigi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rding to isdigi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alpha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&amp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ph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4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etter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76720" y="1523880"/>
            <a:ext cx="5410080" cy="1219320"/>
            <a:chOff x="3276720" y="1523880"/>
            <a:chExt cx="5410080" cy="1219320"/>
          </a:xfrm>
        </p:grpSpPr>
        <p:sp>
          <p:nvSpPr>
            <p:cNvPr id="216" name=""/>
            <p:cNvSpPr/>
            <p:nvPr/>
          </p:nvSpPr>
          <p:spPr>
            <a:xfrm>
              <a:off x="3276720" y="1523880"/>
              <a:ext cx="5410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conditional operat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condi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?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value if tr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value if 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886200" y="2359080"/>
              <a:ext cx="9907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75EA-41F8-4A56-B084-A771E9A4129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alnum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 or a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igit or a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alnum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#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digit or a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xdigi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J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7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7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xdig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f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exadecimal dig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813F-B041-4F4C-BCE8-8211DAF99A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dig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a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 is not a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alpha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 is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 is not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is not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alnum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 is a digit or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a digit or a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is not a digit or a lett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xdig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 is not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 is a hexadecimal dig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E75B-93FE-4466-967C-B28B9F17BA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l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lowercase letter (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up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uppercase letter (A-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olow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assed uppercase letter, returns lowercase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returns original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oup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turns lowercase letter to 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AC20-651D-4C0B-B129-AE9F1BD6E9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8: fig18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lower, isupper, tolower and toupp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rding to islowe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p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P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5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ow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low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!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lowercase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uppe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 is not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d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 is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 is not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8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8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8 is not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0D75-0657-404F-A280-7A9490D6C7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ppercase let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u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7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7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$ converted to upp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upper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$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 converted to lowercase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low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L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D3D8-029E-4961-907D-46253CF6EFC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lowe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 is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 is not a low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uppe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 is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n uppercase let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 converted to uppercase is 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converted to uppercase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converted to uppercase is $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 converted to lowercase is 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688A-FE4B-4DF1-A2BB-1B154E14B09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sp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m f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f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ewli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rriage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r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orizontal ta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t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ertical ta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v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cntr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ontrol character, such as tabs, form feed, aler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backspac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carriage return,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pun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printing character other than space, digit, or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# ( ) [ ] { } ; : 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AF87-6E80-4FE9-9C92-BD9E810842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pr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haracter can be displayed (including 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grap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haracter can be displayed, not including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212C-6A08-4E1B-BB3D-0C5AA2596C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a structure of sam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neCard.f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may not be in consecutive bytes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-alignment (2 or 4 bytes) may cause "hol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6FAC-3771-4A7B-AC58-0AF5D36B28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19: fig18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functions isspace, iscntrl, ispunct, isprint, isgraph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acter-handling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ccording to isspace:\nNewlin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tespace character\nHorizontal tab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whitespace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spac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%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%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tespace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cntrl:\nNewlin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cnt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control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cntr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control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8655-0164-4759-93D1-9C62E85809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punc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;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punctuation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Y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"Y is a"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unctuation charact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un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#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"# is a" 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# 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unctuation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According to isprint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$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$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\nAlert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pr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not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rding to isgraph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graph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Q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 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 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 other than a space\nSpac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isgrap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a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s not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rinting character other than a sp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E9BA-400C-4CF9-8360-95FECC8EB8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spa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line is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rizontal tab is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 is not a whitespace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cntrl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line is a contro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not a contro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pun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s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is not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 is a punctuation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pri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is a printing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 is not a printing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rding to isgrap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 is a printing character other than a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ace is not a printing character other than a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7864-972D-4028-B827-5383F29E05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to numeric values, searching, compari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functions ta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modif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A94B-F726-4609-87B9-D66B58EB20C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atof( const char *n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floating point numb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annot be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toi( const char *nPtr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cannot be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atol( const char *nPtr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ing to long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th 4-bytes,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o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EED3-0C4F-4F6B-A3AC-BFF1DC59125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1: fig18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f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f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 = atof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99.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99.0\" converted to double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converted value divided by 2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d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99.0" converted to double is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divided by 2 is 4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791B-FBCF-4D82-836C-D177D982701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2: fig18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i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i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atoi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93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2593\" converted to int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converted value minus 593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9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57200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2593" converted to int is 25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minus 593 is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3A77-F4B1-483C-9243-7B29F414E31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3: fig18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to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o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ato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0000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tring \"1000000\" converted to long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converted value divided by 2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6483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1000000" converted to long int is 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divided by 2 is 5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0171-8CBC-44A3-A822-BA52E32842B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trtod( const char *nPtr, char **end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first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tha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econd argument to location of first character after converted portion of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tod("123.4this is a test", &amp;stringP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a tes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D799-2195-4E23-A7B3-0BD14FC4E02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4: fig18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d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1.2% are admitt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 = strtod( string1, &amp;string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 is converted to the\ndouble valu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nd the string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410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"51.2% are admitted" is conve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value 51.2 and the string "% are admitt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93A2-1A3A-4AB1-8D15-64CB515DFE9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2-byte boundary for structur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ructure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rst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2-byte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in 1-byte hole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hole undefined, structures may not compare eq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20" y="3505320"/>
            <a:ext cx="8076960" cy="914400"/>
            <a:chOff x="533520" y="3505320"/>
            <a:chExt cx="8076960" cy="914400"/>
          </a:xfrm>
        </p:grpSpPr>
        <p:sp>
          <p:nvSpPr>
            <p:cNvPr id="100" name=""/>
            <p:cNvSpPr/>
            <p:nvPr/>
          </p:nvSpPr>
          <p:spPr>
            <a:xfrm>
              <a:off x="533520" y="3505320"/>
              <a:ext cx="8076960" cy="914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208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33760" y="3961080"/>
              <a:ext cx="101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110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8468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5744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124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8480" y="3652920"/>
              <a:ext cx="166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1560" y="3673800"/>
              <a:ext cx="4762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616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3480" y="4150080"/>
              <a:ext cx="460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024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7920" y="3940560"/>
              <a:ext cx="1123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000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4320" y="3913560"/>
              <a:ext cx="105552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3440" y="3940560"/>
              <a:ext cx="1122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0110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4320" y="3913560"/>
              <a:ext cx="105552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0208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6160" y="3913560"/>
              <a:ext cx="105408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37"/>
                  </a:lnTo>
                  <a:lnTo>
                    <a:pt x="0" y="19937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0B55-3D42-4E1B-A512-6DE54D966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0  String-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strtol( const char *nPtr, char **endPtr, int bas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first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s that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second argument to location of first character after converted portion of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mainder of string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argument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value being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umber 2 - 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octal, decimal, or 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 strto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2E2C-2E65-4250-B1FB-751AEAA5A5E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5: fig18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1234567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remainder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strtol( string1, &amp;remainderPt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string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\nThe converted valu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mainder of the original string is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emainder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The converted value plus 56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24F2-BB9F-4BC6-B12C-7A03FB66BE6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string is "-1234567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is -1234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the original string is "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plus 567 is -1234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BC0F-19A2-4691-B7B6-0C2CEA82E81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6: fig18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u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toul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ab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remainder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strtoul( string1, &amp;remainderPt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string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The converted value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remainder of the original string is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remainder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\nThe converted value minus 567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A94D-113B-44F9-885C-3CBC9D6CB5C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string is "1234567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is 12345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the original string is "abc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onverted value minus 567 is 12340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B0C1-9E57-4D0B-A923-1694A531EE2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 for characters, other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as integer of type return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2E73-DB63-439B-B6BF-0E5E9648FF6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strchr( const char *s, int c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A36C-0D8E-4F8B-BB4D-172A04347E4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8: fig18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a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chr( string1, character1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 was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' was not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chr( string1, character2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haract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was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'' 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haracter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was not found in 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ring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9956-34D3-4DF7-9D94-40742FDCF8F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066680"/>
            <a:ext cx="701028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a' was found in "This is a test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z' was not found in "This is a test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5EA3-CB79-471F-8CF5-CCBF46E7B6A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strcspn( const char *s1, const char *s2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length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does not contain characte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from beginning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pbrk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rchr( const char *s, int c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la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EC8F-C83E-4C61-853F-E518EF5ECD6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itializing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 lists (like ar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oneCard = { "Three", "Hearts" 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-separated values, enclosed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ember unspecified, defaul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 with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one structure to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threeHearts = oneCar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members individu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d threeHe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Hearts.face = “Thre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Hearts.suit = “Heart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EA49-175C-412D-9E77-8DB7245B4C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29: fig18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sp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sp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is 3.14159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9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he length of the initial segment of string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ontaining no characters from string2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cspn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502920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he value is 3.141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12345678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the initial segment of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ing no characters from string2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FEB3-8123-436E-84AB-513D496085F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0: fig18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pbr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pbrk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t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wa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Of the characters in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\n'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*strpbrk( string1, string2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'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the first character to appear in\n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0292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the characters in "bewar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a' is the first character to appear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This is a test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1B7B-62D5-41B9-BED7-D86C9785E90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1: fig18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r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r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 zoo has many animals including zebra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z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mainder of string1 beginning with the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occurrence of character '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c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s char not 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: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rchr( string1, c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2578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tring1 beginning with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 occurrence of character 'z' is: "zebra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4255-351D-4AB0-99B4-1C4E214B239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1  Search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strspn( const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length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contains only character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from beginning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strstr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772E-60D0-4A8D-925D-D1F2CCD51DE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2: fig18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sp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sp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is 3.14159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ehils Tuv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length of the initial segment of string1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ntaining only characters from string2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spn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8E1A-434C-4E2C-988B-AE6FF4F296D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he value is 3.141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aehils Tu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the initial segment of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ing only characters from string2 =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7AE1-62DA-4FB4-9533-938852A71EF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3: fig18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s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st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abcde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f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he remainder of string1 beginning with the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occurrence of string2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str( string1, string2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99E1-9081-488A-9241-7B8C55AEAEB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abcdefabc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= 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tring1 beginning with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occurrence of string2 is: defabcde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97E3-B915-47E5-8121-8D26B4035F7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memory as array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any block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pointers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size (number of by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9328-F3C8-49DB-838B-0B01110E8B9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cpy( void *s1, const void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move( void *s1, const void *s2, size_t n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 if objects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6C59-8EB0-4405-9D67-1433A795609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Structures with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pass structure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entir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individual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pass call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structures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reference to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arrays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structure with array as memb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more effic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3095-5C93-4673-802D-03803A08B5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5: fig18_3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py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 this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mcpy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s2 is copied into s1 with memcpy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contain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105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2 is copied into s1 with memcp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contains "Copy this str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012F-0C92-4190-8B22-DFD318491D1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6: fig18_3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mov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move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[]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Home Sweet Ho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x before memmov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in array x after memmove is: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move( x, &amp;x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8006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before memmove is: Home Swee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after memmove is:  Sweet Hom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15BC-53E5-4CF9-93D8-9AAB09A2CBC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emcmp( const void *s1, const void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(equ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han 0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 &gt; 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than 0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 &lt; 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082B-1949-457E-AC19-E1240357C89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7: fig18_3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m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mp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1, s2, 4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mcmp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1, s2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emcmp( s1, s2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emcmp(s2, s1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mcmp( s2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D754-4D37-4582-8956-FF497BA173E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ABCDEF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ABCDXY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1, s2, 4) =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1, s2, 7) = -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mp(s2, s1, 7) =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E0E2-0E63-4C84-A671-2B709D7260C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2  Memory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chr(const void *s, int c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occurrenc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memset( void *s, int c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3886-5990-43CC-BC54-0981AF08359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8: fig18_3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ch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chr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]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is is a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remainder of s after character 'r'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 found is \"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chr( 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6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"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800600"/>
            <a:ext cx="70102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der of s after character 'r' is found is "r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578A-46BF-4697-82AF-1F656297BC2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8_3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8.39: fig18_3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memse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se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BBBBBBBBBBBB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tring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after memset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memset( string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8006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BBBBBBBB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after memset = bbbbbbbBBBB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BBB2-856B-45E2-A109-84544624D37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ede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synonyms (aliases) for previously defin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reate new type, only an 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horter 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 Card *Car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new type 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synonym for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Ptr my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 my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644A-54AE-4B7E-8678-E3837E479E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11:03Z</dcterms:created>
  <dc:creator>kalid</dc:creator>
  <dc:description/>
  <dc:language>en-US</dc:language>
  <cp:lastModifiedBy>Pearson Education</cp:lastModifiedBy>
  <dcterms:modified xsi:type="dcterms:W3CDTF">2002-08-29T18:53:35Z</dcterms:modified>
  <cp:revision>699</cp:revision>
  <dc:subject/>
  <dc:title>PowerPoint Presentation</dc:title>
</cp:coreProperties>
</file>