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6825-773A-4EF9-958D-8278C21C3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E7B8-DF7C-4AD6-BE6F-968E37B4E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B924-B70E-4DCD-98A6-8AE40F044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F43D-7526-45C5-93CF-CC7BF7F3D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3643-6AA7-460B-AC20-03EEDB68E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6698-F13A-4FA4-85E5-6D9B4A55AB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0030-3A98-465D-AAC6-2686247D2E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84F3-B02E-4885-83A3-0FE5C6B2B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F473-4CA3-408B-A225-83A1DA43E7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267F-E40B-490F-9F59-2619BD6C8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9691-991A-48C0-A1D3-12769356A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3241-7D2B-4A7D-BEA4-FAA34D61D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9F36-CC73-4A45-A83D-861BA4633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23A0-CCAE-49DB-9F0B-1234865B3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A4C5-4C92-4B89-A72C-269FB5DBD8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541A-8BB1-4CC2-8C0D-A44E48AE71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7238-3AD6-4656-BE5E-2E014C7CF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B6B7-433A-40F5-A9B6-3713807CF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22DA-EF26-48D4-B408-65EF1F2F4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8DF8-1FB6-4742-AAE7-5FF414E47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C5B7-64E8-415A-8D9C-0631ECC58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D1B9-0C0A-4EE3-B8F8-6528323CD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5201-32BE-49B3-911F-F7BD2EBED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A35D-2B98-480D-B2B2-A49F34C9E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4199-D646-4B04-A386-354DED39B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7B5-598C-4B54-BFC8-77E9E71B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7 - Data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lf-Referential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ynamic Memory Allocation and Data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inked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7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A9CE-9BC5-404F-AFC0-1DD623AD04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linked lis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node at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node at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node from fr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node from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llowing illus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h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) is before, (b) is af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3BE0-429B-46F8-8A98-D86B114AB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 at fro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90720" y="1219320"/>
            <a:ext cx="7696080" cy="3235320"/>
            <a:chOff x="990720" y="1219320"/>
            <a:chExt cx="7696080" cy="3235320"/>
          </a:xfrm>
        </p:grpSpPr>
        <p:sp>
          <p:nvSpPr>
            <p:cNvPr id="193" name=""/>
            <p:cNvSpPr/>
            <p:nvPr/>
          </p:nvSpPr>
          <p:spPr>
            <a:xfrm>
              <a:off x="990720" y="1219320"/>
              <a:ext cx="7696080" cy="323532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75360" y="1405800"/>
              <a:ext cx="4361400" cy="2806560"/>
              <a:chOff x="2475360" y="1405800"/>
              <a:chExt cx="4361400" cy="2806560"/>
            </a:xfrm>
          </p:grpSpPr>
          <p:sp>
            <p:nvSpPr>
              <p:cNvPr id="195" name=""/>
              <p:cNvSpPr/>
              <p:nvPr/>
            </p:nvSpPr>
            <p:spPr>
              <a:xfrm>
                <a:off x="6070680" y="166896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0960" y="166788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86920" y="240444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96640" y="314028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68160" y="3139200"/>
                <a:ext cx="763920" cy="332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3"/>
                    </a:lnTo>
                    <a:lnTo>
                      <a:pt x="0" y="19943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6200" y="3874680"/>
                <a:ext cx="767880" cy="33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2" y="0"/>
                    </a:moveTo>
                    <a:lnTo>
                      <a:pt x="19972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7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8360" y="3874680"/>
                <a:ext cx="380160" cy="33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90160" y="3140280"/>
                <a:ext cx="380520" cy="334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88360" y="2401560"/>
                <a:ext cx="382320" cy="33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91240" y="1670760"/>
                <a:ext cx="383400" cy="33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91240" y="16696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50720" y="181116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97720" y="16660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2560" y="16660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0040" y="1733760"/>
                <a:ext cx="1591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41680" y="1807200"/>
                <a:ext cx="64800" cy="57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62200" y="183564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51920" y="16660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6067800" y="1666080"/>
                <a:ext cx="384480" cy="339480"/>
                <a:chOff x="6067800" y="1666080"/>
                <a:chExt cx="384480" cy="339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067800" y="166608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21800" y="1733760"/>
                  <a:ext cx="275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6452280" y="16660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04440" y="1405800"/>
                <a:ext cx="96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79520" y="183564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86920" y="2401560"/>
                <a:ext cx="384840" cy="33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46400" y="2543040"/>
                <a:ext cx="64800" cy="576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785120" y="2401560"/>
                <a:ext cx="768960" cy="339120"/>
                <a:chOff x="4785120" y="2401560"/>
                <a:chExt cx="768960" cy="339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169600" y="2401560"/>
                  <a:ext cx="384480" cy="339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785120" y="2401560"/>
                  <a:ext cx="384480" cy="339120"/>
                  <a:chOff x="4785120" y="2401560"/>
                  <a:chExt cx="384480" cy="339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785120" y="2401560"/>
                    <a:ext cx="38448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839120" y="2469240"/>
                    <a:ext cx="274680" cy="24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5169600" y="2401560"/>
                <a:ext cx="384480" cy="33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5200" y="2141280"/>
                <a:ext cx="7365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new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79520" y="257148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75360" y="1420560"/>
                <a:ext cx="248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8728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46400" y="327888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716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92320" y="3137400"/>
                <a:ext cx="384480" cy="339480"/>
                <a:chOff x="4792320" y="3137400"/>
                <a:chExt cx="384480" cy="33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92320" y="313740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04640" y="3205080"/>
                  <a:ext cx="15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341680" y="327888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62200" y="330696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6067800" y="3137400"/>
                <a:ext cx="768960" cy="339480"/>
                <a:chOff x="6067800" y="3137400"/>
                <a:chExt cx="768960" cy="339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452280" y="3137400"/>
                  <a:ext cx="384480" cy="339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6067800" y="3137400"/>
                  <a:ext cx="384480" cy="339480"/>
                  <a:chOff x="6067800" y="3137400"/>
                  <a:chExt cx="384480" cy="3394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6067800" y="3137400"/>
                    <a:ext cx="38448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121800" y="3205080"/>
                    <a:ext cx="274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3" name=""/>
              <p:cNvSpPr/>
              <p:nvPr/>
            </p:nvSpPr>
            <p:spPr>
              <a:xfrm>
                <a:off x="6452280" y="313740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04440" y="2877120"/>
                <a:ext cx="9673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79520" y="3306960"/>
                <a:ext cx="695520" cy="565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9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87280" y="3872880"/>
                <a:ext cx="38448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46400" y="4014360"/>
                <a:ext cx="6480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5120" y="387288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39120" y="3940920"/>
                <a:ext cx="274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35200" y="3612600"/>
                <a:ext cx="7365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new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79520" y="4042800"/>
                <a:ext cx="7052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75360" y="2892240"/>
                <a:ext cx="248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69960" y="3872880"/>
                <a:ext cx="384120" cy="339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28720" y="4014360"/>
                <a:ext cx="65160" cy="57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89080" y="3486960"/>
                <a:ext cx="571680" cy="54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7165"/>
                    </a:lnTo>
                    <a:lnTo>
                      <a:pt x="19963" y="7165"/>
                    </a:lnTo>
                    <a:lnTo>
                      <a:pt x="19963" y="1996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5329080" y="4211280"/>
            <a:ext cx="3662640" cy="1078920"/>
            <a:chOff x="5329080" y="4211280"/>
            <a:chExt cx="3662640" cy="1078920"/>
          </a:xfrm>
        </p:grpSpPr>
        <p:sp>
          <p:nvSpPr>
            <p:cNvPr id="257" name=""/>
            <p:cNvSpPr/>
            <p:nvPr/>
          </p:nvSpPr>
          <p:spPr>
            <a:xfrm>
              <a:off x="5334120" y="4952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Ptr-&gt;nextPtr = fir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329080" y="4211280"/>
              <a:ext cx="4622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3280" y="3451320"/>
            <a:ext cx="3657600" cy="1963800"/>
            <a:chOff x="233280" y="3451320"/>
            <a:chExt cx="3657600" cy="1963800"/>
          </a:xfrm>
        </p:grpSpPr>
        <p:sp>
          <p:nvSpPr>
            <p:cNvPr id="260" name=""/>
            <p:cNvSpPr/>
            <p:nvPr/>
          </p:nvSpPr>
          <p:spPr>
            <a:xfrm>
              <a:off x="233280" y="4591080"/>
              <a:ext cx="3657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newPt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ist empty, t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475000" y="3451320"/>
              <a:ext cx="1415880" cy="11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27DA-8951-4D97-901A-4758F8893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 at ba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371600" y="990720"/>
            <a:ext cx="6477120" cy="3157560"/>
            <a:chOff x="1371600" y="990720"/>
            <a:chExt cx="6477120" cy="3157560"/>
          </a:xfrm>
        </p:grpSpPr>
        <p:sp>
          <p:nvSpPr>
            <p:cNvPr id="264" name=""/>
            <p:cNvSpPr/>
            <p:nvPr/>
          </p:nvSpPr>
          <p:spPr>
            <a:xfrm>
              <a:off x="1371600" y="990720"/>
              <a:ext cx="6477120" cy="3157560"/>
            </a:xfrm>
            <a:prstGeom prst="rect">
              <a:avLst/>
            </a:prstGeom>
            <a:solidFill>
              <a:srgbClr val="ffe699"/>
            </a:solidFill>
            <a:ln w="0">
              <a:solidFill>
                <a:srgbClr val="ffe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49720" y="2889360"/>
              <a:ext cx="324000" cy="32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0760" y="1119240"/>
              <a:ext cx="900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76920" y="1119240"/>
              <a:ext cx="792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43160" y="1166760"/>
              <a:ext cx="2095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31080" y="1136520"/>
              <a:ext cx="620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new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720" y="2889360"/>
              <a:ext cx="324000" cy="323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3280" y="3024360"/>
              <a:ext cx="5544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0760" y="2647800"/>
              <a:ext cx="8143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6920" y="264780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43160" y="2678040"/>
              <a:ext cx="2095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31080" y="2647800"/>
              <a:ext cx="620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new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5040" y="13842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3600" y="1382760"/>
              <a:ext cx="32364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8600" y="1519200"/>
              <a:ext cx="5364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98720" y="13842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98720" y="1382760"/>
              <a:ext cx="32400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32280" y="1519200"/>
              <a:ext cx="5544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59600" y="2890800"/>
              <a:ext cx="3204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57800" y="2890800"/>
              <a:ext cx="3240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92800" y="3025800"/>
              <a:ext cx="5400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8720" y="2890800"/>
              <a:ext cx="32076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8720" y="2890800"/>
              <a:ext cx="3240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2280" y="3025800"/>
              <a:ext cx="55440" cy="554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59600" y="1384200"/>
              <a:ext cx="320400" cy="324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7800" y="1382760"/>
              <a:ext cx="324000" cy="32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92800" y="1519200"/>
              <a:ext cx="54000" cy="540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052800" y="2133720"/>
              <a:ext cx="3906720" cy="323640"/>
              <a:chOff x="3052800" y="2133720"/>
              <a:chExt cx="3906720" cy="3236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310440" y="2133720"/>
                <a:ext cx="647280" cy="322920"/>
                <a:chOff x="6310440" y="2133720"/>
                <a:chExt cx="647280" cy="3229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634080" y="213372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6310440" y="2133720"/>
                  <a:ext cx="323640" cy="322920"/>
                  <a:chOff x="6310440" y="2133720"/>
                  <a:chExt cx="323640" cy="3229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310440" y="2133720"/>
                    <a:ext cx="3236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453360" y="2359800"/>
                    <a:ext cx="36720" cy="7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7" name=""/>
              <p:cNvSpPr/>
              <p:nvPr/>
            </p:nvSpPr>
            <p:spPr>
              <a:xfrm>
                <a:off x="5533920" y="213372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5210280" y="2133720"/>
                <a:ext cx="323640" cy="322920"/>
                <a:chOff x="5210280" y="2133720"/>
                <a:chExt cx="323640" cy="322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210280" y="213372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353560" y="2359800"/>
                  <a:ext cx="36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127400" y="213372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70680" y="2359800"/>
                <a:ext cx="3636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280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95720" y="2360880"/>
                <a:ext cx="3636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5280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87720" y="2180880"/>
                <a:ext cx="25236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3208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21000" y="2180880"/>
                <a:ext cx="14472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35360" y="2134440"/>
                <a:ext cx="32328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211360" y="2134440"/>
                <a:ext cx="324000" cy="322920"/>
                <a:chOff x="5211360" y="2134440"/>
                <a:chExt cx="324000" cy="3229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211360" y="2134440"/>
                  <a:ext cx="32400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246280" y="2180880"/>
                  <a:ext cx="25272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535360" y="2134440"/>
                <a:ext cx="32328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312240" y="2134440"/>
                <a:ext cx="647280" cy="322920"/>
                <a:chOff x="6312240" y="2134440"/>
                <a:chExt cx="647280" cy="3229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635880" y="2134440"/>
                  <a:ext cx="323640" cy="3229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6312240" y="2134440"/>
                  <a:ext cx="323640" cy="322920"/>
                  <a:chOff x="6312240" y="2134440"/>
                  <a:chExt cx="323640" cy="3229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6312240" y="2134440"/>
                    <a:ext cx="3236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406560" y="2198880"/>
                    <a:ext cx="133920" cy="23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663588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77520" y="2136240"/>
                <a:ext cx="322560" cy="32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76440" y="2134440"/>
                <a:ext cx="32364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10360" y="2269080"/>
                <a:ext cx="54720" cy="543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35560" y="229320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53560" y="2134440"/>
                <a:ext cx="322920" cy="320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53560" y="2133720"/>
                <a:ext cx="324000" cy="322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87840" y="2268000"/>
                <a:ext cx="54720" cy="54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11960" y="2291400"/>
                <a:ext cx="59364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052800" y="3641760"/>
              <a:ext cx="3906720" cy="326880"/>
              <a:chOff x="3052800" y="3641760"/>
              <a:chExt cx="3906720" cy="326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3052800" y="3645000"/>
                <a:ext cx="323640" cy="322560"/>
                <a:chOff x="3052800" y="3645000"/>
                <a:chExt cx="323640" cy="322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052800" y="3645000"/>
                  <a:ext cx="323640" cy="32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95720" y="3870360"/>
                  <a:ext cx="370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133520" y="3642480"/>
                <a:ext cx="645120" cy="322200"/>
                <a:chOff x="4133520" y="3642480"/>
                <a:chExt cx="645120" cy="3222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456080" y="3642480"/>
                  <a:ext cx="322560" cy="322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4133520" y="3642480"/>
                  <a:ext cx="322560" cy="322200"/>
                  <a:chOff x="4133520" y="3642480"/>
                  <a:chExt cx="322560" cy="3222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4133520" y="3642480"/>
                    <a:ext cx="32256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275000" y="3867480"/>
                    <a:ext cx="36720" cy="7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5534280" y="364176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5210640" y="3641760"/>
                <a:ext cx="323640" cy="324360"/>
                <a:chOff x="5210640" y="3641760"/>
                <a:chExt cx="323640" cy="324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210640" y="364176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53560" y="3868560"/>
                  <a:ext cx="36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312240" y="3644280"/>
                <a:ext cx="323640" cy="324360"/>
                <a:chOff x="6312240" y="3644280"/>
                <a:chExt cx="323640" cy="3243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312240" y="364428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455160" y="3871440"/>
                  <a:ext cx="3672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05352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99600" y="3709080"/>
                <a:ext cx="2307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1172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57440" y="3709080"/>
                <a:ext cx="2307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312240" y="3644280"/>
                <a:ext cx="323640" cy="324360"/>
                <a:chOff x="6312240" y="3644280"/>
                <a:chExt cx="323640" cy="3243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312240" y="3644280"/>
                  <a:ext cx="323640" cy="324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406560" y="3709080"/>
                  <a:ext cx="13392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6635880" y="3644280"/>
                <a:ext cx="32364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35360" y="3644280"/>
                <a:ext cx="32328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69280" y="3779280"/>
                <a:ext cx="54720" cy="55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15360" y="380664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prstDash val="sysDot"/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54280" y="3642480"/>
                <a:ext cx="322560" cy="32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54280" y="3641760"/>
                <a:ext cx="32400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88560" y="3776760"/>
                <a:ext cx="54360" cy="54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12680" y="380016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74280" y="3646080"/>
                <a:ext cx="323280" cy="32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74280" y="3644280"/>
                <a:ext cx="324000" cy="32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08560" y="3779280"/>
                <a:ext cx="54720" cy="55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532680" y="3803760"/>
                <a:ext cx="593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129560" y="3644280"/>
                <a:ext cx="323640" cy="318960"/>
                <a:chOff x="4129560" y="3644280"/>
                <a:chExt cx="323640" cy="318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129560" y="3644280"/>
                  <a:ext cx="323640" cy="31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223880" y="3706560"/>
                  <a:ext cx="13428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3087720" y="1573200"/>
              <a:ext cx="10800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1720" y="1573200"/>
              <a:ext cx="141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8640" y="1519200"/>
              <a:ext cx="9864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4240" y="3051000"/>
              <a:ext cx="1414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46800" y="3051000"/>
              <a:ext cx="10800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8720" y="3081240"/>
              <a:ext cx="1054080" cy="5605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334120" y="3968640"/>
            <a:ext cx="3657600" cy="1321560"/>
            <a:chOff x="5334120" y="3968640"/>
            <a:chExt cx="3657600" cy="1321560"/>
          </a:xfrm>
        </p:grpSpPr>
        <p:sp>
          <p:nvSpPr>
            <p:cNvPr id="375" name=""/>
            <p:cNvSpPr/>
            <p:nvPr/>
          </p:nvSpPr>
          <p:spPr>
            <a:xfrm>
              <a:off x="5334120" y="49528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-&gt;nex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668920" y="3968640"/>
              <a:ext cx="12240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00600" y="3214440"/>
            <a:ext cx="3657600" cy="3130920"/>
            <a:chOff x="4800600" y="3214440"/>
            <a:chExt cx="3657600" cy="3130920"/>
          </a:xfrm>
        </p:grpSpPr>
        <p:sp>
          <p:nvSpPr>
            <p:cNvPr id="378" name=""/>
            <p:cNvSpPr/>
            <p:nvPr/>
          </p:nvSpPr>
          <p:spPr>
            <a:xfrm>
              <a:off x="4800600" y="5521320"/>
              <a:ext cx="3657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ist empty, t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new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257800" y="3214440"/>
              <a:ext cx="0" cy="23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D02C-BD0F-4445-8BBA-A3BD73FD3C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move from fro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41400" y="914400"/>
            <a:ext cx="7288200" cy="4343400"/>
            <a:chOff x="941400" y="914400"/>
            <a:chExt cx="7288200" cy="4343400"/>
          </a:xfrm>
        </p:grpSpPr>
        <p:sp>
          <p:nvSpPr>
            <p:cNvPr id="382" name=""/>
            <p:cNvSpPr/>
            <p:nvPr/>
          </p:nvSpPr>
          <p:spPr>
            <a:xfrm>
              <a:off x="941400" y="914400"/>
              <a:ext cx="7288200" cy="4343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55720" y="3062160"/>
              <a:ext cx="365400" cy="36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251320" y="3913200"/>
              <a:ext cx="728640" cy="363240"/>
              <a:chOff x="5251320" y="3913200"/>
              <a:chExt cx="728640" cy="363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251320" y="3913200"/>
                <a:ext cx="364320" cy="363240"/>
                <a:chOff x="5251320" y="3913200"/>
                <a:chExt cx="364320" cy="363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251320" y="3913200"/>
                  <a:ext cx="364320" cy="363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12240" y="4167720"/>
                  <a:ext cx="41040" cy="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615640" y="3913200"/>
                <a:ext cx="36432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66480" y="4064400"/>
                <a:ext cx="61560" cy="6156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392200" y="1063440"/>
              <a:ext cx="916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8840" y="1063440"/>
              <a:ext cx="8064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20960" y="1106280"/>
              <a:ext cx="236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6560" y="32144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59120" y="3232080"/>
              <a:ext cx="1206360" cy="66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97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lgDash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92200" y="2763720"/>
              <a:ext cx="916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2763720"/>
              <a:ext cx="8064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0960" y="2806560"/>
              <a:ext cx="236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3280" y="4097160"/>
              <a:ext cx="668520" cy="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5120" y="4992480"/>
              <a:ext cx="8064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emp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560" y="3913200"/>
              <a:ext cx="3636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4120" y="4167000"/>
              <a:ext cx="41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913200"/>
              <a:ext cx="3636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4960" y="3965400"/>
              <a:ext cx="284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195720" y="3913200"/>
              <a:ext cx="365040" cy="365040"/>
              <a:chOff x="3195720" y="3913200"/>
              <a:chExt cx="365040" cy="365040"/>
            </a:xfrm>
          </p:grpSpPr>
          <p:sp>
            <p:nvSpPr>
              <p:cNvPr id="405" name=""/>
              <p:cNvSpPr/>
              <p:nvPr/>
            </p:nvSpPr>
            <p:spPr>
              <a:xfrm>
                <a:off x="3195720" y="3915000"/>
                <a:ext cx="363960" cy="36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95720" y="3913200"/>
                <a:ext cx="365040" cy="36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46920" y="4065120"/>
                <a:ext cx="61560" cy="615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403880" y="3913200"/>
              <a:ext cx="3632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040280" y="3913200"/>
              <a:ext cx="363600" cy="363240"/>
              <a:chOff x="4040280" y="3913200"/>
              <a:chExt cx="363600" cy="363240"/>
            </a:xfrm>
          </p:grpSpPr>
          <p:sp>
            <p:nvSpPr>
              <p:cNvPr id="410" name=""/>
              <p:cNvSpPr/>
              <p:nvPr/>
            </p:nvSpPr>
            <p:spPr>
              <a:xfrm>
                <a:off x="4040280" y="3913200"/>
                <a:ext cx="36360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00480" y="4168080"/>
                <a:ext cx="4140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402080" y="3914640"/>
              <a:ext cx="3636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52920" y="40640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9920" y="409248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7120" y="3965400"/>
              <a:ext cx="162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3913200"/>
              <a:ext cx="3650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481800" y="3913200"/>
              <a:ext cx="363600" cy="363240"/>
              <a:chOff x="6481800" y="3913200"/>
              <a:chExt cx="363600" cy="363240"/>
            </a:xfrm>
          </p:grpSpPr>
          <p:sp>
            <p:nvSpPr>
              <p:cNvPr id="418" name=""/>
              <p:cNvSpPr/>
              <p:nvPr/>
            </p:nvSpPr>
            <p:spPr>
              <a:xfrm>
                <a:off x="6481800" y="3913200"/>
                <a:ext cx="363600" cy="363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42360" y="4167720"/>
                <a:ext cx="41400" cy="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846840" y="3914640"/>
              <a:ext cx="365040" cy="36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8880" y="135072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57520" y="135072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06560" y="15015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880" y="306540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09960" y="4556160"/>
              <a:ext cx="36504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60440" y="470664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5360" y="3913200"/>
              <a:ext cx="361800" cy="363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95560" y="4167000"/>
              <a:ext cx="414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4960" y="3965400"/>
              <a:ext cx="285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97160" y="3914640"/>
              <a:ext cx="3621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76600" y="2212920"/>
              <a:ext cx="3636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2466720"/>
              <a:ext cx="4140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16200" y="2265120"/>
              <a:ext cx="284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40200" y="221436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7720" y="2212920"/>
              <a:ext cx="36180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3894120" y="2212920"/>
              <a:ext cx="363600" cy="363600"/>
              <a:chOff x="3894120" y="2212920"/>
              <a:chExt cx="363600" cy="363600"/>
            </a:xfrm>
          </p:grpSpPr>
          <p:sp>
            <p:nvSpPr>
              <p:cNvPr id="437" name=""/>
              <p:cNvSpPr/>
              <p:nvPr/>
            </p:nvSpPr>
            <p:spPr>
              <a:xfrm>
                <a:off x="389412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5468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255920" y="2212920"/>
              <a:ext cx="36036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648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90960" y="2265120"/>
              <a:ext cx="162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4560" y="2212920"/>
              <a:ext cx="3650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330960" y="2212920"/>
              <a:ext cx="363600" cy="363600"/>
              <a:chOff x="6330960" y="2212920"/>
              <a:chExt cx="363600" cy="363600"/>
            </a:xfrm>
          </p:grpSpPr>
          <p:sp>
            <p:nvSpPr>
              <p:cNvPr id="443" name=""/>
              <p:cNvSpPr/>
              <p:nvPr/>
            </p:nvSpPr>
            <p:spPr>
              <a:xfrm>
                <a:off x="633096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9152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697800" y="2214360"/>
              <a:ext cx="3632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199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5075280" y="2212920"/>
              <a:ext cx="363600" cy="363600"/>
              <a:chOff x="5075280" y="2212920"/>
              <a:chExt cx="363600" cy="363600"/>
            </a:xfrm>
          </p:grpSpPr>
          <p:sp>
            <p:nvSpPr>
              <p:cNvPr id="447" name=""/>
              <p:cNvSpPr/>
              <p:nvPr/>
            </p:nvSpPr>
            <p:spPr>
              <a:xfrm>
                <a:off x="5075280" y="2212920"/>
                <a:ext cx="363600" cy="363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235480" y="2467440"/>
                <a:ext cx="41400" cy="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5438880" y="2212920"/>
              <a:ext cx="36504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2109960" y="1350720"/>
              <a:ext cx="5101920" cy="3570480"/>
              <a:chOff x="2109960" y="1350720"/>
              <a:chExt cx="5101920" cy="3570480"/>
            </a:xfrm>
          </p:grpSpPr>
          <p:sp>
            <p:nvSpPr>
              <p:cNvPr id="451" name=""/>
              <p:cNvSpPr/>
              <p:nvPr/>
            </p:nvSpPr>
            <p:spPr>
              <a:xfrm>
                <a:off x="2655360" y="30636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01720" y="3913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39560" y="3913920"/>
                <a:ext cx="35784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847560" y="3915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6482880" y="3915000"/>
                <a:ext cx="364320" cy="364320"/>
                <a:chOff x="6482880" y="3915000"/>
                <a:chExt cx="364320" cy="3643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482880" y="391500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82960" y="3967560"/>
                  <a:ext cx="163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252040" y="3913920"/>
                <a:ext cx="728640" cy="364320"/>
                <a:chOff x="5252040" y="3913920"/>
                <a:chExt cx="728640" cy="3643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5252040" y="3913920"/>
                  <a:ext cx="364320" cy="364320"/>
                  <a:chOff x="5252040" y="3913920"/>
                  <a:chExt cx="364320" cy="3643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252040" y="3913920"/>
                    <a:ext cx="36432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303520" y="3986640"/>
                    <a:ext cx="25956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1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>
                  <a:off x="5616360" y="391392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767200" y="4065840"/>
                  <a:ext cx="61560" cy="6156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6338520" y="1350720"/>
                <a:ext cx="364320" cy="36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55360" y="1350720"/>
                <a:ext cx="364320" cy="363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09720" y="30636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09960" y="455688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5360" y="3913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96080" y="3915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7660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38040" y="2214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5484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90160" y="2216160"/>
                <a:ext cx="364320" cy="358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97800" y="221400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6333120" y="2214000"/>
                <a:ext cx="364320" cy="364320"/>
                <a:chOff x="6333120" y="2214000"/>
                <a:chExt cx="364320" cy="3643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333120" y="221400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433200" y="2266560"/>
                  <a:ext cx="163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5074920" y="2212920"/>
                <a:ext cx="364320" cy="364320"/>
                <a:chOff x="5074920" y="2212920"/>
                <a:chExt cx="364320" cy="3643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074920" y="2212920"/>
                  <a:ext cx="364320" cy="364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19944"/>
                      </a:move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lnTo>
                        <a:pt x="19944" y="1994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114160" y="2265480"/>
                  <a:ext cx="28476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5439240" y="2212920"/>
                <a:ext cx="364320" cy="364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835360" y="1560240"/>
              <a:ext cx="144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322360" y="4249440"/>
              <a:ext cx="4842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000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37000" y="240480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0040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27400" y="2404800"/>
              <a:ext cx="6681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237636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65680" y="240480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405288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9680" y="4081320"/>
              <a:ext cx="6685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0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1160" y="149832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19960" y="1560240"/>
              <a:ext cx="14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91160" y="3200400"/>
              <a:ext cx="61920" cy="6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519960" y="3262320"/>
              <a:ext cx="144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76320" y="3276720"/>
            <a:ext cx="2514600" cy="1279440"/>
            <a:chOff x="76320" y="3276720"/>
            <a:chExt cx="2514600" cy="1279440"/>
          </a:xfrm>
        </p:grpSpPr>
        <p:sp>
          <p:nvSpPr>
            <p:cNvPr id="497" name=""/>
            <p:cNvSpPr/>
            <p:nvPr/>
          </p:nvSpPr>
          <p:spPr>
            <a:xfrm>
              <a:off x="76320" y="32767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Ptr = fir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622680"/>
              <a:ext cx="6602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859200" y="4280040"/>
            <a:ext cx="4473720" cy="1312920"/>
            <a:chOff x="3859200" y="4280040"/>
            <a:chExt cx="4473720" cy="1312920"/>
          </a:xfrm>
        </p:grpSpPr>
        <p:sp>
          <p:nvSpPr>
            <p:cNvPr id="500" name=""/>
            <p:cNvSpPr/>
            <p:nvPr/>
          </p:nvSpPr>
          <p:spPr>
            <a:xfrm>
              <a:off x="3859200" y="4768920"/>
              <a:ext cx="4473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firstPtr-&gt;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re are no more nod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 = lastPtr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4254120" y="4280040"/>
              <a:ext cx="14292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676520" y="5257440"/>
            <a:ext cx="2514600" cy="1023480"/>
            <a:chOff x="1676520" y="5257440"/>
            <a:chExt cx="2514600" cy="1023480"/>
          </a:xfrm>
        </p:grpSpPr>
        <p:sp>
          <p:nvSpPr>
            <p:cNvPr id="503" name=""/>
            <p:cNvSpPr/>
            <p:nvPr/>
          </p:nvSpPr>
          <p:spPr>
            <a:xfrm>
              <a:off x="1676520" y="59436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 temp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22360" y="5257440"/>
              <a:ext cx="268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E7DC-7B86-4A7F-92FB-DFAF008812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move from bac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990720"/>
            <a:ext cx="7238880" cy="4714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70480" y="237024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326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29240" y="262404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70480" y="237168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32640" y="237168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77040" y="2443320"/>
            <a:ext cx="149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32640" y="237168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70480" y="4048200"/>
            <a:ext cx="3621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32640" y="40482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9240" y="430056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0480" y="404964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632640" y="404964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77040" y="4121280"/>
            <a:ext cx="1490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3264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89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0"/>
                </a:moveTo>
                <a:lnTo>
                  <a:pt x="19944" y="19944"/>
                </a:ln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46720" y="32130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46720" y="3213000"/>
            <a:ext cx="36180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95760" y="3362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84760" y="4835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84760" y="4835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34160" y="4986360"/>
            <a:ext cx="61920" cy="604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14800" y="404352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76960" y="404352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75360" y="4297320"/>
            <a:ext cx="4104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035680" y="2370240"/>
            <a:ext cx="361800" cy="361800"/>
            <a:chOff x="5035680" y="2370240"/>
            <a:chExt cx="361800" cy="361800"/>
          </a:xfrm>
        </p:grpSpPr>
        <p:sp>
          <p:nvSpPr>
            <p:cNvPr id="532" name=""/>
            <p:cNvSpPr/>
            <p:nvPr/>
          </p:nvSpPr>
          <p:spPr>
            <a:xfrm>
              <a:off x="5035680" y="2370240"/>
              <a:ext cx="3618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95520" y="2623320"/>
              <a:ext cx="41040" cy="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39748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35680" y="2370240"/>
            <a:ext cx="361800" cy="361800"/>
            <a:chOff x="5035680" y="2370240"/>
            <a:chExt cx="361800" cy="361800"/>
          </a:xfrm>
        </p:grpSpPr>
        <p:sp>
          <p:nvSpPr>
            <p:cNvPr id="536" name=""/>
            <p:cNvSpPr/>
            <p:nvPr/>
          </p:nvSpPr>
          <p:spPr>
            <a:xfrm>
              <a:off x="5035680" y="2370240"/>
              <a:ext cx="361800" cy="361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19944"/>
                  </a:move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lnTo>
                    <a:pt x="19944" y="1994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74920" y="2422080"/>
              <a:ext cx="281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39748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33640" y="237168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4000" y="237024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0" y="262260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2560" y="237024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9256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0760" y="2373480"/>
            <a:ext cx="361800" cy="355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29040" y="2422440"/>
            <a:ext cx="162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30760" y="40496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4049640"/>
            <a:ext cx="3603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89520" y="4302000"/>
            <a:ext cx="4104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84640" y="404820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89320" y="404964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25720" y="4052880"/>
            <a:ext cx="362160" cy="3556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25800" y="4100400"/>
            <a:ext cx="162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30520" y="2368440"/>
            <a:ext cx="35892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89280" y="262260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3052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8680" y="2422440"/>
            <a:ext cx="282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89440" y="23702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30520" y="4048200"/>
            <a:ext cx="35892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324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89280" y="4300560"/>
            <a:ext cx="414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3052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8680" y="4098960"/>
            <a:ext cx="282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9440" y="4049640"/>
            <a:ext cx="358560" cy="360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9440" y="404964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46200" y="3214800"/>
            <a:ext cx="35892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44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3800" y="336564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46200" y="1525680"/>
            <a:ext cx="35892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46200" y="152568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95600" y="167652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89760" y="1525680"/>
            <a:ext cx="3585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solidFill>
            <a:srgbClr val="4db3e6"/>
          </a:solidFill>
          <a:ln w="6480">
            <a:solidFill>
              <a:srgbClr val="4db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7960" y="1525680"/>
            <a:ext cx="36216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37360" y="1676520"/>
            <a:ext cx="619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44880" y="1244520"/>
            <a:ext cx="1006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fir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7400" y="1244520"/>
            <a:ext cx="88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22600" y="1290600"/>
            <a:ext cx="23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32640" y="237024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19944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9760" y="32148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40600" y="3365640"/>
            <a:ext cx="60120" cy="601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44880" y="2952720"/>
            <a:ext cx="909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fir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37400" y="2952720"/>
            <a:ext cx="801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s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22600" y="2978280"/>
            <a:ext cx="233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5560" y="5291280"/>
            <a:ext cx="800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emp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48000" y="2946240"/>
            <a:ext cx="1125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rent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16600" y="4046400"/>
            <a:ext cx="36180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78400" y="4046400"/>
            <a:ext cx="362160" cy="362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44" y="19944"/>
                </a:moveTo>
                <a:lnTo>
                  <a:pt x="0" y="19944"/>
                </a:lnTo>
                <a:lnTo>
                  <a:pt x="0" y="0"/>
                </a:lnTo>
                <a:lnTo>
                  <a:pt x="19944" y="0"/>
                </a:lnTo>
                <a:lnTo>
                  <a:pt x="19944" y="19944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67360" y="4118040"/>
            <a:ext cx="2588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80200" y="4048200"/>
            <a:ext cx="361800" cy="36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19944" y="0"/>
                </a:lnTo>
              </a:path>
            </a:pathLst>
          </a:custGeom>
          <a:noFill/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0480" y="1676520"/>
            <a:ext cx="15876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30520" y="1736640"/>
            <a:ext cx="15876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4181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51080" y="4210200"/>
            <a:ext cx="6685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34040" y="418140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61040" y="421020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0524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51080" y="2533680"/>
            <a:ext cx="6685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51928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70400" y="254808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2505240"/>
            <a:ext cx="61920" cy="61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89720" y="2533680"/>
            <a:ext cx="6681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0" y="0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195880" y="3424320"/>
            <a:ext cx="1062000" cy="619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896080" y="4411800"/>
            <a:ext cx="404640" cy="57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57680" y="3424320"/>
            <a:ext cx="378000" cy="619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362320" y="4606920"/>
            <a:ext cx="3276360" cy="337320"/>
            <a:chOff x="2362320" y="4606920"/>
            <a:chExt cx="3276360" cy="337320"/>
          </a:xfrm>
        </p:grpSpPr>
        <p:sp>
          <p:nvSpPr>
            <p:cNvPr id="605" name=""/>
            <p:cNvSpPr/>
            <p:nvPr/>
          </p:nvSpPr>
          <p:spPr>
            <a:xfrm>
              <a:off x="2362320" y="460692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Ptr = la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3960" y="4724280"/>
              <a:ext cx="77472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820800" y="628560"/>
            <a:ext cx="4437000" cy="2317680"/>
            <a:chOff x="820800" y="628560"/>
            <a:chExt cx="4437000" cy="2317680"/>
          </a:xfrm>
        </p:grpSpPr>
        <p:sp>
          <p:nvSpPr>
            <p:cNvPr id="608" name=""/>
            <p:cNvSpPr/>
            <p:nvPr/>
          </p:nvSpPr>
          <p:spPr>
            <a:xfrm>
              <a:off x="820800" y="628560"/>
              <a:ext cx="4437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"Walk" list until get next-to-last node, unti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rrentPtr-&gt;nextPtr = las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48000" y="1219320"/>
              <a:ext cx="109872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00800" y="3424320"/>
            <a:ext cx="2681280" cy="1672200"/>
            <a:chOff x="6400800" y="3424320"/>
            <a:chExt cx="2681280" cy="1672200"/>
          </a:xfrm>
        </p:grpSpPr>
        <p:sp>
          <p:nvSpPr>
            <p:cNvPr id="611" name=""/>
            <p:cNvSpPr/>
            <p:nvPr/>
          </p:nvSpPr>
          <p:spPr>
            <a:xfrm>
              <a:off x="6400800" y="4759200"/>
              <a:ext cx="26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 = current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408720" y="3424320"/>
              <a:ext cx="1301760" cy="13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257800" y="5444640"/>
            <a:ext cx="2514600" cy="1023480"/>
            <a:chOff x="5257800" y="5444640"/>
            <a:chExt cx="2514600" cy="1023480"/>
          </a:xfrm>
        </p:grpSpPr>
        <p:sp>
          <p:nvSpPr>
            <p:cNvPr id="614" name=""/>
            <p:cNvSpPr/>
            <p:nvPr/>
          </p:nvSpPr>
          <p:spPr>
            <a:xfrm>
              <a:off x="5257800" y="6130800"/>
              <a:ext cx="2514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 temp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5903640" y="5444640"/>
              <a:ext cx="268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5A60-3FCB-482D-A505-685DC88499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 has two 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two 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ype depends on class temp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manipul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7073-B487-465B-81F9-9CC5323C04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nod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3: listnod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ListNod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declaration of class Lis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Nod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List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ata in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data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xtPtr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ext node in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Lis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828440" y="1066680"/>
            <a:ext cx="4724640" cy="2895840"/>
            <a:chOff x="1828440" y="1066680"/>
            <a:chExt cx="4724640" cy="2895840"/>
          </a:xfrm>
        </p:grpSpPr>
        <p:sp>
          <p:nvSpPr>
            <p:cNvPr id="621" name=""/>
            <p:cNvSpPr/>
            <p:nvPr/>
          </p:nvSpPr>
          <p:spPr>
            <a:xfrm>
              <a:off x="38862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lat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No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type of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pends on how the class template is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828440" y="1600200"/>
              <a:ext cx="20574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B5EF-8C5D-473B-8EBB-F1D1C1951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nod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Node&lt; NODETYPE &gt;::Lis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info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data( info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nex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Nod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py of data in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TYPE ListNode&lt; NODETYPE &gt;::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D76A-33FC-4536-A3FB-5FF9387F41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1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4: lis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List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IS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nod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Nod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List(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AtFr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AtB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NODETYPE &amp;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Back( NODETYPE &amp;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C46D-C1B9-4F84-8C73-78C4ED1B93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2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first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lastPtr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last n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 to allocate new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getNew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NODETYPE &gt;::Lis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firs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las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971440" y="838080"/>
            <a:ext cx="3277080" cy="1419120"/>
            <a:chOff x="2971440" y="838080"/>
            <a:chExt cx="3277080" cy="1419120"/>
          </a:xfrm>
        </p:grpSpPr>
        <p:sp>
          <p:nvSpPr>
            <p:cNvPr id="630" name=""/>
            <p:cNvSpPr/>
            <p:nvPr/>
          </p:nvSpPr>
          <p:spPr>
            <a:xfrm>
              <a:off x="3581280" y="1676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rs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as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2971440" y="83808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3C4A-2015-411C-AD91-C88368E251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size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, str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w and shrink as program ru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d l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/remove items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/remove from top of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line, insert at back, remove from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speed searching/sorting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D989-09B6-4FFD-A70C-3B021808F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3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 NODETYPE &gt;::~Li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Empty() )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oying nodes ..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remaining no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empPtr = curren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tempPtr-&gt;data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Ptr = curren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nodes destroy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i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E994-388E-4040-9A67-9DDEDFD21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4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at front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class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nsertAtFro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wPtr = getNewNod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ewPtr-&gt;nex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At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580920" y="837720"/>
            <a:ext cx="3886560" cy="1648080"/>
            <a:chOff x="3580920" y="837720"/>
            <a:chExt cx="3886560" cy="1648080"/>
          </a:xfrm>
        </p:grpSpPr>
        <p:sp>
          <p:nvSpPr>
            <p:cNvPr id="637" name=""/>
            <p:cNvSpPr/>
            <p:nvPr/>
          </p:nvSpPr>
          <p:spPr>
            <a:xfrm>
              <a:off x="4800600" y="1905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 new node as described in the previous diagram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80920" y="837720"/>
              <a:ext cx="12193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C344-CEF4-4E6D-BD54-A1E2D41867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5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at back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nsertAtB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newPtr = getNewNod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irstPtr =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List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Ptr-&gt;nex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astPtr = new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At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F041-A2C0-4028-A5AE-2AB30FE19D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6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node from front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removeFromFront(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rstPtr == la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las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firs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tempPtr-&gt;data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being remo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BFA9-6A4B-498E-A99D-F256AC376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7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node from back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removeFromBack(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ete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istNode&lt; NODETYPE &gt; *tempPtr = la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irstPtr == last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irstPtr = las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locate second-to-last elem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-&gt;nextPtr != lastPtr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urrentPtr = currentPtr-&gt;nextPtr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stPtr = curren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urrentPtr-&gt;nex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tempPtr-&gt;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CAFB-A1FE-4015-88C6-E5C5F1CFD1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8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removeFrom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List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Pt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pointer to newly allocated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Node&lt; NODETYPE &gt; *List&lt; NODETYPE &gt;::getNewNod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Node&lt; NODETYPE &gt;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New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276360" y="3048120"/>
            <a:ext cx="4115160" cy="1218960"/>
            <a:chOff x="3276360" y="3048120"/>
            <a:chExt cx="4115160" cy="1218960"/>
          </a:xfrm>
        </p:grpSpPr>
        <p:sp>
          <p:nvSpPr>
            <p:cNvPr id="648" name=""/>
            <p:cNvSpPr/>
            <p:nvPr/>
          </p:nvSpPr>
          <p:spPr>
            <a:xfrm>
              <a:off x="4724280" y="3048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to dynamically allocate a n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76360" y="320040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698E-B3A5-4E11-9A4D-2C33210850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st.h (9 of 9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contents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NODETYPE &gt;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"The list is empty\n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Node&lt; NODETYPE &gt; *currentPtr = firs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list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urrent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current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urrentPtr = currentPtr-&gt;nex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9727-2A86-4CEA-B140-5F5B934188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5: fig17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test a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List( List&lt; T &gt; &amp;listObjec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type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a List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value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truction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437920" y="609120"/>
            <a:ext cx="3429360" cy="1891440"/>
            <a:chOff x="2437920" y="609120"/>
            <a:chExt cx="3429360" cy="1891440"/>
          </a:xfrm>
        </p:grpSpPr>
        <p:sp>
          <p:nvSpPr>
            <p:cNvPr id="655" name=""/>
            <p:cNvSpPr/>
            <p:nvPr/>
          </p:nvSpPr>
          <p:spPr>
            <a:xfrm>
              <a:off x="3200400" y="1676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gram to give user a menu to add/remove nodes from a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2437920" y="609120"/>
              <a:ext cx="762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03BD-035C-4326-AEC1-340CEC3735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insertAtFront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ype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in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insertAtBack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Object.removeFromFront( 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moved from lis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CE45-5FF7-4C87-93F9-71BE71898E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listObject.removeFromBack( 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moved from lis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i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d do/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 list test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st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program instructions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truction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one of the following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1 to insert at beginning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2 to insert at end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3 to delete from beginning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4 to delete from end of list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5 to end list processing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stru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91F7-0286-430E-BD9D-A2E7ED7B02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lf-Referential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pointer to object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together to form useful data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s, stacks, queues,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3657600"/>
            <a:ext cx="7467480" cy="833400"/>
            <a:chOff x="685800" y="3657600"/>
            <a:chExt cx="7467480" cy="833400"/>
          </a:xfrm>
        </p:grpSpPr>
        <p:sp>
          <p:nvSpPr>
            <p:cNvPr id="94" name=""/>
            <p:cNvSpPr/>
            <p:nvPr/>
          </p:nvSpPr>
          <p:spPr>
            <a:xfrm>
              <a:off x="685800" y="3657600"/>
              <a:ext cx="7467480" cy="833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993760" y="3849480"/>
              <a:ext cx="2851560" cy="446760"/>
              <a:chOff x="2993760" y="3849480"/>
              <a:chExt cx="2851560" cy="4467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99760" y="3855600"/>
                <a:ext cx="744840" cy="440640"/>
                <a:chOff x="5099760" y="3855600"/>
                <a:chExt cx="74484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099760" y="3855600"/>
                  <a:ext cx="74484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19972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2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10080" y="4039200"/>
                  <a:ext cx="12528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241520" y="3855600"/>
                <a:ext cx="373320" cy="440640"/>
                <a:chOff x="4241520" y="3855600"/>
                <a:chExt cx="373320" cy="4406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24152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394880" y="4039200"/>
                  <a:ext cx="6300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868200" y="3855600"/>
                <a:ext cx="373320" cy="440640"/>
                <a:chOff x="3868200" y="3855600"/>
                <a:chExt cx="373320" cy="440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8682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21560" y="4039200"/>
                  <a:ext cx="6300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993760" y="3849480"/>
                <a:ext cx="373320" cy="441000"/>
                <a:chOff x="2993760" y="3849480"/>
                <a:chExt cx="373320" cy="441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993760" y="3849480"/>
                  <a:ext cx="373320" cy="4410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148200" y="4033080"/>
                  <a:ext cx="63360" cy="7452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241520" y="3855600"/>
                <a:ext cx="372960" cy="440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3868200" y="3855600"/>
                <a:ext cx="373320" cy="440640"/>
                <a:chOff x="3868200" y="3855600"/>
                <a:chExt cx="373320" cy="440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8682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20760" y="3943800"/>
                  <a:ext cx="2667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99040" y="3855600"/>
                <a:ext cx="746280" cy="440640"/>
                <a:chOff x="5099040" y="3855600"/>
                <a:chExt cx="746280" cy="440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72000" y="3855600"/>
                  <a:ext cx="373320" cy="440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5099040" y="3855600"/>
                  <a:ext cx="372960" cy="440640"/>
                  <a:chOff x="5099040" y="3855600"/>
                  <a:chExt cx="372960" cy="4406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5099040" y="3855600"/>
                    <a:ext cx="37296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5151600" y="3943800"/>
                    <a:ext cx="266400" cy="31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1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" name=""/>
              <p:cNvSpPr/>
              <p:nvPr/>
            </p:nvSpPr>
            <p:spPr>
              <a:xfrm>
                <a:off x="4395960" y="4039200"/>
                <a:ext cx="63000" cy="745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4680" y="4075920"/>
                <a:ext cx="684360" cy="1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72000" y="3855600"/>
                <a:ext cx="373320" cy="440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93760" y="3849480"/>
                <a:ext cx="373320" cy="441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48200" y="4033080"/>
                <a:ext cx="63360" cy="745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3480" y="4069800"/>
                <a:ext cx="684360" cy="1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4572000" y="4262400"/>
            <a:ext cx="3429000" cy="1592280"/>
            <a:chOff x="4572000" y="4262400"/>
            <a:chExt cx="3429000" cy="1592280"/>
          </a:xfrm>
        </p:grpSpPr>
        <p:sp>
          <p:nvSpPr>
            <p:cNvPr id="124" name=""/>
            <p:cNvSpPr/>
            <p:nvPr/>
          </p:nvSpPr>
          <p:spPr>
            <a:xfrm>
              <a:off x="4572000" y="5486400"/>
              <a:ext cx="342900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ointer (points to noth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714640" y="4262400"/>
              <a:ext cx="304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0" y="4262040"/>
            <a:ext cx="2173320" cy="1638360"/>
            <a:chOff x="2286000" y="4262040"/>
            <a:chExt cx="2173320" cy="1638360"/>
          </a:xfrm>
        </p:grpSpPr>
        <p:sp>
          <p:nvSpPr>
            <p:cNvPr id="127" name=""/>
            <p:cNvSpPr/>
            <p:nvPr/>
          </p:nvSpPr>
          <p:spPr>
            <a:xfrm>
              <a:off x="2286000" y="5257800"/>
              <a:ext cx="1447920" cy="642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 member and 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67080" y="4262040"/>
              <a:ext cx="65556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67080" y="4262040"/>
              <a:ext cx="109224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3A62-B2E7-4D9D-B0B1-D0BAA0F6D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List of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List( integerLis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List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Li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List( doubleLis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83BD-1223-4637-8F1D-ADF6A58A78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a List of intege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one of the follow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insert at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to insert at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to delete from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to delete from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to end list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AB33-CBA7-40D0-828B-8F42B9D269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lis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7B65-5708-4F2F-9C16-A1656CDB96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a List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one of the follow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insert at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to insert at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to delete from beginning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to delete from end of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to end list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2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double: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6AAA-739F-444B-BA76-9910B77944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removed from l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list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nodes destroy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5404-3C09-4F84-BBBE-57F75B3B9C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link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y linked list (used in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fir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 in one direction (null-termin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ular, singly-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last node points to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y-link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has a forward and backward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 forward or back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node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ular, double-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bove, but first and last node jo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61E8-8961-43EB-8C72-F40113A7C8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can be added/removed from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ed version of link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stack of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tom of stack has null li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sh: add node to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p: remove node from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referenc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BA1D-2E66-4E27-8F2B-59CDC3FF5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s: know how to return to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address pushed on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recent function call on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unction A calls B which calls 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store automatic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ped of stack when no longer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by compil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in the exercises in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92160" y="5013360"/>
            <a:ext cx="3368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15000" y="2374920"/>
            <a:ext cx="18288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B  B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 A  A  A 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082F-2BB3-439B-85A2-71F8BDC082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stack from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 contains a 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operations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stack implementation 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960D-BB5C-4CD2-9E5A-0C6EDB4293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0: stack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definition derived from class 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STACKTYPE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calls List function insertAt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At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calls List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895480" y="914400"/>
            <a:ext cx="4038840" cy="838080"/>
            <a:chOff x="2895480" y="914400"/>
            <a:chExt cx="4038840" cy="838080"/>
          </a:xfrm>
        </p:grpSpPr>
        <p:sp>
          <p:nvSpPr>
            <p:cNvPr id="684" name=""/>
            <p:cNvSpPr/>
            <p:nvPr/>
          </p:nvSpPr>
          <p:spPr>
            <a:xfrm>
              <a:off x="4267080" y="9144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2895480" y="106668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885840" y="2401920"/>
            <a:ext cx="4001040" cy="824040"/>
            <a:chOff x="3885840" y="2401920"/>
            <a:chExt cx="4001040" cy="824040"/>
          </a:xfrm>
        </p:grpSpPr>
        <p:sp>
          <p:nvSpPr>
            <p:cNvPr id="687" name=""/>
            <p:cNvSpPr/>
            <p:nvPr/>
          </p:nvSpPr>
          <p:spPr>
            <a:xfrm>
              <a:off x="4610160" y="240192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hich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sertAtFr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moveFromFro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885840" y="2743200"/>
              <a:ext cx="723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BB68-841B-4DCF-9EB4-2642EF1CF9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lf-Referential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Node {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Node( int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oid setData( int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nt getData() const;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void setNextPtr( Node * 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const Node *getNextPtr() cons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nt data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Node *nextPtr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object call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xt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3C3A-E1CC-45B5-B385-35ECD68EE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StackEmpty calls List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tack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Stack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 calls List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4DAB-CCE3-4CF2-B784-6AB676A485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1: fig17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ck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tack of 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n integer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integers onto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ush( i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integers from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C774-4992-4467-874B-6AB2363C94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tStack.isStack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op( popInte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opInteg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tack of dou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 double Stac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floating-point values onto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ush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rintStack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0669-EC5C-4B44-BE1F-F068A3987C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floating-point values from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Dou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oubleStack.isStack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op( popDoub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opDoubl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opped from 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Stack.printStack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9541-CEAA-4F36-935A-619101760C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n integer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doubl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AB10-B49B-44DD-9219-4369926070E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st is: 4.4 3.3 2.2 1.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popped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E46B-1262-4C7A-B9C9-23217E4E0C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composi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2: stackcomposit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Stack class definition with composed List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CKCOM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ACKCOMPOS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constructor; List constructor does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sh calls stackList object's insertAtFro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List.insertAt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p calls stackList object's removeFromFro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STACK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List.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590560" y="1143000"/>
            <a:ext cx="4115160" cy="838080"/>
            <a:chOff x="2590560" y="1143000"/>
            <a:chExt cx="4115160" cy="838080"/>
          </a:xfrm>
        </p:grpSpPr>
        <p:sp>
          <p:nvSpPr>
            <p:cNvPr id="704" name=""/>
            <p:cNvSpPr/>
            <p:nvPr/>
          </p:nvSpPr>
          <p:spPr>
            <a:xfrm>
              <a:off x="40384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ernative implement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com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5905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676160" y="2057400"/>
            <a:ext cx="5029560" cy="1600200"/>
            <a:chOff x="1676160" y="2057400"/>
            <a:chExt cx="5029560" cy="1600200"/>
          </a:xfrm>
        </p:grpSpPr>
        <p:sp>
          <p:nvSpPr>
            <p:cNvPr id="707" name=""/>
            <p:cNvSpPr/>
            <p:nvPr/>
          </p:nvSpPr>
          <p:spPr>
            <a:xfrm>
              <a:off x="4038480" y="2057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priv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, use to manipulate stac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676160" y="2209680"/>
              <a:ext cx="2361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EED1-8595-48DC-91BE-2AA7C51DC6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kcomposi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StackEmpty calls stackList object's isEmp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tack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List.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Stack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Stack calls stackList objec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ck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List.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ist&lt; STACKTYPE &gt; stackLis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ed Li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8E90-E19B-4C11-83AF-DD6059B7FD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Que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s added to back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removed from front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-in, first-out (FIFO)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/remove called enqueue/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spoo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 wait in queue until printer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ets on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requests from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5D41-F25A-4BFA-AF3E-D768F2CFD17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Que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AtBac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FromFr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D403-67A7-4A45-B686-0F410F6F09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and Data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tain and release memory during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d remove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ype of object to cre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newly creat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de *newPtr = new Node(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 enough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ode's objec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F73B-447F-47EE-BDFC-07FFF46F6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u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3: queu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Queue class definition derived from class Lis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is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s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st&lt; QUEUETYPE &gt;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calls List function insertAtB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que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UE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AtBack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en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calls List function removeFromFro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( QUEUETYPE &amp;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moveFromFront( data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971800" y="1066680"/>
            <a:ext cx="4114800" cy="838440"/>
            <a:chOff x="2971800" y="1066680"/>
            <a:chExt cx="4114800" cy="838440"/>
          </a:xfrm>
        </p:grpSpPr>
        <p:sp>
          <p:nvSpPr>
            <p:cNvPr id="718" name=""/>
            <p:cNvSpPr/>
            <p:nvPr/>
          </p:nvSpPr>
          <p:spPr>
            <a:xfrm>
              <a:off x="4419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 from templat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971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047760" y="1981080"/>
            <a:ext cx="4115160" cy="2362320"/>
            <a:chOff x="3047760" y="1981080"/>
            <a:chExt cx="4115160" cy="2362320"/>
          </a:xfrm>
        </p:grpSpPr>
        <p:sp>
          <p:nvSpPr>
            <p:cNvPr id="721" name=""/>
            <p:cNvSpPr/>
            <p:nvPr/>
          </p:nvSpPr>
          <p:spPr>
            <a:xfrm>
              <a:off x="44956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use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0477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00400" y="2133720"/>
              <a:ext cx="129528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0F37-DFBE-494C-97F4-152F9B9BE67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u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sQueueEmpty calls List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Queue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Queue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Queue calls List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Que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C16C-60EC-42FD-9558-9BEE8E1817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4: fig17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Queu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ue.h"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Queu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Queu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Que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Queue of i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cessing an integer Que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integers onto 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enqueue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integers from int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38A6-6AAB-4908-934E-646765CAEF7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tQueue.isQueue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dequeue( dequeueInteg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equeueInteg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queu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Queue&lt; double &gt; doubleQue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Queue of doub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rocessing a double Que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queue floating-point values onto doubl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enqueue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printQueu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9D86-5F6B-4C45-B386-AC963600A1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queue floating-point values from double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queueDoub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doubleQueue.isQueue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dequeue( dequeueDoubl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equeueDoubl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queu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Queue.printQueu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C12E-C9E5-499A-B23D-354E7FDBADA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n integer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0 1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ing a double Que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9008-EB46-48BD-809D-D389B9689CD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 3.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1.1 2.2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2.2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.2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: 3.3 4.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.3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st is: 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.4 dequeu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ist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nodes destroy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nodes destroy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B093-09CA-430C-9D81-7FB7141DFA2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s, queues, s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linear, two-dimens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 nodes have 2 or more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trees have exactly 2 links/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, both, or one link can be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821D-9608-4CEB-A632-7F657D6DFAC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oot n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rst node on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refer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child is roo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hild is roo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eaf n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de with no child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s drawn from root down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228680" y="4073400"/>
            <a:ext cx="4867200" cy="2403360"/>
            <a:chOff x="1228680" y="4073400"/>
            <a:chExt cx="4867200" cy="2403360"/>
          </a:xfrm>
        </p:grpSpPr>
        <p:sp>
          <p:nvSpPr>
            <p:cNvPr id="741" name=""/>
            <p:cNvSpPr/>
            <p:nvPr/>
          </p:nvSpPr>
          <p:spPr>
            <a:xfrm>
              <a:off x="1228680" y="4073400"/>
              <a:ext cx="4867200" cy="24033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12360" y="43020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6080" y="430992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95520" y="442116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8608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62040" y="4868640"/>
              <a:ext cx="1144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88680" y="4867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69680" y="4867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5284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2280" y="492588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362040" y="4443120"/>
              <a:ext cx="114480" cy="374400"/>
              <a:chOff x="3362040" y="4443120"/>
              <a:chExt cx="114480" cy="374400"/>
            </a:xfrm>
          </p:grpSpPr>
          <p:sp>
            <p:nvSpPr>
              <p:cNvPr id="752" name=""/>
              <p:cNvSpPr/>
              <p:nvPr/>
            </p:nvSpPr>
            <p:spPr>
              <a:xfrm>
                <a:off x="3418200" y="4443120"/>
                <a:ext cx="1080" cy="301680"/>
              </a:xfrm>
              <a:custGeom>
                <a:avLst/>
                <a:gdLst/>
                <a:ahLst/>
                <a:rect l="l" t="t" r="r" b="b"/>
                <a:pathLst>
                  <a:path w="0" h="273">
                    <a:moveTo>
                      <a:pt x="0" y="273"/>
                    </a:moveTo>
                    <a:lnTo>
                      <a:pt x="0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3418200" y="4443120"/>
                <a:ext cx="1080" cy="301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62040" y="47415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0" y="0"/>
                    </a:moveTo>
                    <a:lnTo>
                      <a:pt x="51" y="69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3019320" y="4814640"/>
              <a:ext cx="2649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28760" y="4925880"/>
              <a:ext cx="46080" cy="4752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795400" y="4948200"/>
              <a:ext cx="356760" cy="356760"/>
              <a:chOff x="2795400" y="4948200"/>
              <a:chExt cx="356760" cy="356760"/>
            </a:xfrm>
          </p:grpSpPr>
          <p:sp>
            <p:nvSpPr>
              <p:cNvPr id="758" name=""/>
              <p:cNvSpPr/>
              <p:nvPr/>
            </p:nvSpPr>
            <p:spPr>
              <a:xfrm>
                <a:off x="2846160" y="4948200"/>
                <a:ext cx="306000" cy="307440"/>
              </a:xfrm>
              <a:custGeom>
                <a:avLst/>
                <a:gdLst/>
                <a:ahLst/>
                <a:rect l="l" t="t" r="r" b="b"/>
                <a:pathLst>
                  <a:path w="277" h="278">
                    <a:moveTo>
                      <a:pt x="0" y="278"/>
                    </a:moveTo>
                    <a:lnTo>
                      <a:pt x="277" y="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2846160" y="4948200"/>
                <a:ext cx="306000" cy="307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95400" y="5211360"/>
                <a:ext cx="97200" cy="93600"/>
              </a:xfrm>
              <a:custGeom>
                <a:avLst/>
                <a:gdLst/>
                <a:ahLst/>
                <a:rect l="l" t="t" r="r" b="b"/>
                <a:pathLst>
                  <a:path w="88" h="85">
                    <a:moveTo>
                      <a:pt x="12" y="0"/>
                    </a:moveTo>
                    <a:lnTo>
                      <a:pt x="0" y="85"/>
                    </a:lnTo>
                    <a:lnTo>
                      <a:pt x="88" y="7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686040" y="4948200"/>
              <a:ext cx="355680" cy="356760"/>
              <a:chOff x="3686040" y="4948200"/>
              <a:chExt cx="355680" cy="356760"/>
            </a:xfrm>
          </p:grpSpPr>
          <p:sp>
            <p:nvSpPr>
              <p:cNvPr id="762" name=""/>
              <p:cNvSpPr/>
              <p:nvPr/>
            </p:nvSpPr>
            <p:spPr>
              <a:xfrm>
                <a:off x="3686040" y="4948200"/>
                <a:ext cx="306000" cy="307440"/>
              </a:xfrm>
              <a:custGeom>
                <a:avLst/>
                <a:gdLst/>
                <a:ahLst/>
                <a:rect l="l" t="t" r="r" b="b"/>
                <a:pathLst>
                  <a:path w="278" h="278">
                    <a:moveTo>
                      <a:pt x="278" y="278"/>
                    </a:moveTo>
                    <a:lnTo>
                      <a:pt x="0" y="0"/>
                    </a:lnTo>
                    <a:lnTo>
                      <a:pt x="278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3686040" y="4948200"/>
                <a:ext cx="306000" cy="307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7040" y="5211360"/>
                <a:ext cx="94680" cy="936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75"/>
                    </a:moveTo>
                    <a:lnTo>
                      <a:pt x="86" y="85"/>
                    </a:lnTo>
                    <a:lnTo>
                      <a:pt x="76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293040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62200" y="5305320"/>
              <a:ext cx="266760" cy="26352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39960" y="5357520"/>
              <a:ext cx="112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6660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4760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9544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74920" y="5305320"/>
              <a:ext cx="26676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08160" y="5305320"/>
              <a:ext cx="265320" cy="26352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84480" y="5357520"/>
              <a:ext cx="114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1256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93560" y="53560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41760" y="5305320"/>
              <a:ext cx="266400" cy="2667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620880" y="5438520"/>
              <a:ext cx="153720" cy="296640"/>
              <a:chOff x="3620880" y="5438520"/>
              <a:chExt cx="153720" cy="296640"/>
            </a:xfrm>
          </p:grpSpPr>
          <p:sp>
            <p:nvSpPr>
              <p:cNvPr id="778" name=""/>
              <p:cNvSpPr/>
              <p:nvPr/>
            </p:nvSpPr>
            <p:spPr>
              <a:xfrm>
                <a:off x="3671280" y="5438520"/>
                <a:ext cx="103320" cy="231840"/>
              </a:xfrm>
              <a:custGeom>
                <a:avLst/>
                <a:gdLst/>
                <a:ahLst/>
                <a:rect l="l" t="t" r="r" b="b"/>
                <a:pathLst>
                  <a:path w="94" h="210">
                    <a:moveTo>
                      <a:pt x="0" y="210"/>
                    </a:moveTo>
                    <a:lnTo>
                      <a:pt x="94" y="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671280" y="5438520"/>
                <a:ext cx="103320" cy="231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20880" y="5641560"/>
                <a:ext cx="105480" cy="93600"/>
              </a:xfrm>
              <a:custGeom>
                <a:avLst/>
                <a:gdLst/>
                <a:ahLst/>
                <a:rect l="l" t="t" r="r" b="b"/>
                <a:pathLst>
                  <a:path w="96" h="85">
                    <a:moveTo>
                      <a:pt x="0" y="0"/>
                    </a:moveTo>
                    <a:lnTo>
                      <a:pt x="21" y="85"/>
                    </a:lnTo>
                    <a:lnTo>
                      <a:pt x="96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3730680" y="5734080"/>
              <a:ext cx="266400" cy="26640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63920" y="5734080"/>
              <a:ext cx="264960" cy="26496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39880" y="5786280"/>
              <a:ext cx="114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68320" y="5786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47520" y="5786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7160" y="5734080"/>
              <a:ext cx="266760" cy="266400"/>
            </a:xfrm>
            <a:prstGeom prst="rect">
              <a:avLst/>
            </a:prstGeom>
            <a:solidFill>
              <a:srgbClr val="33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92200" y="5310000"/>
              <a:ext cx="262080" cy="26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03280" y="5742000"/>
              <a:ext cx="262080" cy="261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28880" y="5742000"/>
              <a:ext cx="263520" cy="261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82840" y="5310000"/>
              <a:ext cx="263520" cy="263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71BA-EE85-4235-B062-B33B88B1AC8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in left subtree less than parent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s in right subtree greater than 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allow duplicate values (good way to remove th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searches,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omparisons for a balanced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94920" y="3657600"/>
            <a:ext cx="5730480" cy="2323440"/>
            <a:chOff x="1294920" y="3657600"/>
            <a:chExt cx="5730480" cy="2323440"/>
          </a:xfrm>
        </p:grpSpPr>
        <p:sp>
          <p:nvSpPr>
            <p:cNvPr id="794" name=""/>
            <p:cNvSpPr/>
            <p:nvPr/>
          </p:nvSpPr>
          <p:spPr>
            <a:xfrm>
              <a:off x="1294920" y="3663720"/>
              <a:ext cx="236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61880" y="3661200"/>
              <a:ext cx="4705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59720" y="36576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53920" y="3657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714760" y="3954600"/>
              <a:ext cx="1520280" cy="570960"/>
              <a:chOff x="2714760" y="3954600"/>
              <a:chExt cx="1520280" cy="570960"/>
            </a:xfrm>
          </p:grpSpPr>
          <p:sp>
            <p:nvSpPr>
              <p:cNvPr id="799" name=""/>
              <p:cNvSpPr/>
              <p:nvPr/>
            </p:nvSpPr>
            <p:spPr>
              <a:xfrm>
                <a:off x="2714760" y="3954600"/>
                <a:ext cx="1520280" cy="570960"/>
              </a:xfrm>
              <a:custGeom>
                <a:avLst/>
                <a:gdLst/>
                <a:ahLst/>
                <a:rect l="l" t="t" r="r" b="b"/>
                <a:pathLst>
                  <a:path w="753" h="440">
                    <a:moveTo>
                      <a:pt x="0" y="440"/>
                    </a:moveTo>
                    <a:lnTo>
                      <a:pt x="753" y="0"/>
                    </a:lnTo>
                    <a:lnTo>
                      <a:pt x="0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714760" y="3954600"/>
                <a:ext cx="1520280" cy="57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235760" y="3954600"/>
              <a:ext cx="1519920" cy="570960"/>
              <a:chOff x="4235760" y="3954600"/>
              <a:chExt cx="1519920" cy="570960"/>
            </a:xfrm>
          </p:grpSpPr>
          <p:sp>
            <p:nvSpPr>
              <p:cNvPr id="802" name=""/>
              <p:cNvSpPr/>
              <p:nvPr/>
            </p:nvSpPr>
            <p:spPr>
              <a:xfrm>
                <a:off x="4235760" y="3954600"/>
                <a:ext cx="1519920" cy="570960"/>
              </a:xfrm>
              <a:custGeom>
                <a:avLst/>
                <a:gdLst/>
                <a:ahLst/>
                <a:rect l="l" t="t" r="r" b="b"/>
                <a:pathLst>
                  <a:path w="753" h="440">
                    <a:moveTo>
                      <a:pt x="753" y="440"/>
                    </a:moveTo>
                    <a:lnTo>
                      <a:pt x="0" y="0"/>
                    </a:lnTo>
                    <a:lnTo>
                      <a:pt x="753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235760" y="3954600"/>
                <a:ext cx="1519920" cy="57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2541240" y="4478040"/>
              <a:ext cx="470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40880" y="4473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32920" y="4473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1846440" y="4770720"/>
              <a:ext cx="815040" cy="327600"/>
              <a:chOff x="1846440" y="4770720"/>
              <a:chExt cx="815040" cy="327600"/>
            </a:xfrm>
          </p:grpSpPr>
          <p:sp>
            <p:nvSpPr>
              <p:cNvPr id="808" name=""/>
              <p:cNvSpPr/>
              <p:nvPr/>
            </p:nvSpPr>
            <p:spPr>
              <a:xfrm>
                <a:off x="1846440" y="4771080"/>
                <a:ext cx="815040" cy="327240"/>
              </a:xfrm>
              <a:custGeom>
                <a:avLst/>
                <a:gdLst/>
                <a:ahLst/>
                <a:rect l="l" t="t" r="r" b="b"/>
                <a:pathLst>
                  <a:path w="404" h="252">
                    <a:moveTo>
                      <a:pt x="0" y="252"/>
                    </a:moveTo>
                    <a:lnTo>
                      <a:pt x="404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1846440" y="4770720"/>
                <a:ext cx="81504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2662200" y="4770720"/>
              <a:ext cx="813600" cy="327600"/>
              <a:chOff x="2662200" y="4770720"/>
              <a:chExt cx="813600" cy="327600"/>
            </a:xfrm>
          </p:grpSpPr>
          <p:sp>
            <p:nvSpPr>
              <p:cNvPr id="811" name=""/>
              <p:cNvSpPr/>
              <p:nvPr/>
            </p:nvSpPr>
            <p:spPr>
              <a:xfrm>
                <a:off x="2662200" y="4771080"/>
                <a:ext cx="813600" cy="327240"/>
              </a:xfrm>
              <a:custGeom>
                <a:avLst/>
                <a:gdLst/>
                <a:ahLst/>
                <a:rect l="l" t="t" r="r" b="b"/>
                <a:pathLst>
                  <a:path w="403" h="252">
                    <a:moveTo>
                      <a:pt x="403" y="252"/>
                    </a:moveTo>
                    <a:lnTo>
                      <a:pt x="0" y="0"/>
                    </a:lnTo>
                    <a:lnTo>
                      <a:pt x="403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2662200" y="4770720"/>
                <a:ext cx="8136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5582520" y="4478040"/>
              <a:ext cx="470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82160" y="4473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73480" y="4473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888080" y="4770720"/>
              <a:ext cx="867960" cy="327600"/>
              <a:chOff x="4888080" y="4770720"/>
              <a:chExt cx="867960" cy="327600"/>
            </a:xfrm>
          </p:grpSpPr>
          <p:sp>
            <p:nvSpPr>
              <p:cNvPr id="817" name=""/>
              <p:cNvSpPr/>
              <p:nvPr/>
            </p:nvSpPr>
            <p:spPr>
              <a:xfrm>
                <a:off x="4888080" y="4771080"/>
                <a:ext cx="867960" cy="327240"/>
              </a:xfrm>
              <a:custGeom>
                <a:avLst/>
                <a:gdLst/>
                <a:ahLst/>
                <a:rect l="l" t="t" r="r" b="b"/>
                <a:pathLst>
                  <a:path w="430" h="252">
                    <a:moveTo>
                      <a:pt x="0" y="252"/>
                    </a:moveTo>
                    <a:lnTo>
                      <a:pt x="43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888080" y="4770720"/>
                <a:ext cx="86796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756040" y="4770720"/>
              <a:ext cx="870480" cy="327600"/>
              <a:chOff x="5756040" y="4770720"/>
              <a:chExt cx="870480" cy="327600"/>
            </a:xfrm>
          </p:grpSpPr>
          <p:sp>
            <p:nvSpPr>
              <p:cNvPr id="820" name=""/>
              <p:cNvSpPr/>
              <p:nvPr/>
            </p:nvSpPr>
            <p:spPr>
              <a:xfrm>
                <a:off x="5756400" y="4771080"/>
                <a:ext cx="870120" cy="327240"/>
              </a:xfrm>
              <a:custGeom>
                <a:avLst/>
                <a:gdLst/>
                <a:ahLst/>
                <a:rect l="l" t="t" r="r" b="b"/>
                <a:pathLst>
                  <a:path w="431" h="252">
                    <a:moveTo>
                      <a:pt x="431" y="252"/>
                    </a:moveTo>
                    <a:lnTo>
                      <a:pt x="0" y="0"/>
                    </a:lnTo>
                    <a:lnTo>
                      <a:pt x="431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flipV="1">
                <a:off x="5756040" y="4770720"/>
                <a:ext cx="87012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67292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256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6460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521360" y="5342400"/>
              <a:ext cx="271800" cy="326880"/>
              <a:chOff x="1521360" y="5342400"/>
              <a:chExt cx="271800" cy="326880"/>
            </a:xfrm>
          </p:grpSpPr>
          <p:sp>
            <p:nvSpPr>
              <p:cNvPr id="826" name=""/>
              <p:cNvSpPr/>
              <p:nvPr/>
            </p:nvSpPr>
            <p:spPr>
              <a:xfrm>
                <a:off x="1521360" y="5342400"/>
                <a:ext cx="271800" cy="326880"/>
              </a:xfrm>
              <a:custGeom>
                <a:avLst/>
                <a:gdLst/>
                <a:ahLst/>
                <a:rect l="l" t="t" r="r" b="b"/>
                <a:pathLst>
                  <a:path w="135" h="252">
                    <a:moveTo>
                      <a:pt x="0" y="252"/>
                    </a:moveTo>
                    <a:lnTo>
                      <a:pt x="135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1521360" y="5342400"/>
                <a:ext cx="27180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793880" y="5342400"/>
              <a:ext cx="270000" cy="326880"/>
              <a:chOff x="1793880" y="5342400"/>
              <a:chExt cx="270000" cy="326880"/>
            </a:xfrm>
          </p:grpSpPr>
          <p:sp>
            <p:nvSpPr>
              <p:cNvPr id="829" name=""/>
              <p:cNvSpPr/>
              <p:nvPr/>
            </p:nvSpPr>
            <p:spPr>
              <a:xfrm>
                <a:off x="1793880" y="5342400"/>
                <a:ext cx="270000" cy="326880"/>
              </a:xfrm>
              <a:custGeom>
                <a:avLst/>
                <a:gdLst/>
                <a:ahLst/>
                <a:rect l="l" t="t" r="r" b="b"/>
                <a:pathLst>
                  <a:path w="134" h="252">
                    <a:moveTo>
                      <a:pt x="134" y="252"/>
                    </a:moveTo>
                    <a:lnTo>
                      <a:pt x="0" y="0"/>
                    </a:lnTo>
                    <a:lnTo>
                      <a:pt x="134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1793880" y="5342400"/>
                <a:ext cx="27000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30228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0012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9144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3258000" y="5342400"/>
              <a:ext cx="274320" cy="326880"/>
              <a:chOff x="3258000" y="5342400"/>
              <a:chExt cx="274320" cy="326880"/>
            </a:xfrm>
          </p:grpSpPr>
          <p:sp>
            <p:nvSpPr>
              <p:cNvPr id="835" name=""/>
              <p:cNvSpPr/>
              <p:nvPr/>
            </p:nvSpPr>
            <p:spPr>
              <a:xfrm>
                <a:off x="3258000" y="5342400"/>
                <a:ext cx="274320" cy="326880"/>
              </a:xfrm>
              <a:custGeom>
                <a:avLst/>
                <a:gdLst/>
                <a:ahLst/>
                <a:rect l="l" t="t" r="r" b="b"/>
                <a:pathLst>
                  <a:path w="136" h="252">
                    <a:moveTo>
                      <a:pt x="0" y="252"/>
                    </a:moveTo>
                    <a:lnTo>
                      <a:pt x="136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3258000" y="5342400"/>
                <a:ext cx="27432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532680" y="5342400"/>
              <a:ext cx="267840" cy="326880"/>
              <a:chOff x="3532680" y="5342400"/>
              <a:chExt cx="267840" cy="326880"/>
            </a:xfrm>
          </p:grpSpPr>
          <p:sp>
            <p:nvSpPr>
              <p:cNvPr id="838" name=""/>
              <p:cNvSpPr/>
              <p:nvPr/>
            </p:nvSpPr>
            <p:spPr>
              <a:xfrm>
                <a:off x="3532680" y="5342400"/>
                <a:ext cx="267840" cy="326880"/>
              </a:xfrm>
              <a:custGeom>
                <a:avLst/>
                <a:gdLst/>
                <a:ahLst/>
                <a:rect l="l" t="t" r="r" b="b"/>
                <a:pathLst>
                  <a:path w="133" h="252">
                    <a:moveTo>
                      <a:pt x="133" y="252"/>
                    </a:moveTo>
                    <a:lnTo>
                      <a:pt x="0" y="0"/>
                    </a:lnTo>
                    <a:lnTo>
                      <a:pt x="133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 flipV="1">
                <a:off x="3532680" y="5342400"/>
                <a:ext cx="267840" cy="32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4714200" y="5049000"/>
              <a:ext cx="468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1384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16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835160" y="5342040"/>
              <a:ext cx="270000" cy="323280"/>
              <a:chOff x="4835160" y="5342040"/>
              <a:chExt cx="270000" cy="323280"/>
            </a:xfrm>
          </p:grpSpPr>
          <p:sp>
            <p:nvSpPr>
              <p:cNvPr id="844" name=""/>
              <p:cNvSpPr/>
              <p:nvPr/>
            </p:nvSpPr>
            <p:spPr>
              <a:xfrm>
                <a:off x="4835160" y="5342400"/>
                <a:ext cx="270000" cy="322920"/>
              </a:xfrm>
              <a:custGeom>
                <a:avLst/>
                <a:gdLst/>
                <a:ahLst/>
                <a:rect l="l" t="t" r="r" b="b"/>
                <a:pathLst>
                  <a:path w="134" h="249">
                    <a:moveTo>
                      <a:pt x="134" y="249"/>
                    </a:moveTo>
                    <a:lnTo>
                      <a:pt x="0" y="0"/>
                    </a:lnTo>
                    <a:lnTo>
                      <a:pt x="134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4835160" y="5342040"/>
                <a:ext cx="270000" cy="322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6453000" y="5049000"/>
              <a:ext cx="4687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52640" y="5045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41800" y="5045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96800" y="5619960"/>
              <a:ext cx="468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9644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9064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03200" y="5619960"/>
              <a:ext cx="2743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0248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9832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8856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8820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8060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8448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8412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7652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27720" y="5619960"/>
              <a:ext cx="4705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27360" y="5614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19040" y="5614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C709-B270-4D6C-B9C9-28A4DC32DCB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and Data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new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es memory allocated b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ll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returned to system, can be used in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deleted, only the space it poi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9FB1-6469-40FC-899C-325A8D361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ng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recursiv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at ro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urrent node empty, insert new node here (base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&gt; node, insert into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alue &lt; node, insert into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either &gt; nor &lt;, must b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 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937E-9A0E-4204-8D5F-27D78A691B6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-order (print tree values from least to grea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 (call function 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rse rigth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B7FF-02F5-4C5E-BD29-9529F930B10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re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2 templat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OrderTra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17DE-C8DE-4161-B750-842CC1B6703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nod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7: treenod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TreeNod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EE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REENOD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declaration of class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Nod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d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lef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data( d )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rightP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eeNod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2438280" y="2895480"/>
            <a:ext cx="4114800" cy="838440"/>
            <a:chOff x="2438280" y="2895480"/>
            <a:chExt cx="4114800" cy="838440"/>
          </a:xfrm>
        </p:grpSpPr>
        <p:sp>
          <p:nvSpPr>
            <p:cNvPr id="873" name=""/>
            <p:cNvSpPr/>
            <p:nvPr/>
          </p:nvSpPr>
          <p:spPr>
            <a:xfrm>
              <a:off x="3886200" y="289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nary trees have two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4382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BA31-E061-4560-B0CA-30621E6DEF6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nod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copy of node'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getDat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getData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left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DETYP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right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ree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5263-0160-4366-A61B-B9730A04084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8: tre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late Tr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eenod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root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499A-502E-4B1D-9F5F-C79FDC9F540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sertNodeHelper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reeNode&lt; NODETYPE &gt; *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e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OrderHelper( TreeNode&lt; NODETYPE &gt; *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ee&lt; NODETYPE &gt;::Tre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oo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ert node in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sertN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NodeHelper( &amp;rootPtr, valu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sert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000B-F630-4F27-8B13-25C6096114D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alled by insertNode; receives a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a pointer so that the function can modify pointer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sertNode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*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amp;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tree is empty; create new TreeNode containing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*pt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*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Node&lt; NODETYPE &gt;(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tree is not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ta to insert is less than data in cur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&lt; ( *ptr )-&gt;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sertNodeHelper( &amp;( ( *ptr )-&gt;leftPtr )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ata to insert is greater than data in cur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 &gt; ( *ptr )-&gt;dat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insertNodeHelper( &amp;( ( *ptr )-&gt;rightPtr ), 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uplicate data value ign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u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sertNode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285640" y="1066680"/>
            <a:ext cx="6629760" cy="3257640"/>
            <a:chOff x="2285640" y="1066680"/>
            <a:chExt cx="6629760" cy="3257640"/>
          </a:xfrm>
        </p:grpSpPr>
        <p:sp>
          <p:nvSpPr>
            <p:cNvPr id="884" name=""/>
            <p:cNvSpPr/>
            <p:nvPr/>
          </p:nvSpPr>
          <p:spPr>
            <a:xfrm>
              <a:off x="6248520" y="1066680"/>
              <a:ext cx="2666880" cy="325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ursive function to insert a new node. If the current node is empty, insert the new node her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ew value greater than current nod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insert into right subtre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insert into left subtr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either case applies, node is a duplicate -- igno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2285640" y="1676520"/>
              <a:ext cx="3962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E6E5-C610-4E68-B73A-D06B7B254B6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pre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re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e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e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pre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re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e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e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e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429000" y="2590920"/>
            <a:ext cx="4114800" cy="838080"/>
            <a:chOff x="3429000" y="2590920"/>
            <a:chExt cx="4114800" cy="838080"/>
          </a:xfrm>
        </p:grpSpPr>
        <p:sp>
          <p:nvSpPr>
            <p:cNvPr id="889" name=""/>
            <p:cNvSpPr/>
            <p:nvPr/>
          </p:nvSpPr>
          <p:spPr>
            <a:xfrm>
              <a:off x="4876920" y="25909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order: print, left,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290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07DB-5D41-4115-8F9B-F105C0614DB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in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in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in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in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809880" y="2362320"/>
            <a:ext cx="4114800" cy="838080"/>
            <a:chOff x="3809880" y="2362320"/>
            <a:chExt cx="4114800" cy="838080"/>
          </a:xfrm>
        </p:grpSpPr>
        <p:sp>
          <p:nvSpPr>
            <p:cNvPr id="894" name=""/>
            <p:cNvSpPr/>
            <p:nvPr/>
          </p:nvSpPr>
          <p:spPr>
            <a:xfrm>
              <a:off x="5257800" y="2362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 order: left, print,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38098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A87E-5927-47C1-98A0-EDA0C9B38E4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self-referential class objects (nodes) connected by pointers (link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ed using pointer to first node of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nodes accessed using the links in each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in last node is null (ze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stored dynam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created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can have data of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AF93-9E31-4A18-9ECE-FEE7DB351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e.h 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post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ostOrderTra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tOrderHelper( rootPtr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stOrder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perform postorder traversal of 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TYPE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ee&lt; NODETYPE &gt;::postOrderHelper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Node&lt; NODETYPE &gt; *pt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 !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tOrderHelper( ptr-&gt;leftPtr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left subtre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tOrderHelper( ptr-&gt;right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o to righ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tr-&gt;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nod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stOrderHel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581280" y="2362320"/>
            <a:ext cx="4114800" cy="838080"/>
            <a:chOff x="3581280" y="2362320"/>
            <a:chExt cx="4114800" cy="838080"/>
          </a:xfrm>
        </p:grpSpPr>
        <p:sp>
          <p:nvSpPr>
            <p:cNvPr id="899" name=""/>
            <p:cNvSpPr/>
            <p:nvPr/>
          </p:nvSpPr>
          <p:spPr>
            <a:xfrm>
              <a:off x="5029200" y="2362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order: left, right, p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5812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31BE-50E1-4207-942E-6F5AC2D4C25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7.19: fig17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ee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Tre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ree of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0 integer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tTree.insertNode( in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28EF-B5E4-4D91-93C8-90850197899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Pre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pre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in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st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Tree.post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ee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Tre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ree of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Enter 10 double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doubl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Tree.insertNode( doubl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re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pre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2E69-CE99-4F94-83B5-708FC14D752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in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storder travers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ubleTree.postOrderTra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9503-4CA0-4574-9F55-AD24A31D6D4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0 integer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 25 75 12 33 67 88 6 13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 25 12 6 13 33 75 67 68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12 13 25 33 50 67 68 75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13 12 33 25 68 67 88 75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0 double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9.2 16.5 82.7 3.3 65.2 90.8 1.1 4.4 89.5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9.2 16.5 3.3 1.1 4.4 82.7 65.2 90.8 89.5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3.3 4.4 16.5 39.2 65.2 82.7 89.5 90.8 9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storder tra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4.4 3.3 16.5 65.2 89.5 92.5 90.8 82.7 39.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6924-A44E-4800-9526-6B20277DA2F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8400" y="1905120"/>
            <a:ext cx="7620120" cy="2116080"/>
            <a:chOff x="698400" y="1905120"/>
            <a:chExt cx="7620120" cy="2116080"/>
          </a:xfrm>
        </p:grpSpPr>
        <p:sp>
          <p:nvSpPr>
            <p:cNvPr id="140" name=""/>
            <p:cNvSpPr/>
            <p:nvPr/>
          </p:nvSpPr>
          <p:spPr>
            <a:xfrm>
              <a:off x="698400" y="1905120"/>
              <a:ext cx="7620120" cy="21160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003400" y="2152800"/>
              <a:ext cx="4987800" cy="1538280"/>
              <a:chOff x="2003400" y="2152800"/>
              <a:chExt cx="4987800" cy="1538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2482920" y="3309840"/>
                <a:ext cx="761760" cy="381240"/>
                <a:chOff x="2482920" y="3309840"/>
                <a:chExt cx="761760" cy="381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6380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482920" y="3309840"/>
                  <a:ext cx="380880" cy="381240"/>
                  <a:chOff x="2482920" y="3309840"/>
                  <a:chExt cx="380880" cy="3812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482920" y="3309840"/>
                    <a:ext cx="3808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651400" y="357660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3755880" y="3309840"/>
                <a:ext cx="761760" cy="381240"/>
                <a:chOff x="3755880" y="3309840"/>
                <a:chExt cx="761760" cy="3812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13676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3755880" y="3309840"/>
                  <a:ext cx="380880" cy="381240"/>
                  <a:chOff x="3755880" y="3309840"/>
                  <a:chExt cx="380880" cy="381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3755880" y="3309840"/>
                    <a:ext cx="3808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923640" y="357660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227640" y="3308400"/>
                <a:ext cx="762120" cy="380880"/>
                <a:chOff x="6227640" y="3308400"/>
                <a:chExt cx="762120" cy="380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608880" y="3308400"/>
                  <a:ext cx="38088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227640" y="3308400"/>
                  <a:ext cx="381240" cy="380880"/>
                  <a:chOff x="6227640" y="3308400"/>
                  <a:chExt cx="381240" cy="380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227640" y="3308400"/>
                    <a:ext cx="3812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395760" y="3575160"/>
                    <a:ext cx="43200" cy="8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" name=""/>
              <p:cNvSpPr/>
              <p:nvPr/>
            </p:nvSpPr>
            <p:spPr>
              <a:xfrm>
                <a:off x="2293920" y="2435400"/>
                <a:ext cx="379440" cy="37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35760" y="2436840"/>
                <a:ext cx="379440" cy="37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8292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6380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3800" y="3386160"/>
                <a:ext cx="15876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22560" y="346860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41640" y="3500280"/>
                <a:ext cx="6984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3388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3753000" y="3309840"/>
                <a:ext cx="380880" cy="381240"/>
                <a:chOff x="3753000" y="3309840"/>
                <a:chExt cx="380880" cy="381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53000" y="3309840"/>
                  <a:ext cx="380880" cy="381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64240" y="3386160"/>
                  <a:ext cx="15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292640" y="3468600"/>
                <a:ext cx="63360" cy="6516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11720" y="3500280"/>
                <a:ext cx="69840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6227640" y="3308400"/>
                <a:ext cx="762120" cy="380880"/>
                <a:chOff x="6227640" y="3308400"/>
                <a:chExt cx="762120" cy="380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608880" y="3308400"/>
                  <a:ext cx="38088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6227640" y="3308400"/>
                  <a:ext cx="381240" cy="380880"/>
                  <a:chOff x="6227640" y="3308400"/>
                  <a:chExt cx="381240" cy="3808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6227640" y="3308400"/>
                    <a:ext cx="3812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338520" y="3384360"/>
                    <a:ext cx="1576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5" name=""/>
              <p:cNvSpPr/>
              <p:nvPr/>
            </p:nvSpPr>
            <p:spPr>
              <a:xfrm>
                <a:off x="5530680" y="3500280"/>
                <a:ext cx="698760" cy="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10320" y="3309840"/>
                <a:ext cx="380880" cy="38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03400" y="2152800"/>
                <a:ext cx="9572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fir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03920" y="2152800"/>
                <a:ext cx="8431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last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11640" y="3322800"/>
                <a:ext cx="385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5760" y="243360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92720" y="2592360"/>
                <a:ext cx="65160" cy="63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92480" y="243360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19944"/>
                    </a:move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lnTo>
                      <a:pt x="19944" y="1994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49440" y="2592360"/>
                <a:ext cx="65160" cy="63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482920" y="2567160"/>
            <a:ext cx="11088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29440" y="2567160"/>
            <a:ext cx="10944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FB74-EF20-481F-A4DC-104FBFA5F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7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Linked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d lists vs.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can become f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ng "extra" space in array wasteful, may never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s can grow/shrink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 lists only become full when system runs out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ed lists can be maintained in sorted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element at prope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elements do not need to be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B998-1025-4786-A2F3-45C201D36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20:20:57Z</dcterms:created>
  <dc:creator>kalid</dc:creator>
  <dc:description/>
  <dc:language>en-US</dc:language>
  <cp:lastModifiedBy>Pearson Education</cp:lastModifiedBy>
  <dcterms:modified xsi:type="dcterms:W3CDTF">2002-08-28T19:50:15Z</dcterms:modified>
  <cp:revision>576</cp:revision>
  <dc:subject/>
  <dc:title>PowerPoint Presentation</dc:title>
</cp:coreProperties>
</file>