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D312-9D82-47BA-8181-78B1B0DC8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5068-ED68-4A7B-B323-9F14496EB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C425-7CC6-4E1B-943F-2A804430A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93FD-78AE-42DA-A277-71963C9B7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4D15-3A50-4196-8511-72F3651CB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7E80-7A68-4F18-88B7-1951CCC1B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7D09-87D0-45D4-BC4B-085C67775B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0140-2CA8-40C4-9296-3330CCA26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C74E-049E-4AD1-B93A-EF24DE32C3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BE04-072F-4F73-B288-899ABA0F5B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AC50-8546-41C6-8A50-17F438779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FEC0-3792-47A1-ACEB-5D3FA6829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4150-7936-42B6-A125-72C7D5795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78C4-D723-43E1-9E59-E9F00A0B7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3B67-8B7B-4CC1-BDDC-D15D935B1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0D82-17E9-41E8-84F8-178BC91026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30A3-13DA-4EA1-B70F-786778CB8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8F8B-FD48-47F8-85A9-B13446CAA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5439-0698-42CC-A1DA-EEE359C19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C05F-2079-4070-8570-E59CF772C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6A2B-15C7-44BB-90F3-584B3B687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4576-A6C8-4755-8DF9-6AF7A7078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855B-D7E5-4D37-9D8B-296F4553A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303B-1DEF-43E1-A596-5C3D0AF6D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DAE7-7D79-419A-944F-E0DC5148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39E8-FA7B-4A58-83B2-E95BAC57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 - Web Programming with CG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95280"/>
            <a:ext cx="777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HTTP Request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Multi-Ti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ccessing Web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Apache HTTP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questing XHTML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 to 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HTTP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nding Input to a CGI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Using XHTML Forms to Sen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An Interactive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ok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erver-Sid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ase Study: Shopping C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6.1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ernet and Web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183F-9B1D-4199-916C-0BCA68EB99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 to CG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Gateway Interface (CG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applications to interact with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ly interact with clients/Web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decision based on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generated when page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Web p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s before request made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o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pecific to any operating system or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C, C++, Perl, Python, Visual Bas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5537-3506-4DF4-A6A7-52CF12BEC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vailable books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br/&gt;Books available for sale&lt;br/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/&gt;&lt;br/&gt;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1\" cellpadding = \"7\"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data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A7CF-8497-4A4E-A9B5-2A3E9810937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k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sbn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ric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still open after r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form with buy button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&lt;form method=\"post\" 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add\"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true\"/&gt;"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hidden\" name=\"isbn\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sbn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/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=\"submit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=\"Buy\"/&gt;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d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r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center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939D-2114-4C2F-BFE8-CC89661F27C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F206-F935-441C-BCA8-966CC88C47E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casestudy_6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5495760" cy="451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1278-A026-44B9-BBB7-71B40DF9E9C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3: viewcar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view books in the shopping car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0A65-3D8E-4D94-8F17-7DB34C4831C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stor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artData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contents of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oki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Entere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cookie data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artData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okieString = cartData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location of isbn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isb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b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E4E9-E936-40F0-B487-50E105E81B2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 to add to ca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Entered = dataString.substr( isbn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tLocation = cookie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exists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art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cookieString.substr( cart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=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okie data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okieString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isbnEnter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oki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52680" y="3048120"/>
            <a:ext cx="4114800" cy="838080"/>
            <a:chOff x="3352680" y="3048120"/>
            <a:chExt cx="4114800" cy="838080"/>
          </a:xfrm>
        </p:grpSpPr>
        <p:sp>
          <p:nvSpPr>
            <p:cNvPr id="439" name=""/>
            <p:cNvSpPr/>
            <p:nvPr/>
          </p:nvSpPr>
          <p:spPr>
            <a:xfrm>
              <a:off x="48006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o old cook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3526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19A4-C461-4CC4-A53F-4E1256EB184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Shopping Car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cente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is your current order: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okie data exist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okie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Books( cookieString, isbnEnter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C759-8896-4917-8608-2BD9008B48F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books in catalog.tx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Book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okieRef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isbn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pen file for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1481-AE76-43F7-92FE-872E57D5DCD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k to log out and table to display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out.cgi\"&gt;Sign Ou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a&gt;&lt;br&gt;&lt;b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1 cellpadding = 7 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is op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book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boo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ookString = boo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year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yea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yearString =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isbn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isb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sbnString = isb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Data.getline( pri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ceString = pr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CC66-60D3-4170-8CFE-8FED33DE634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basic understanding of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methods an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server/client to interact in uniform, predictabl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st form, XHT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in text file, has markings (markup) to describ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itle&gt;My Web Page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ext between markup elements is title of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user clicks, Web browser loads new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6E40-B7D6-4758-BDD3-2011608F11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ch = cookieRef.find( isb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 has been m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atc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sbnRef == isbnString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able row with book informatio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"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=\"post\""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tion=\"/cgi-bin/viewcar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book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year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isbnString &lt;&lt; "&lt;/td&gt;"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d&gt;" &lt;&lt; priceString &lt;&lt; "&lt;/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link to add more 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Back to book list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Book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56B7-E057-4291-8C0C-B0B5D4E6324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car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casestudy_8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61722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DB09-E40E-4E03-B621-1899C0DD9B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4: logou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log out of the syste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th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057400" y="3581280"/>
            <a:ext cx="4114800" cy="838440"/>
            <a:chOff x="2057400" y="3581280"/>
            <a:chExt cx="4114800" cy="838440"/>
          </a:xfrm>
        </p:grpSpPr>
        <p:sp>
          <p:nvSpPr>
            <p:cNvPr id="454" name=""/>
            <p:cNvSpPr/>
            <p:nvPr/>
          </p:nvSpPr>
          <p:spPr>
            <a:xfrm>
              <a:off x="3505320" y="3581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rase previous inform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057400" y="373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0596-C0E8-4B20-8802-174BD138D9E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&lt;?xml version = \"1.0\"?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ged Out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center&gt;&lt;p&gt;You are now logged out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will be billed accordingly&lt;b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login again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click here&lt;/a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6B8D-04D0-47B7-95DF-636DB783689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 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ou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ontaining expiration da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0" name="casestudy_7" descr=""/>
          <p:cNvPicPr/>
          <p:nvPr/>
        </p:nvPicPr>
        <p:blipFill>
          <a:blip r:embed="rId1"/>
          <a:stretch/>
        </p:blipFill>
        <p:spPr>
          <a:xfrm>
            <a:off x="1600200" y="3247920"/>
            <a:ext cx="3448080" cy="21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8900-185A-4725-9CB4-7F818D83C26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deitel.com/books/download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HTT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name of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books/downloads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resour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loads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oo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a virtual directory, hides real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23FE-A264-4C42-A84C-1228397EB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Send HTTP request to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books/downloads/html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: www.dei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is HTTP method (client wants to get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nd path of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name and vers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ine of response 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404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1DA4-73CB-4D85-AD75-5819299E4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HTTP Trans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esponse 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headers (info about data being 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E types used by browser to proce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/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blank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end of HTTP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contents of documen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interprets XHTML, displays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5E34-CCE6-4748-B64A-57AE6132B3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ing a page 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current time or wea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ually editing is tedi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write C++ program easi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to output current time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_t currentTime;    // time_t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( &amp;currentTime );  // asctime and localtime defined in &lt;c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asctime( localtime( &amp;currentTime ) 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pointer to "broken-down"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s, seconds, minutes sepa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"broken-down" time into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ed Jul 31 13:10:37 200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B199-087A-4BC6-8A11-6B7B8B7F7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need to output to 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CGI, redirect output to Web server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goes to client's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standar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++ program executed a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redirected to client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++ executabl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d extension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ex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un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4919-C231-44EF-8B97-042CBFDD6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5: localtim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s the current date and time in a Web brows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_t currentTim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for storing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&amp;currentTim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time in curren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38280" y="2362320"/>
            <a:ext cx="4114800" cy="1067400"/>
            <a:chOff x="2438280" y="2362320"/>
            <a:chExt cx="4114800" cy="1067400"/>
          </a:xfrm>
        </p:grpSpPr>
        <p:sp>
          <p:nvSpPr>
            <p:cNvPr id="166" name=""/>
            <p:cNvSpPr/>
            <p:nvPr/>
          </p:nvSpPr>
          <p:spPr>
            <a:xfrm>
              <a:off x="38862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f program creates the text HTTP response, containing the contents of the XHTML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4382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30FE-42AD-4F1A-A4DD-156BF3E39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urrent date and time&lt;/title&gt;&lt;/head&gt;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&lt;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sctime( localtime( &amp;currentTime )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0" name="localtime" descr=""/>
          <p:cNvPicPr/>
          <p:nvPr/>
        </p:nvPicPr>
        <p:blipFill>
          <a:blip r:embed="rId1"/>
          <a:stretch/>
        </p:blipFill>
        <p:spPr>
          <a:xfrm>
            <a:off x="914400" y="2567160"/>
            <a:ext cx="4105440" cy="17236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505320" y="1066320"/>
            <a:ext cx="3124080" cy="871200"/>
            <a:chOff x="3505320" y="1066320"/>
            <a:chExt cx="3124080" cy="871200"/>
          </a:xfrm>
        </p:grpSpPr>
        <p:sp>
          <p:nvSpPr>
            <p:cNvPr id="172" name=""/>
            <p:cNvSpPr/>
            <p:nvPr/>
          </p:nvSpPr>
          <p:spPr>
            <a:xfrm>
              <a:off x="3962520" y="16002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current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505320" y="10663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238E-9F76-4811-BFF4-B012932B2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ends output to client via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reats it like a server respo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header, XHTML elemen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1: Client reque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localhost/cgi-bin/localtime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ly configured server realizes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s not to deliver it like a regular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2: Server runs scri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3: Output of script goes to Web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ep 4: Server adds head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tire output to client, which processes and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0BF7-1B43-4AF8-B86E-E97A179AA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ds to client, provides resource (like XHTML p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replacing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information in Appendix B of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 is a request for a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rver maps URL (Uniform Resource Locator)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requested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pertext Transfer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requests and files over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53BF-D432-4B9A-99BF-CF1413D58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output of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ltime.cg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omman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like in other ch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indows, change back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GI programs must ins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XHTML file, Web server add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50F-EF0A-466D-9E07-616EFA7DBF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time.cg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ent-Type: text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 = "http://www.w3.org/1999/xhtm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urrent date and time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Mon Jul 15 13:52:45 2002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html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0050-A5E2-4CB1-80C4-4360C034BF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 about client and server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document 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env( const char * variableNam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value of environmen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in X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 row 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w table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 My data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440A-11CE-41CE-ADC8-5D6037E3F5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8: environme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CGI environment variabl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nvironmentVariab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SPEC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CUMENT_ROO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ATEWAY_INTER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ENCO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ACCEPT_LANGU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NNEC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H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USER_AG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MOTE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METHO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QUEST_URI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FILE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CRIPT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D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ADMI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O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PROTOCO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IGNAT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RVER_SOFTWA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7760" y="2438280"/>
            <a:ext cx="4115160" cy="838440"/>
            <a:chOff x="3047760" y="24382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495680" y="2438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containing the various environment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0477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CEA6-9E47-4159-B514-D06429D88D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Environment Variabl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outputting t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 border = \"0\" cellspacing = \"2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environment variables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vironmentVariables[ i 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td&gt;"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getenv( environmentVariables[ i ].data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able&gt;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400" y="3276720"/>
            <a:ext cx="4114800" cy="838080"/>
            <a:chOff x="3200400" y="3276720"/>
            <a:chExt cx="4114800" cy="838080"/>
          </a:xfrm>
        </p:grpSpPr>
        <p:sp>
          <p:nvSpPr>
            <p:cNvPr id="190" name=""/>
            <p:cNvSpPr/>
            <p:nvPr/>
          </p:nvSpPr>
          <p:spPr>
            <a:xfrm>
              <a:off x="46483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a C-sty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2004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6016-699D-4359-94DF-09C9E04757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nvironment_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39936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F789-FEBD-40C8-8E51-F7FE8497A2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ironmen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environment_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6399000" cy="36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A358-E03C-4DFA-B87A-C7523BCD7D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0  Sending Input to a CGI Scrip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 any data to CGI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vironment varia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info appended to URL in get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mesi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m/cgi-bin/script.cgi?state=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data fo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=Califor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 delimiter (not stored in 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user entry 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Jill&amp;age=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6AAE-8657-4F8E-9133-5B7D3C848E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9: querystring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QUERY_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047760" y="2362320"/>
            <a:ext cx="4115160" cy="838080"/>
            <a:chOff x="3047760" y="2362320"/>
            <a:chExt cx="4115160" cy="838080"/>
          </a:xfrm>
        </p:grpSpPr>
        <p:sp>
          <p:nvSpPr>
            <p:cNvPr id="201" name=""/>
            <p:cNvSpPr/>
            <p:nvPr/>
          </p:nvSpPr>
          <p:spPr>
            <a:xfrm>
              <a:off x="4495680" y="2362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QUERY_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ocated in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477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7A09-503D-4F7E-80D5-65FB33EA27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Name/Value Pair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2&gt;Name/Value Pairs&lt;/h2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query contained no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ease add some name-value pairs to the URL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ove.&lt;br/&gt;Or try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querystring.cgi?name=Joe&amp;age=29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&lt;/a&gt;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query string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query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560" y="2819520"/>
            <a:ext cx="4115160" cy="838080"/>
            <a:chOff x="3733560" y="2819520"/>
            <a:chExt cx="4115160" cy="838080"/>
          </a:xfrm>
        </p:grpSpPr>
        <p:sp>
          <p:nvSpPr>
            <p:cNvPr id="206" name=""/>
            <p:cNvSpPr/>
            <p:nvPr/>
          </p:nvSpPr>
          <p:spPr>
            <a:xfrm>
              <a:off x="518148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query is not empty, print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7335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886200" y="1752480"/>
            <a:ext cx="4114800" cy="838440"/>
            <a:chOff x="3886200" y="1752480"/>
            <a:chExt cx="4114800" cy="838440"/>
          </a:xfrm>
        </p:grpSpPr>
        <p:sp>
          <p:nvSpPr>
            <p:cNvPr id="209" name=""/>
            <p:cNvSpPr/>
            <p:nvPr/>
          </p:nvSpPr>
          <p:spPr>
            <a:xfrm>
              <a:off x="53341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URL with query string inser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862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B111-A771-406E-90A6-533AC2DC0C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TTP Request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 request methods (ty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how client makes requests of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HTML element with buttons, text fields, GUI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enter data into a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send data to server; part 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earchsomething.com/search?query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r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r input (query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limit on size (depends on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not see query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can exceed get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B8C9-CE32-4261-92FC-EEB14F463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querystring_1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4219560" cy="2171880"/>
          </a:xfrm>
          <a:prstGeom prst="rect">
            <a:avLst/>
          </a:prstGeom>
          <a:ln w="0">
            <a:noFill/>
          </a:ln>
        </p:spPr>
      </p:pic>
      <p:pic>
        <p:nvPicPr>
          <p:cNvPr id="213" name="querystring_2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421956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FA80-F787-4551-961D-4168832160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rystring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querystring_3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19560" cy="217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000D-8EB5-4DF8-B825-6FFD813A79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ng input into URLs 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s on Web p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way to inpu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s when user submits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us, will call CGI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HTTP request to use (GET, P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demonstrate both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HTML form can have any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CA85-BC96-4010-8147-14FCE510AF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1840" y="368280"/>
          <a:ext cx="8356680" cy="89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368280"/>
                    <a:ext cx="8356680" cy="89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9DB3-B94F-425E-BFE8-57A99653E0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1840" y="1328760"/>
          <a:ext cx="8308800" cy="89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328760"/>
                    <a:ext cx="8308800" cy="89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C047-E5C3-4A4B-8585-5369B72F9C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 = "get" action = "getquery.cgi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text" name = "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 = "submit" value = "Submit Wor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ingle-line text input 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submit button pr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rdEn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nd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6392-6184-4E7B-914B-AA0A35478A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1: getquer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GE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query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RY_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52680" y="2819520"/>
            <a:ext cx="4114800" cy="838080"/>
            <a:chOff x="3352680" y="2819520"/>
            <a:chExt cx="4114800" cy="838080"/>
          </a:xfrm>
        </p:grpSpPr>
        <p:sp>
          <p:nvSpPr>
            <p:cNvPr id="229" name=""/>
            <p:cNvSpPr/>
            <p:nvPr/>
          </p:nvSpPr>
          <p:spPr>
            <a:xfrm>
              <a:off x="48006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query string, if any. If this is the first time the page is loaded, this will be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352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01B6-1927-4046-8AE6-79272F7AE0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GE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get\" action = \"getquery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819160" y="1981080"/>
            <a:ext cx="4115160" cy="838440"/>
            <a:chOff x="2819160" y="1981080"/>
            <a:chExt cx="4115160" cy="838440"/>
          </a:xfrm>
        </p:grpSpPr>
        <p:sp>
          <p:nvSpPr>
            <p:cNvPr id="234" name=""/>
            <p:cNvSpPr/>
            <p:nvPr/>
          </p:nvSpPr>
          <p:spPr>
            <a:xfrm>
              <a:off x="4267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. Note that the form calls this CGI script when submit pres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819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E2F1-D709-4D0D-9B75-11CD6374FA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ry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quer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entered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dLocation = query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query.substr( 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ord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 &lt;&lt; wordString &lt;&lt; 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360" y="76320"/>
            <a:ext cx="4115160" cy="1067400"/>
            <a:chOff x="3276360" y="76320"/>
            <a:chExt cx="4115160" cy="1067400"/>
          </a:xfrm>
        </p:grpSpPr>
        <p:sp>
          <p:nvSpPr>
            <p:cNvPr id="239" name=""/>
            <p:cNvSpPr/>
            <p:nvPr/>
          </p:nvSpPr>
          <p:spPr>
            <a:xfrm>
              <a:off x="4724280" y="763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 the first execution of this script, query is empty. When the user enters a word, the script is run aga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276360" y="2286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85840" y="1752120"/>
            <a:ext cx="3810240" cy="1510200"/>
            <a:chOff x="3885840" y="1752120"/>
            <a:chExt cx="3810240" cy="1510200"/>
          </a:xfrm>
        </p:grpSpPr>
        <p:sp>
          <p:nvSpPr>
            <p:cNvPr id="242" name=""/>
            <p:cNvSpPr/>
            <p:nvPr/>
          </p:nvSpPr>
          <p:spPr>
            <a:xfrm>
              <a:off x="50292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ode the query string on the second execution of the scri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885840" y="17521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8D6A-B9A1-4887-8429-BBA1301971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getquery_1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4305600" cy="2314440"/>
          </a:xfrm>
          <a:prstGeom prst="rect">
            <a:avLst/>
          </a:prstGeom>
          <a:ln w="0">
            <a:noFill/>
          </a:ln>
        </p:spPr>
      </p:pic>
      <p:pic>
        <p:nvPicPr>
          <p:cNvPr id="246" name="getquery_2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430560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1570-EFB5-40F9-ADAE-AB19E6C835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tier application (multi-t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data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and presentatio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interaction of client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nd is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data from information tier, presents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tier (top ti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interface (users act directly with this t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middle tier to get data from information 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3943-C0CA-43A6-9B54-19BA7A13F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query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getquery_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4305240" cy="2314440"/>
          </a:xfrm>
          <a:prstGeom prst="rect">
            <a:avLst/>
          </a:prstGeom>
          <a:ln w="0">
            <a:noFill/>
          </a:ln>
        </p:spPr>
      </p:pic>
      <p:pic>
        <p:nvPicPr>
          <p:cNvPr id="249" name="getquery_4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15DD-F5F2-452E-A383-647A9B18D5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1  Using XHTML Forms to Send In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, us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n'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rea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data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its for newline, which may never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 will time out and script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s do not allow certain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s replaced by plus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D0F7-6324-4C7E-AA52-50BF5EADA7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2: po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s POST method with XHTML for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to hold POST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ent was submit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124080" y="4114800"/>
            <a:ext cx="4114800" cy="838080"/>
            <a:chOff x="3124080" y="4114800"/>
            <a:chExt cx="4114800" cy="838080"/>
          </a:xfrm>
        </p:grpSpPr>
        <p:sp>
          <p:nvSpPr>
            <p:cNvPr id="255" name=""/>
            <p:cNvSpPr/>
            <p:nvPr/>
          </p:nvSpPr>
          <p:spPr>
            <a:xfrm>
              <a:off x="4572000" y="4114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TENT_LENG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240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0A48-A084-4C92-9167-0C00E222ECD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Using POST with Form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HTML for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Enter one of your favorite words here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action = \"post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text\" name = \"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input type = \"submit\" value = \"Submit Word\" 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form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819160" y="2819520"/>
            <a:ext cx="4115160" cy="838080"/>
            <a:chOff x="2819160" y="2819520"/>
            <a:chExt cx="4115160" cy="838080"/>
          </a:xfrm>
        </p:grpSpPr>
        <p:sp>
          <p:nvSpPr>
            <p:cNvPr id="260" name=""/>
            <p:cNvSpPr/>
            <p:nvPr/>
          </p:nvSpPr>
          <p:spPr>
            <a:xfrm>
              <a:off x="42670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form as before, but use metho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191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2465-AD3F-4743-A1D1-55C994AE64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705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sent using P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ntentLength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ocation = dataString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rieve entered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ordString = dataString.substr( name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endLocation -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entered in text fie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word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word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s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enter a word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3B20-48FC-4DB6-A32F-2BE9AEDFF7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ost_1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4305600" cy="2314800"/>
          </a:xfrm>
          <a:prstGeom prst="rect">
            <a:avLst/>
          </a:prstGeom>
          <a:ln w="0">
            <a:noFill/>
          </a:ln>
        </p:spPr>
      </p:pic>
      <p:pic>
        <p:nvPicPr>
          <p:cNvPr id="266" name="post_2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4305600" cy="23148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3504960" y="3124080"/>
            <a:ext cx="4115160" cy="838440"/>
            <a:chOff x="3504960" y="3124080"/>
            <a:chExt cx="4115160" cy="838440"/>
          </a:xfrm>
        </p:grpSpPr>
        <p:sp>
          <p:nvSpPr>
            <p:cNvPr id="268" name=""/>
            <p:cNvSpPr/>
            <p:nvPr/>
          </p:nvSpPr>
          <p:spPr>
            <a:xfrm>
              <a:off x="4952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post hides the input from the UR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04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C59F-5AA4-4B6C-BA5F-AE4D61471B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ost_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4305240" cy="2314800"/>
          </a:xfrm>
          <a:prstGeom prst="rect">
            <a:avLst/>
          </a:prstGeom>
          <a:ln w="0">
            <a:noFill/>
          </a:ln>
        </p:spPr>
      </p:pic>
      <p:pic>
        <p:nvPicPr>
          <p:cNvPr id="272" name="post_4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4305240" cy="23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95BA-B87A-49D2-9463-1A86FFBD46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HTTP h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resh: redirects client to new location after some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resh: "5; URL = http://www.deitel.com/newpage.html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s after 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RL, refreshes current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: redirects client immedi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 http://www.deitel.com/newpag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ed by server, client un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us: change status respons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00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: 204 No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successful request, but no new page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26B9-8255-4DB2-8C4D-2652635FE4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2  Other Head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GI interaction with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headers and content via standard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 setting environment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e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1BC0-B0C2-4ECA-BD82-2B14ECDAF75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3  Case Study: An Interactive Web P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to display weekly spe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for name and 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implicity, does not encry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ing page static X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data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al.cg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lay specials, if password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separation of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tic XHTML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a dynamic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0E51-5924-47DF-8CC2-328262D9B5D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-Tier Archite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1308240"/>
            <a:ext cx="7772400" cy="4787640"/>
            <a:chOff x="685800" y="1308240"/>
            <a:chExt cx="7772400" cy="4787640"/>
          </a:xfrm>
        </p:grpSpPr>
        <p:sp>
          <p:nvSpPr>
            <p:cNvPr id="97" name=""/>
            <p:cNvSpPr/>
            <p:nvPr/>
          </p:nvSpPr>
          <p:spPr>
            <a:xfrm>
              <a:off x="685800" y="1308240"/>
              <a:ext cx="7772400" cy="4787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0520" y="1796040"/>
              <a:ext cx="7123680" cy="3830400"/>
              <a:chOff x="1010520" y="1796040"/>
              <a:chExt cx="7123680" cy="3830400"/>
            </a:xfrm>
          </p:grpSpPr>
          <p:sp>
            <p:nvSpPr>
              <p:cNvPr id="99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37160" y="242820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1920" y="1796040"/>
                <a:ext cx="793800" cy="632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9973" y="19971"/>
                    </a:lnTo>
                    <a:lnTo>
                      <a:pt x="0" y="19971"/>
                    </a:lnTo>
                    <a:lnTo>
                      <a:pt x="0" y="0"/>
                    </a:lnTo>
                    <a:lnTo>
                      <a:pt x="1997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8320" y="1907640"/>
                <a:ext cx="626760" cy="40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6" y="0"/>
                    </a:moveTo>
                    <a:lnTo>
                      <a:pt x="19966" y="19955"/>
                    </a:lnTo>
                    <a:lnTo>
                      <a:pt x="0" y="19955"/>
                    </a:lnTo>
                    <a:lnTo>
                      <a:pt x="0" y="0"/>
                    </a:lnTo>
                    <a:lnTo>
                      <a:pt x="19966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solidFill>
                <a:srgbClr val="4db3e6"/>
              </a:solidFill>
              <a:ln w="648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94040" y="3246120"/>
                <a:ext cx="1238040" cy="892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3" y="0"/>
                    </a:moveTo>
                    <a:lnTo>
                      <a:pt x="19983" y="19979"/>
                    </a:lnTo>
                    <a:lnTo>
                      <a:pt x="0" y="19979"/>
                    </a:lnTo>
                    <a:lnTo>
                      <a:pt x="0" y="0"/>
                    </a:lnTo>
                    <a:lnTo>
                      <a:pt x="19983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78920" y="3599280"/>
                <a:ext cx="1239120" cy="20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99920" y="3623400"/>
                <a:ext cx="133884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Middle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70320" y="5068080"/>
                <a:ext cx="168480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Information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13880" y="2247480"/>
                <a:ext cx="146916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Client t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2400" y="2502360"/>
                <a:ext cx="129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83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83360" y="2502360"/>
                <a:ext cx="72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4364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14400" y="2502360"/>
                <a:ext cx="4176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487" y="1983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12000" y="2502360"/>
                <a:ext cx="84240" cy="111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833"/>
                    </a:moveTo>
                    <a:lnTo>
                      <a:pt x="1974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37160" y="2425320"/>
                <a:ext cx="1338120" cy="25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6242" y="0"/>
                    </a:moveTo>
                    <a:lnTo>
                      <a:pt x="19984" y="19929"/>
                    </a:lnTo>
                    <a:lnTo>
                      <a:pt x="0" y="19929"/>
                    </a:lnTo>
                    <a:lnTo>
                      <a:pt x="4371" y="0"/>
                    </a:lnTo>
                    <a:lnTo>
                      <a:pt x="1624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8132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5760" y="413856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85760" y="2688480"/>
                <a:ext cx="720" cy="557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6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10520" y="439884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10520" y="2948400"/>
                <a:ext cx="71236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7" y="0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921920" y="1796040"/>
                <a:ext cx="794160" cy="632160"/>
                <a:chOff x="4921920" y="1796040"/>
                <a:chExt cx="794160" cy="632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21920" y="1796040"/>
                  <a:ext cx="794160" cy="6321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3" y="0"/>
                      </a:moveTo>
                      <a:lnTo>
                        <a:pt x="19973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73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04720" y="1907640"/>
                  <a:ext cx="627120" cy="40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6" y="0"/>
                      </a:moveTo>
                      <a:lnTo>
                        <a:pt x="19966" y="19955"/>
                      </a:lnTo>
                      <a:lnTo>
                        <a:pt x="0" y="19955"/>
                      </a:lnTo>
                      <a:lnTo>
                        <a:pt x="0" y="0"/>
                      </a:lnTo>
                      <a:lnTo>
                        <a:pt x="19966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4846320" y="2499480"/>
                <a:ext cx="919440" cy="111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362" y="0"/>
                    </a:moveTo>
                    <a:lnTo>
                      <a:pt x="15446" y="0"/>
                    </a:lnTo>
                    <a:lnTo>
                      <a:pt x="18169" y="0"/>
                    </a:lnTo>
                    <a:lnTo>
                      <a:pt x="19977" y="19833"/>
                    </a:lnTo>
                    <a:lnTo>
                      <a:pt x="0" y="19833"/>
                    </a:lnTo>
                    <a:lnTo>
                      <a:pt x="2723" y="0"/>
                    </a:lnTo>
                    <a:lnTo>
                      <a:pt x="636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4896360" y="2539800"/>
                <a:ext cx="835920" cy="37800"/>
                <a:chOff x="4896360" y="2539800"/>
                <a:chExt cx="835920" cy="3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939200" y="2539800"/>
                  <a:ext cx="7768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96360" y="2576880"/>
                  <a:ext cx="83592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4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solidFill>
                <a:srgbClr val="4db3e6"/>
              </a:solidFill>
              <a:ln w="648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70280" y="5344920"/>
                <a:ext cx="125964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4673520" y="4842000"/>
                <a:ext cx="1252800" cy="666360"/>
                <a:chOff x="4673520" y="4842000"/>
                <a:chExt cx="1252800" cy="666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25600" y="4842000"/>
                  <a:ext cx="720" cy="666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72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673520" y="4842000"/>
                  <a:ext cx="1252800" cy="666360"/>
                  <a:chOff x="4673520" y="4842000"/>
                  <a:chExt cx="1252800" cy="666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4240" y="4842000"/>
                    <a:ext cx="1252080" cy="66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3" y="0"/>
                        </a:moveTo>
                        <a:lnTo>
                          <a:pt x="19983" y="19972"/>
                        </a:lnTo>
                        <a:lnTo>
                          <a:pt x="0" y="19972"/>
                        </a:lnTo>
                        <a:lnTo>
                          <a:pt x="0" y="0"/>
                        </a:lnTo>
                        <a:lnTo>
                          <a:pt x="1998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73520" y="4842000"/>
                    <a:ext cx="72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72"/>
                        </a:move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5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73520" y="4689720"/>
                <a:ext cx="1253160" cy="2815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3520" y="4830120"/>
                <a:ext cx="720" cy="67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31360" y="4834440"/>
                <a:ext cx="1080" cy="67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40480" y="5150520"/>
                <a:ext cx="1123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AvantGarde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3910-3AC3-4C83-B180-46DCC04B7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 16.13: travel.html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Bug2Bug Travel Homepage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Bug2Bug Trave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portal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word is not encrypte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DE2B-FFC5-43E6-A60D-DBB660680B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el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ravel_1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8487-9A09-4E65-852E-230981A293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4: portal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andles entry to Bug2Bug Travel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2E60-DD60-47E7-822D-3A55AFBB6A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input data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box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s for name and passwor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Namelocation - namelocation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asswordString = dataString.substr( password, endPassword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asswor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123720" y="399600"/>
            <a:ext cx="3886560" cy="581040"/>
            <a:chOff x="3123720" y="399600"/>
            <a:chExt cx="3886560" cy="581040"/>
          </a:xfrm>
        </p:grpSpPr>
        <p:sp>
          <p:nvSpPr>
            <p:cNvPr id="288" name=""/>
            <p:cNvSpPr/>
            <p:nvPr/>
          </p:nvSpPr>
          <p:spPr>
            <a:xfrm>
              <a:off x="4343400" y="3999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from standard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3123720" y="39960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CCFB-B705-4F48-BBAF-9FBCC08F00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Bug2Bug Travel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pecia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1&gt;Welcom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!&lt;/h1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Here are our weekly specials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ul&gt;&lt;li&gt;Boston to Taiwan ($875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San Diego to Hong Kong ($750)&lt;/li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li&gt;Chicago to Mexico City ($568)&lt;/li&gt;&lt;/u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assword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ast2coa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r /&gt;&lt;p&gt;Current member special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attle to Tokyo ($400)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wa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Sorry. You have entered an incorr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66880" y="2209680"/>
            <a:ext cx="4114800" cy="838440"/>
            <a:chOff x="2666880" y="2209680"/>
            <a:chExt cx="4114800" cy="838440"/>
          </a:xfrm>
        </p:grpSpPr>
        <p:sp>
          <p:nvSpPr>
            <p:cNvPr id="293" name=""/>
            <p:cNvSpPr/>
            <p:nvPr/>
          </p:nvSpPr>
          <p:spPr>
            <a:xfrm>
              <a:off x="411480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eck password, display special if corr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6668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3031-55AE-4104-A73A-CD23BC7658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ravel_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61024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582C-EAD6-4DF2-B2C0-DDEF3199C1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travel_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56102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92BA-462F-4E29-AD61-924568F885F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text files Web server sends the brow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information, track user's progress in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 si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most major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keep track of identity, how often visit a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is reason, security/privacy con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erase hard drive, breaking into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04C-6139-4D18-9249-44A1EC6CA59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lines of text before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li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-Cook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following data stored in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example, output post data, delimi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iration 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ires=+30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for 30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ires=Friday, 14-MAY-10 16:00:00 GM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which servers in domain can read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mpty, any server in domain can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th=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7BE6-3961-432D-83A7-6B226054F1E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4  Cook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tring = getenv( "HTTP_COOKIE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for data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E06B-4253-437D-BD61-F432F84557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ccessing Web Serv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URL to access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achine name (host na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Web server (on own machi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s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te Web server (machine on networ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s group of hosts on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with top-level-domain and host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level-domai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Name Server (DNS) translates name to IP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 used by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3.110.43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way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8018-53D8-43A7-9476-535F52741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5: cookieform.html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Cookie Demonstration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ing a cookie to the client compute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ck Write Cookie to save your cookie data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writecooki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ge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BA78-73CF-44CF-80A2-728F33B2359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vorite Color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7F7E-C8E8-405A-A13A-8773F10F787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okieform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cookies_1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9338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3C54-0061-4DA6-9724-F36E8F88771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6: write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write a cookie to a client's machin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piration date of cooki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10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29000" y="4343400"/>
            <a:ext cx="4114800" cy="838080"/>
            <a:chOff x="3429000" y="4343400"/>
            <a:chExt cx="4114800" cy="838080"/>
          </a:xfrm>
        </p:grpSpPr>
        <p:sp>
          <p:nvSpPr>
            <p:cNvPr id="314" name=""/>
            <p:cNvSpPr/>
            <p:nvPr/>
          </p:nvSpPr>
          <p:spPr>
            <a:xfrm>
              <a:off x="487692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expiration date of cooki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42900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CC21-C92F-48A9-8945-01A89AC8278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data from standard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string for data and store loca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lo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lo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but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age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ge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g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D886-6A7D-49BE-9FDF-42783D7F1DC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value for user's favorite col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lorLocatio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orString = dataString.substr( colorLocation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Color -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okie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ge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okie Saved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14600" y="609480"/>
            <a:ext cx="4114800" cy="838440"/>
            <a:chOff x="2514600" y="609480"/>
            <a:chExt cx="4114800" cy="838440"/>
          </a:xfrm>
        </p:grpSpPr>
        <p:sp>
          <p:nvSpPr>
            <p:cNvPr id="321" name=""/>
            <p:cNvSpPr/>
            <p:nvPr/>
          </p:nvSpPr>
          <p:spPr>
            <a:xfrm>
              <a:off x="3962520" y="609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cookie data (comes before other header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514600" y="762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EEDF-4D21-4C2A-B8E5-73E58969DB7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ser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e cookies have been set with the follow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ameString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"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olor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Click &lt;a href=\"/cgi-bin/read_cookie.cgi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re&lt;/a&gt; to read saved cookie data: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80BB-0459-40C0-ACC7-A6A7BC0DEE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ookies_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33800" cy="29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248F-FD5E-4A90-84CF-C22B7B1DB3F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6.17: readcooki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read cooki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am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g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lo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_COOKI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through cookie data string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Nam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09680" y="3505320"/>
            <a:ext cx="4114800" cy="838080"/>
            <a:chOff x="2209680" y="3505320"/>
            <a:chExt cx="4114800" cy="838080"/>
          </a:xfrm>
        </p:grpSpPr>
        <p:sp>
          <p:nvSpPr>
            <p:cNvPr id="330" name=""/>
            <p:cNvSpPr/>
            <p:nvPr/>
          </p:nvSpPr>
          <p:spPr>
            <a:xfrm>
              <a:off x="3657600" y="35053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cooki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2096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75D9-CF29-4C8B-AC56-2680BA8821D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g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g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lor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cookie data in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ameString = dataString.substr( nameLocation, endNam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ame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geString = dataString.substr( ageLocation, endAge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geLocation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lorString = dataString.substr( colo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Read Cookies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F860-7981-40AB-9273-157CC52FCF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pache HTTP Serv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bility, cost (free),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-sour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s on Unix, Linux, Wind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ww.apache.o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llation instructions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ww.deite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running, command-prompt window op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21_10" descr=""/>
          <p:cNvPicPr/>
          <p:nvPr/>
        </p:nvPicPr>
        <p:blipFill>
          <a:blip r:embed="rId1"/>
          <a:stretch/>
        </p:blipFill>
        <p:spPr>
          <a:xfrm>
            <a:off x="1152360" y="4334040"/>
            <a:ext cx="6315120" cy="84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85E-04AF-49F5-9CA2-00E99092E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3&gt;The following data is saved in a cookie 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your computer&lt;/h3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am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String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Ag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&lt; ageString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p&gt;Col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lor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r/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No cookie data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&lt;/html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1EB6-46F0-42E1-8CEC-642D547B05A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cooki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cookies_3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493380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FCDF-885B-4E37-9C43-FB2973E15A8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5  Server-Side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located 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secure way of maintaining important 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permission to chang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data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word reques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simpl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s.d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or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ublicly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ata validation (proper format for ent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DC3E-B100-46B6-9F7A-D081961FE8A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?xml vers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.0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?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 html 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//W3C//DTD XHTML 1.0 Transitional//E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TR/xhtml1/DTD/xhtml1-transitional.dtd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ig. 16.18: savefile.html       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&lt;!-- Form to input client information    -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tml xmlns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ttp://www.w3.org/1999/xhtml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contact inform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ead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ease enter your information in the form below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: You must fill in all fields.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form method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s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action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cgi-bin/savefile.cgi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ir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ast Nam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6150-8AC2-4787-A1BF-9010B497F92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 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r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Tow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t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lt;br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Zip Cod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ntry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0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-mail Addres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x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"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bmi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input typ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et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ear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/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for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od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tml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A593-DAC2-4AD3-84FD-BF8614EF055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ht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savefile_1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447660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00E0-74A0-486D-8E3A-D6112F2025A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19: savefi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enter user's contact information into 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rver-sid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tString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8E8F-82DF-47B9-A729-5AFD78CDD1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addre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ow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a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zipco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countr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mai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.read( postString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aString = post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firs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next '+'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arLocation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.replace( charLoca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ha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+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charLoca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DCEA-C228-4289-A397-6198DF4BCEE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Start 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Fir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last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dataString.substr( first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First - fir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Las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addres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dataString.substr( last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Last - last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ddres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Address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tow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ddress = dataString.substr( address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Address - address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tow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wn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w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Tow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t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wn = dataString.substr( townStart, endTown - townStart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1FDF-4906-421A-947C-6F3C87CD0F3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st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State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zipc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e = dataString.substr( state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State - state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zip c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ip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ipcod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Zip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count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ipcode = dataString.substr( zipStart, endZip - zip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coun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ry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r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Country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ema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ry = dataString.substr( countryStar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Country - country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location of e-mail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Start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ail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Email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submi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ail = dataString.substr( emailStar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Email - emailStar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1787-7722-441C-9EC2-9EB52EAA33F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che HTTP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XHTML docu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do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\Program Files\Apache Group\Ap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Linux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usr/local/http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act location may v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st.htm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Chapter 16 examples on CD-R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ttp://localhost/test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pache, root of URL refers to default dire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eed to enter director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09DF-EA6C-4EBE-BCB0-4177E604C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Contact Information entere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itle&gt;&lt;/head&gt;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to fil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was not opened proper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could not open contact fil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66880" y="2590920"/>
            <a:ext cx="4114800" cy="838080"/>
            <a:chOff x="2666880" y="2590920"/>
            <a:chExt cx="4114800" cy="838080"/>
          </a:xfrm>
        </p:grpSpPr>
        <p:sp>
          <p:nvSpPr>
            <p:cNvPr id="357" name=""/>
            <p:cNvSpPr/>
            <p:nvPr/>
          </p:nvSpPr>
          <p:spPr>
            <a:xfrm>
              <a:off x="411480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s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66688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72C4-D3A7-4D1C-972A-C334E8D4257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data to clients.txt fil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File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ail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a to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able&gt;&lt;tbody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Fir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Last Nam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Address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ddres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Town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w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Stat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a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Zip Code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zipcod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Country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ountr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tr&gt;&lt;td&gt;Email:&lt;/td&gt;&lt;t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ai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d&gt;&lt;/tr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tbody&gt;&lt;/table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A933-E8C0-457E-AD1A-119AB19CAA5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7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vefil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3" name="savefile_2" descr=""/>
          <p:cNvPicPr/>
          <p:nvPr/>
        </p:nvPicPr>
        <p:blipFill>
          <a:blip r:embed="rId1"/>
          <a:stretch/>
        </p:blipFill>
        <p:spPr>
          <a:xfrm>
            <a:off x="1523880" y="1200240"/>
            <a:ext cx="4353120" cy="3219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648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s.d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 D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3 Mai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oston MA USA 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ne@do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90D-F98F-46D3-AF49-39D8CB7E466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what user wants to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amazo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, remove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y books from virtual book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scripts, 2 server-side files, cook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script: user lo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to create new memb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ame/password pair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data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C2B7-79C4-4A19-9C3D-27279F54A40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1: logi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output an XHTML form, verif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entered, and add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981080" y="4191120"/>
            <a:ext cx="4114800" cy="838080"/>
            <a:chOff x="1981080" y="4191120"/>
            <a:chExt cx="4114800" cy="838080"/>
          </a:xfrm>
        </p:grpSpPr>
        <p:sp>
          <p:nvSpPr>
            <p:cNvPr id="370" name=""/>
            <p:cNvSpPr/>
            <p:nvPr/>
          </p:nvSpPr>
          <p:spPr>
            <a:xfrm>
              <a:off x="34290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empty cookie to user's mach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810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752480" y="2819520"/>
            <a:ext cx="4572000" cy="1962000"/>
            <a:chOff x="1752480" y="2819520"/>
            <a:chExt cx="4572000" cy="1962000"/>
          </a:xfrm>
        </p:grpSpPr>
        <p:sp>
          <p:nvSpPr>
            <p:cNvPr id="373" name=""/>
            <p:cNvSpPr/>
            <p:nvPr/>
          </p:nvSpPr>
          <p:spPr>
            <a:xfrm>
              <a:off x="36576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XHTML header information, set page title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752480" y="3276720"/>
              <a:ext cx="1905120" cy="15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1A23-05C8-4B73-94C1-550747067B7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2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r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data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newChec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tent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was pos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trieve que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ntentLength = atoi( getenv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_LENG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.read( query, content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taString = que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username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User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378" name=""/>
            <p:cNvSpPr/>
            <p:nvPr/>
          </p:nvSpPr>
          <p:spPr>
            <a:xfrm>
              <a:off x="4038480" y="2362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user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3287-7412-40B4-A05E-A61F34C20C3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3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ind password 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wordLocation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ndPassword = dataString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amp;new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membership requeste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ndPassword - passwordLocation )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sting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assWord = dataString.substr( password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serName = dataString.substr( userLocation, endUser -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userLoca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data was retrie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ataString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Please login.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81080" y="3505320"/>
            <a:ext cx="4114800" cy="838080"/>
            <a:chOff x="1981080" y="3505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4290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data provided, show login for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810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7B63-7A93-44F4-8219-FB410F0F46C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4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ogin form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form method = \"post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ction = \"/cgi-bin/login.cgi\"&gt;&lt;p&gt;"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User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text\" name = \"user\"/&gt;&lt;br/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Passwor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password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ame = \"password\"/&gt;&lt;br/&gt;"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New? &lt;input type = \"checkbox\"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name = \"new\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value = \"1\"/&gt;&lt;/p&gt;"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input type = \"submit\" value = \"login\"/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&lt;/form&gt;"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B343-1BDF-409E-B096-BEBD0D22568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5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entered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ew memb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ndPassword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is already taken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361960" y="228600"/>
            <a:ext cx="4572360" cy="4419720"/>
            <a:chOff x="2361960" y="228600"/>
            <a:chExt cx="4572360" cy="4419720"/>
          </a:xfrm>
        </p:grpSpPr>
        <p:sp>
          <p:nvSpPr>
            <p:cNvPr id="390" name=""/>
            <p:cNvSpPr/>
            <p:nvPr/>
          </p:nvSpPr>
          <p:spPr>
            <a:xfrm>
              <a:off x="42670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a new member, check that the name is not ta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8191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1960" y="380880"/>
              <a:ext cx="1904760" cy="42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349E-108A-4DE0-A530-FDB83D95ED5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6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ame is tak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ameTake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is name has already been taken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y Aga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user data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ap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F32C-E4D0-472E-8E86-599A35B06F7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questing XHTML Doc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8" name="21_1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761000" cy="14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477A-2719-4F55-B776-F35A3F3096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7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e user data to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serData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assWo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r information has been processed.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&lt;/p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password if en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to store username and passw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Usernam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tring filePasswo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114800" y="838080"/>
            <a:ext cx="4114800" cy="838440"/>
            <a:chOff x="4114800" y="838080"/>
            <a:chExt cx="4114800" cy="838440"/>
          </a:xfrm>
        </p:grpSpPr>
        <p:sp>
          <p:nvSpPr>
            <p:cNvPr id="398" name=""/>
            <p:cNvSpPr/>
            <p:nvPr/>
          </p:nvSpPr>
          <p:spPr>
            <a:xfrm>
              <a:off x="55627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fter password saved to file, provide link for next p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1148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A91B-7FAF-4FB6-A354-B829E899C1A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8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password file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serdata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user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Data &gt;&gt; fileUsername &gt;&gt; filePasswo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and password matc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passWord == filePassword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authenticate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name was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Name == fileUsernam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userFound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uthenticate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writeCooki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78B5-E753-441D-B4C1-417FA533B18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9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Thank you for returning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user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&lt;/p&gt;"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shop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rt Shopping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not authentic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word is incorr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userFou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have entered an incorr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assword. Please try again.&lt;/p&gt;"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ck to login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 is not registe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p&gt;You are not a registered user.&lt;/p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a href=\"/cgi-bin/login.cgi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gister&lt;/a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343400" y="837720"/>
            <a:ext cx="3124080" cy="1266840"/>
            <a:chOff x="4343400" y="837720"/>
            <a:chExt cx="3124080" cy="1266840"/>
          </a:xfrm>
        </p:grpSpPr>
        <p:sp>
          <p:nvSpPr>
            <p:cNvPr id="405" name=""/>
            <p:cNvSpPr/>
            <p:nvPr/>
          </p:nvSpPr>
          <p:spPr>
            <a:xfrm>
              <a:off x="48006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gistered user authenticated, provide link for next p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4343400" y="83772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4E9A-C5BE-445B-983B-D9697705A14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0 of 1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/body&gt;\n&lt;/html&gt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tent-Type: text/html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ML declaration and DOC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?xml version = \"1.0\"?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!DOCTYPE html PUBLIC \"-//W3C//DTD XHTML 1.0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ansitional//EN\" \"http://www.w3.org/TR/xhtml1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/DTD/xhtml1-transitional.dtd\"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tml element and some of its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tml xmlns = \"http://www.w3.org/1999/xhtml\"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head&gt;&lt;title&gt;Login Page&lt;/title&gt;&lt;/head&gt;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&lt;body&gt;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0096-3832-4DB5-817D-52D5765B43E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 (11 of 11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905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write cooki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riteCooki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expire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iday, 14-MAY-04 16:00:00 GM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t-Cookie: CART=; expires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xpire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path=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riteCook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casestudy_login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417204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3ED4-D15B-462E-93D8-9308B2681A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casestudy_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4371840" cy="2781360"/>
          </a:xfrm>
          <a:prstGeom prst="rect">
            <a:avLst/>
          </a:prstGeom>
          <a:ln w="0">
            <a:noFill/>
          </a:ln>
        </p:spPr>
      </p:pic>
      <p:pic>
        <p:nvPicPr>
          <p:cNvPr id="414" name="casestudy_2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437184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447C-A671-4721-BA97-44DA01F4056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gi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casestudy_3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371840" cy="1952640"/>
          </a:xfrm>
          <a:prstGeom prst="rect">
            <a:avLst/>
          </a:prstGeom>
          <a:ln w="0">
            <a:noFill/>
          </a:ln>
        </p:spPr>
      </p:pic>
      <p:pic>
        <p:nvPicPr>
          <p:cNvPr id="417" name="casestudy_4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4371840" cy="19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78AD-EF2E-4BF4-8D8E-C896F7E29DA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6.16  Case Study: Shopping Car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p.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 books user can purc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data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alo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"buy" form 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is ISB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ushed,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ewcart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32A0-EFA4-4657-B629-0A550448FD3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6.22: sho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display available book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ad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098E-9326-4AC5-AFDA-6EC3A4296AD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p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s to store product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o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book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year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sbn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price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Taken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n file for input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userData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alog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le could not be ope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userData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ld not open databas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ad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AED7-E5AD-48E5-8BFF-049CA8D244C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0:13:00Z</dcterms:created>
  <dc:creator>kalid</dc:creator>
  <dc:description/>
  <dc:language>en-US</dc:language>
  <cp:lastModifiedBy>Pearson Education</cp:lastModifiedBy>
  <dcterms:modified xsi:type="dcterms:W3CDTF">2002-08-22T20:13:34Z</dcterms:modified>
  <cp:revision>743</cp:revision>
  <dc:subject/>
  <dc:title>PowerPoint Presentation</dc:title>
</cp:coreProperties>
</file>