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FBED-97AB-47DA-ABEE-08E2F2402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0E44-DF1B-4A73-9A7A-09DE11C59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C432-3925-4501-A25B-CB2BA1346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F8D4-3C40-4D4A-9529-A722DEF0F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FC2A6-24C2-4E88-A454-4D7C9618CA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2204D-0AB7-4833-A461-FF11F13987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689DD-610B-4A27-9F5E-FEC9CBEA74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2101B-0ED1-45CC-B6E2-81219CAB72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289D5-32C2-4472-91EA-F46B161D56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B33B4-E7BF-4C42-9EE2-E788D82839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8D924-CA95-422E-A07F-7C0EB7F8B7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AB08-61EF-4BA7-A7BD-B7782DB2D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0BDBE-419A-4902-A7B4-27DE710526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ABC48-5229-43CE-B751-704E8C4F89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5FC36-AF9C-4030-B69B-A1339C5863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158B3-2982-44A2-9E60-112F1173B8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91B14-30B2-4F4F-B726-5D33973626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0078-9C25-44E3-A11F-AAD748B44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BD50-1386-4395-9DFF-E76BE1C29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5FF2-EA28-45B4-80EC-E49B890B7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7681C-D2FD-426A-88DD-EFC058DBD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58724-E1C8-4F10-A19E-D08ACB284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5076-579C-48DA-B9E1-D61A8EA32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CF1FF-3EFE-4CD7-9FF1-51F7AD043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0CA4-FBB8-4B1E-B53E-C465376DD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5381-F5EE-434C-870E-5F0AD8E93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5 - Class string and String Stream Process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301760"/>
            <a:ext cx="77724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1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2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tring Assignment and Concate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3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omparing st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4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ubst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5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wapping st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6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tring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7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Finding Strings and Characters in a 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8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Replacing Characters in a 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9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serting Characters into a 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10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onversion to C-Style char * St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11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te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5.12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tring Stream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D236-744E-4C9C-BE7A-28878AF2B8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paring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1.compare(s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positive 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exicographically grea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letter by l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xicographically greater th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negative if less, zero if eq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compare(start, length, s2, start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lengt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portion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compare(start, length, s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portion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all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D250-34AA-4103-AED1-9082EEDE8B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2: fig15_0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ring comparison capabiliti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sting the comparison functions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ll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3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ing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4( string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F0E37-7F52-4673-8D36-7F5DF4A437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4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mparing string1 and string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ring1 == string4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== string4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tring1 != string4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tring1 &gt; string4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&gt; string4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1 &lt; string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&lt; string4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ing string1 and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 = string1.compare( string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string2 ) ==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!=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string2 ) &gt;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&lt;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string2 ) &lt;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47760" y="1440000"/>
            <a:ext cx="5867640" cy="1379880"/>
            <a:chOff x="3047760" y="1440000"/>
            <a:chExt cx="5867640" cy="1379880"/>
          </a:xfrm>
        </p:grpSpPr>
        <p:sp>
          <p:nvSpPr>
            <p:cNvPr id="129" name=""/>
            <p:cNvSpPr/>
            <p:nvPr/>
          </p:nvSpPr>
          <p:spPr>
            <a:xfrm>
              <a:off x="4495680" y="1440000"/>
              <a:ext cx="4419720" cy="1379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1: Testing the comparison function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2: Hel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3: stin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4: Hel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1 &gt; string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3047760" y="1440000"/>
              <a:ext cx="144756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8120" y="685800"/>
            <a:ext cx="4038480" cy="590400"/>
            <a:chOff x="3048120" y="685800"/>
            <a:chExt cx="4038480" cy="590400"/>
          </a:xfrm>
        </p:grpSpPr>
        <p:sp>
          <p:nvSpPr>
            <p:cNvPr id="132" name=""/>
            <p:cNvSpPr/>
            <p:nvPr/>
          </p:nvSpPr>
          <p:spPr>
            <a:xfrm>
              <a:off x="4419720" y="685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overload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==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048120" y="990720"/>
              <a:ext cx="137160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159C8-CDB7-4D5A-BA50-F415DBDC3D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mparing string1 (elements 2-5) and string3 (elements 0-5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ring1.compa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3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2, 5, string3, 0, 5 ) ==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!=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2, 5, string3, 0, 5 ) &gt;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&lt;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compare( 2, 5, string3, 0, 5 ) &lt; 0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ing string2 and string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ring4.compa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2.length(), string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4.compare( 0, string2.length(),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 ) ==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!=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4.compare( 0, string2.length(),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 ) &gt;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&lt;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4.compare( 0, string2.length(),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 ) &lt; 0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742840" y="664920"/>
            <a:ext cx="3810240" cy="337680"/>
            <a:chOff x="2742840" y="664920"/>
            <a:chExt cx="3810240" cy="337680"/>
          </a:xfrm>
        </p:grpSpPr>
        <p:sp>
          <p:nvSpPr>
            <p:cNvPr id="137" name=""/>
            <p:cNvSpPr/>
            <p:nvPr/>
          </p:nvSpPr>
          <p:spPr>
            <a:xfrm>
              <a:off x="3886200" y="6652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p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2742840" y="664920"/>
              <a:ext cx="1143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2BC59-FE9E-48CB-984C-EB7B53A1B8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ing string2 and string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string2.compa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4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.compare( 0, 3, string4 ) ==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!=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.compare( 0, 3, string4 ) &gt; 0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&lt;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2.compare( 0, 3, string4 ) &lt; 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76720"/>
            <a:ext cx="7010280" cy="243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Testing the comparison fun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st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4: 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&gt; string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.compare( string2 )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.compare( 2, 5, string3, 0, 5 ) =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4.compare( 0, string2.length(), string2 ) =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.compare( 0, 3, string4 )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BB2A5-822E-4BDB-8F9D-9015FD66C9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ub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b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ts sub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substr( start, N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haracters, beginning with inde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sub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14DFF-B24A-48E6-BA96-F7095936F0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3: fig15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ring member function subst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airplane landed on tim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rieve substring "plane" whi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egins at subscript 7 and consists of 5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tring1.subs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029200"/>
            <a:ext cx="7010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429000" y="3103560"/>
            <a:ext cx="4572000" cy="858960"/>
            <a:chOff x="3429000" y="3103560"/>
            <a:chExt cx="4572000" cy="858960"/>
          </a:xfrm>
        </p:grpSpPr>
        <p:sp>
          <p:nvSpPr>
            <p:cNvPr id="148" name=""/>
            <p:cNvSpPr/>
            <p:nvPr/>
          </p:nvSpPr>
          <p:spPr>
            <a:xfrm>
              <a:off x="5334120" y="310356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ag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ubs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29000" y="3276720"/>
              <a:ext cx="1905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603DB-83A6-4892-A212-A48521D8C6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wapping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1.swap(s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witch contents of two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3F05-13E6-4C7B-A71F-3B36327F70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4: fig15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he swap function to swap two string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firs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eco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w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tr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fore swap:\n firs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fir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eco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rst.swap( second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str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swap:\n firs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fir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econd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cond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133360" y="3733920"/>
            <a:ext cx="4115160" cy="838080"/>
            <a:chOff x="2133360" y="3733920"/>
            <a:chExt cx="4115160" cy="838080"/>
          </a:xfrm>
        </p:grpSpPr>
        <p:sp>
          <p:nvSpPr>
            <p:cNvPr id="155" name=""/>
            <p:cNvSpPr/>
            <p:nvPr/>
          </p:nvSpPr>
          <p:spPr>
            <a:xfrm>
              <a:off x="3581280" y="37339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w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133360" y="3886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96B4C-718C-4D6C-A9CB-105E873561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fore sw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: 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cond: tw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wap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: tw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cond: 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C867-7DAF-44F5-9475-C5235BF1B4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asic_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 manipulation (copying, searching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def basic_string&lt; char &gt; str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char_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1( "Hello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2( 8, 'x'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'x'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month = "March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citly calls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5D8E-7346-4CE5-BF0A-7256756831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ing Characteristic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size(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lengt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characters in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capacity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elements that can be stored without re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max_size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possible string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empty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resize(newlengt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izes string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20DD-5E1D-4CA5-9F36-BFE9742D0F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5: fig15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member functions related to size and capacit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boolalph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tistic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atistics before inpu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olalph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Statistics( string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in "tomato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Enter a string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tring1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limited by white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entered w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5A7A4-2D21-43B2-A250-D5F3D5219C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tistics after inpu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Statistics( string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in "soup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tring1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limited by white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remaining string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Statistics( string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nd 46 characters to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234567890abcdefghijklmnopqrstuvwxyz1234567890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tring1 is now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Statistics( string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10 elements to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.resize( string1.length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tats after resizing by (length + 10)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Statistics( string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504960" y="2590920"/>
            <a:ext cx="2895840" cy="838080"/>
            <a:chOff x="3504960" y="2590920"/>
            <a:chExt cx="2895840" cy="838080"/>
          </a:xfrm>
        </p:grpSpPr>
        <p:sp>
          <p:nvSpPr>
            <p:cNvPr id="166" name=""/>
            <p:cNvSpPr/>
            <p:nvPr/>
          </p:nvSpPr>
          <p:spPr>
            <a:xfrm>
              <a:off x="4952880" y="2590920"/>
              <a:ext cx="1447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size str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504960" y="2743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07528-2B3F-418C-812F-3F21F923EF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14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tring statistic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tistic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tringRef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pacit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Ref.capacity(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ax siz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Ref.max_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Ref.size()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length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Ref.length(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mpt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Ref.empty(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rintStatistic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438280"/>
            <a:ext cx="7010280" cy="3581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stics before in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pacity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size: 42949672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: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tring: tomato s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entered was: tom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stics after in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pacity: 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size: 42949672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: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: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: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800600" y="152280"/>
            <a:ext cx="4114800" cy="838440"/>
            <a:chOff x="4800600" y="152280"/>
            <a:chExt cx="4114800" cy="838440"/>
          </a:xfrm>
        </p:grpSpPr>
        <p:sp>
          <p:nvSpPr>
            <p:cNvPr id="172" name=""/>
            <p:cNvSpPr/>
            <p:nvPr/>
          </p:nvSpPr>
          <p:spPr>
            <a:xfrm>
              <a:off x="6248520" y="152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various string characteristic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800600" y="304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2FE0C-5F2F-42B7-83CD-4BF4C6A9EE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maining string is: sou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pacity: 3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size: 429496729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: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: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: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is now: soup1234567890abcdefghijklmnopqrstuvwxyz123456789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pacity: 6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size: 429496729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: 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: 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: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s after resizing by (length + 10)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pacity: 6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size: 429496729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: 6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: 6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: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779F9-96D4-45C0-A26F-A79F1E3398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inding Strings and Characters in a str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found, index retur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found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::np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constant in class 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find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rfind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es right-to-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find_first_of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 occurrence of any character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find_frist_of( "abcd"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index of fir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c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d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00A47-5761-4C40-B3A6-33A82FD12F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inding Strings and Characters in a str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find_last_of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last occurrence of any character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find_first_not_of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first character NOT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find_last_not_of( 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last character NOT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AC53-EBED-4A64-8673-D8D4A9BC4B0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6: fig15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string find member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on is 12 p.m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"is" at location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iginal string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(find) \"is\" was found a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ing1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(rfind) \"is\" was found a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ing1.r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'o' at location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ring1.find_firs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so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038120" y="4572000"/>
            <a:ext cx="4115160" cy="837720"/>
            <a:chOff x="4038120" y="4572000"/>
            <a:chExt cx="4115160" cy="837720"/>
          </a:xfrm>
        </p:grpSpPr>
        <p:sp>
          <p:nvSpPr>
            <p:cNvPr id="183" name=""/>
            <p:cNvSpPr/>
            <p:nvPr/>
          </p:nvSpPr>
          <p:spPr>
            <a:xfrm>
              <a:off x="5486040" y="45720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nd first occurrenc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038120" y="4724280"/>
              <a:ext cx="14475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590560" y="3505320"/>
            <a:ext cx="4115160" cy="838080"/>
            <a:chOff x="2590560" y="3505320"/>
            <a:chExt cx="4115160" cy="838080"/>
          </a:xfrm>
        </p:grpSpPr>
        <p:sp>
          <p:nvSpPr>
            <p:cNvPr id="186" name=""/>
            <p:cNvSpPr/>
            <p:nvPr/>
          </p:nvSpPr>
          <p:spPr>
            <a:xfrm>
              <a:off x="4038480" y="35053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all to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2590560" y="3657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EAD89-DA69-4986-AB02-5E8054D5DC5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(find_first_of) found '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[ location 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from the group \"misop\" at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loca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'm' at location 1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ring1.find_las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sop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(find_last_of) found '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[ location ]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from the group \"misop\" at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loca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'1' at location 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ring1.find_first_no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i sp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(find_first_not_of) '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[ location 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is not contained in \"noi spm\" and was found a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loca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'.' at location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ring1.find_first_no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2noi sp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(find_first_not_of) '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[ location 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' is not contained in \"12noi spm\" and wa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und a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location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76360" y="685800"/>
            <a:ext cx="4115160" cy="3429000"/>
            <a:chOff x="3276360" y="685800"/>
            <a:chExt cx="4115160" cy="3429000"/>
          </a:xfrm>
        </p:grpSpPr>
        <p:sp>
          <p:nvSpPr>
            <p:cNvPr id="191" name=""/>
            <p:cNvSpPr/>
            <p:nvPr/>
          </p:nvSpPr>
          <p:spPr>
            <a:xfrm>
              <a:off x="4724280" y="6858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s to other find functions simila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276360" y="838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429000" y="838080"/>
              <a:ext cx="12952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733560" y="838080"/>
              <a:ext cx="99036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08186-ADE0-42B1-BDB6-EAAEB179750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86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for characters not in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ocation = string1.find_first_not_o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on is 12 p.m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find_first_not_of(\"noon is 12 p.m.\"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return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location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133720"/>
            <a:ext cx="7010280" cy="3657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iginal str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on is 12 p.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find) "is" was found at: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rfind) "is" was found at: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find_first_of) found 'o' from the group "misop" at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find_last_of) found 'm' from the group "misop" at: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find_first_not_of) '1' is not contained in "noi spm" and was found at: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find_first_not_of) '.' is not contained in "12noi spm" and was found at: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nd_first_not_of("noon is 12 p.m.") returned: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FAA98-1807-4DE7-A223-FB47825D5B3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fro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ollowing definitions are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error1 = 'c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error2( 'u'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error3 = 2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error4( 8 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ever, can assign to on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 = 'n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C119-BC90-45AE-89BD-213BEAF966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placing Characters in a str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1.erase( start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ase from index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end of string, inclu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replace( begin, N, s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ndex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art repl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umber of characters to re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eplacement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replace( begin, N, s2, index, num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lement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replacement be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umber of elements to use when repl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lacement can overwrite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::npo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presents max string 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2E7C-E6EF-40A1-AC69-5174EBA7D5D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791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7: fig15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ring member functions erase and repla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mpiler concatenates all parts into one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s in any left subtre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"\nare less than the value in th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"\nparent node and the values i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   "\nany right subtree are greater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an the value in the parent nod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iginal string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end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move all characters from (and including) location 6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rough the end of string1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.eras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1044C-17F6-4B34-A247-3579ABF0F5A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new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riginal string after erase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first replacemen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place all spaces with perio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sition = string1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osition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ring::npo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1.replace( positio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sition = string1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ositio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second replacemen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place all periods with two semicol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TE: this will overwrite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sition = string1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osition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ring::npo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ring1.replace( position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xxxx;;yy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sition = string1.fi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positio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tring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114800" y="1066680"/>
            <a:ext cx="4114800" cy="838440"/>
            <a:chOff x="4114800" y="1066680"/>
            <a:chExt cx="4114800" cy="838440"/>
          </a:xfrm>
        </p:grpSpPr>
        <p:sp>
          <p:nvSpPr>
            <p:cNvPr id="205" name=""/>
            <p:cNvSpPr/>
            <p:nvPr/>
          </p:nvSpPr>
          <p:spPr>
            <a:xfrm>
              <a:off x="556272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nd each space and replace with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'.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11480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885840" y="2437920"/>
            <a:ext cx="3734280" cy="962280"/>
            <a:chOff x="3885840" y="2437920"/>
            <a:chExt cx="3734280" cy="962280"/>
          </a:xfrm>
        </p:grpSpPr>
        <p:sp>
          <p:nvSpPr>
            <p:cNvPr id="208" name=""/>
            <p:cNvSpPr/>
            <p:nvPr/>
          </p:nvSpPr>
          <p:spPr>
            <a:xfrm>
              <a:off x="4952880" y="2819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rt each search at the next posi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885840" y="2437920"/>
              <a:ext cx="10666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419360" y="3505320"/>
            <a:ext cx="4115160" cy="838080"/>
            <a:chOff x="4419360" y="3505320"/>
            <a:chExt cx="4115160" cy="838080"/>
          </a:xfrm>
        </p:grpSpPr>
        <p:sp>
          <p:nvSpPr>
            <p:cNvPr id="211" name=""/>
            <p:cNvSpPr/>
            <p:nvPr/>
          </p:nvSpPr>
          <p:spPr>
            <a:xfrm>
              <a:off x="5867280" y="35053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lace 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'.'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 two semicolons (the two characters at index 5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419360" y="3657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200400" y="228600"/>
            <a:ext cx="3124080" cy="1428840"/>
            <a:chOff x="3200400" y="228600"/>
            <a:chExt cx="3124080" cy="1428840"/>
          </a:xfrm>
        </p:grpSpPr>
        <p:sp>
          <p:nvSpPr>
            <p:cNvPr id="214" name=""/>
            <p:cNvSpPr/>
            <p:nvPr/>
          </p:nvSpPr>
          <p:spPr>
            <a:xfrm>
              <a:off x="3657600" y="228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::npo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presents max string lengt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200400" y="81900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1C196-B78E-4EE1-A667-593916A6AF3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iginal string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s in any left 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 less than the value in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node and the values 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y right subtree are grea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an the value in the parent n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riginal string after eras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s in any left 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 less than the value in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first replacemen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.values.in.any.left.s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.less.than.the.value.in.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econd replacemen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;;alues;;n;;ny;;eft;;ubtr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;;ess;;han;;he;;alue;;n;;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5C6D7-5E21-4596-916B-4AA5541C62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serting Characters into a str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1.insert( index, s2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fore posi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1.insert( index, s2, index2, N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s substring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fore posi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string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haracters, starting 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dex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FF70-BDE7-4418-B174-9439616586E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8: fig15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class string insert member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ginning e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iddle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3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2345678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4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itial strings:\n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4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4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sert "middle" at location 10 in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.inse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2 )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895480" y="4343400"/>
            <a:ext cx="4114800" cy="838080"/>
            <a:chOff x="2895480" y="4343400"/>
            <a:chExt cx="4114800" cy="838080"/>
          </a:xfrm>
        </p:grpSpPr>
        <p:sp>
          <p:nvSpPr>
            <p:cNvPr id="223" name=""/>
            <p:cNvSpPr/>
            <p:nvPr/>
          </p:nvSpPr>
          <p:spPr>
            <a:xfrm>
              <a:off x="4343400" y="4343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ert all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fore element 10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895480" y="4495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9DB87-B06A-4150-B04E-201F3ED47A3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sert "xx" at location 3 in string3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3.inser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4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ring::npo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s after insert:\n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4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4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36232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str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beginning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123456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4: 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s after inser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beginning middl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123xx456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4: 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19520" y="685440"/>
            <a:ext cx="3504960" cy="1495440"/>
            <a:chOff x="2819520" y="685440"/>
            <a:chExt cx="3504960" cy="1495440"/>
          </a:xfrm>
        </p:grpSpPr>
        <p:sp>
          <p:nvSpPr>
            <p:cNvPr id="229" name=""/>
            <p:cNvSpPr/>
            <p:nvPr/>
          </p:nvSpPr>
          <p:spPr>
            <a:xfrm>
              <a:off x="3657600" y="1600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ert all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fore index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2819520" y="685440"/>
              <a:ext cx="8380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9CF01-C1D6-4F5B-8AD9-11B5D53D641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0  Conversion to C-Style char *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not necessarily null-termin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copy( ptr, N, index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into the arra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s at loca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null term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c_str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 term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data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null-term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49416-CEB4-4B0F-953E-99445E20580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9: fig15_0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ting to C-style string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= string1.length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2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length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ing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py characters from string1 into allocated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.copy( ptr2, length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2[ length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null termin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 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1 converted to a C-Style string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ing1.c_str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tr1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828440" y="2819520"/>
            <a:ext cx="4724640" cy="2819160"/>
            <a:chOff x="1828440" y="2819520"/>
            <a:chExt cx="4724640" cy="2819160"/>
          </a:xfrm>
        </p:grpSpPr>
        <p:sp>
          <p:nvSpPr>
            <p:cNvPr id="236" name=""/>
            <p:cNvSpPr/>
            <p:nvPr/>
          </p:nvSpPr>
          <p:spPr>
            <a:xfrm>
              <a:off x="388620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all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p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_s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1828440" y="2971800"/>
              <a:ext cx="2057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514600" y="2971800"/>
              <a:ext cx="137160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CE6D3-CE4F-4335-9A60-8163D78A406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ssign to pointer ptr1 the const char * returned by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unction data(). NOTE: this is a potentially dangero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ssignment. If string1 is modified, pointer ptr1 can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ecome invalid.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1 = string1.data();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each character using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length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*( ptr1 + i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pointer arithmet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tr2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tr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ptr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733920"/>
            <a:ext cx="7010280" cy="1218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is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converted to a C-Style string is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tr1 is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tr2 is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61934-396B-45D5-B528-A4D4500F3A8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necessaril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rmin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.lengt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access individual character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[0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ngth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t a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member functions take start position and 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ength argument too large, max cho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am ex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string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line( cin,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mited by new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02B38-1DAF-486E-A3F9-2BC1640A42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1  It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wards and backwards traversal of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to individual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pointer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coverage Chapter 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1560-7083-4B6D-A28E-1706D53CC90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1  It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::const_iterator i = s.begi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annot modify string (more Chapter 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enc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i; // reference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i; // traverse one character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for end of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!= s.end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iterator after last elemen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BBE1-42E6-4312-BAAB-37F39C70BC3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10: fig15_1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n iterator to output a str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sting iterator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::const_iterator iterator1 = string1.begi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(Using iterator iterator1) string1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terate through string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terator1 != string1.end() ) {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*iterator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reference iterator to get ch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iterator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vance iterator to next char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200400" y="3657600"/>
            <a:ext cx="4114800" cy="838080"/>
            <a:chOff x="3200400" y="3657600"/>
            <a:chExt cx="4114800" cy="838080"/>
          </a:xfrm>
        </p:grpSpPr>
        <p:sp>
          <p:nvSpPr>
            <p:cNvPr id="249" name=""/>
            <p:cNvSpPr/>
            <p:nvPr/>
          </p:nvSpPr>
          <p:spPr>
            <a:xfrm>
              <a:off x="4648320" y="3657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 each character using the it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200400" y="3809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1E7E5-8E95-4BD6-89EF-833C82FCF04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= Testing iter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Using iterator iterator1) string1 is: Testing iter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5F611-7811-4E6A-9403-1D561D34513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2  String Stream Process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 of strings to and from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ed in-memory I/O or string stream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tring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nput from st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string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utput to a st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stream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string formatting to save data to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067B-75B9-482F-96FB-FBCF8DC95C6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2  String Stream Process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ingstream outputString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utputString &lt;&lt; s1 &lt;&lt; s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was output to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putString.st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0177-2B90-4574-B9B4-9FF5F2C8526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11: fig15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dynamically allocated ostringstream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stream&gt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ing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stringstream outputString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ostringstream inst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put of several data type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 an ostringstream object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3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    doubl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4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        i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5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ddress of i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438280" y="2971800"/>
            <a:ext cx="4114800" cy="838080"/>
            <a:chOff x="2438280" y="2971800"/>
            <a:chExt cx="4114800" cy="838080"/>
          </a:xfrm>
        </p:grpSpPr>
        <p:sp>
          <p:nvSpPr>
            <p:cNvPr id="260" name=""/>
            <p:cNvSpPr/>
            <p:nvPr/>
          </p:nvSpPr>
          <p:spPr>
            <a:xfrm>
              <a:off x="3886200" y="2971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ing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438280" y="3124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3B4E9-D6DE-4D4C-8481-61B617F28AE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3.456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trings, double and int to outputString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String &lt;&lt; string1 &lt;&lt; string2 &lt;&lt; string3 &lt;&lt; double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&lt;&lt; string4 &lt;&lt; integer &lt;&lt; string5 &lt;&lt; &amp;inte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str to output contents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putString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utputString.st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additional characters and call str to output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String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ore characters add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additional stream insertions,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utputString contain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utputString.st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676520" y="1523880"/>
            <a:ext cx="3962160" cy="1876320"/>
            <a:chOff x="1676520" y="1523880"/>
            <a:chExt cx="3962160" cy="1876320"/>
          </a:xfrm>
        </p:grpSpPr>
        <p:sp>
          <p:nvSpPr>
            <p:cNvPr id="265" name=""/>
            <p:cNvSpPr/>
            <p:nvPr/>
          </p:nvSpPr>
          <p:spPr>
            <a:xfrm>
              <a:off x="297180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format just like to writing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1676520" y="1523880"/>
              <a:ext cx="12952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BDC21-0983-4FF0-BCD3-8660582EE9E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String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 of several data types to an ostringstream objec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: 123.45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: 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of int: 0012FE9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additional stream insertions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String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 of several data types to an ostringstream objec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: 123.45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: 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of int: 0012FE9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re characters add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87A0F-03FB-42E3-B9A1-D7A20FCD3AD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12  String Stream Process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ingstream inputString ( myString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putString &gt;&gt; string1 &gt;&gt; string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reading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04F6-3400-4975-9689-3C55799E161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ing Assignment and Concaten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2 = s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a separate 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2.assign(s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 = s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ring.assign(s, start, N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eginning at index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vidual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[0] = s3[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D637-F7F7-4905-8FC5-87E818866F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12: fig15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input from an istringstream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string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inpu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put test 123 4.7 A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stringstream inputString( inpu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ac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81280" y="3276720"/>
            <a:ext cx="4114800" cy="838080"/>
            <a:chOff x="3581280" y="3276720"/>
            <a:chExt cx="4114800" cy="838080"/>
          </a:xfrm>
        </p:grpSpPr>
        <p:sp>
          <p:nvSpPr>
            <p:cNvPr id="274" name=""/>
            <p:cNvSpPr/>
            <p:nvPr/>
          </p:nvSpPr>
          <p:spPr>
            <a:xfrm>
              <a:off x="5029200" y="3276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nd 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string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3581280" y="3429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63D11-BC5A-40D4-87D8-24E0C88C836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String &gt;&gt; string1 &gt;&gt; string2 &gt;&gt; integer &gt;&gt; double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&gt;&gt; character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following items were extracted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om the istringstream object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i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ouble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ouble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cha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harac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ttempt to read from empty stre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String &gt;&gt;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stream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putString.good(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long value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valu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inputString is empt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523520" y="457200"/>
            <a:ext cx="4877280" cy="1175400"/>
            <a:chOff x="1523520" y="457200"/>
            <a:chExt cx="4877280" cy="1175400"/>
          </a:xfrm>
        </p:grpSpPr>
        <p:sp>
          <p:nvSpPr>
            <p:cNvPr id="279" name=""/>
            <p:cNvSpPr/>
            <p:nvPr/>
          </p:nvSpPr>
          <p:spPr>
            <a:xfrm>
              <a:off x="3733920" y="12952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data into variabl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1523520" y="457200"/>
              <a:ext cx="22100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819160" y="3048120"/>
            <a:ext cx="4115160" cy="1067400"/>
            <a:chOff x="2819160" y="3048120"/>
            <a:chExt cx="4115160" cy="1067400"/>
          </a:xfrm>
        </p:grpSpPr>
        <p:sp>
          <p:nvSpPr>
            <p:cNvPr id="282" name=""/>
            <p:cNvSpPr/>
            <p:nvPr/>
          </p:nvSpPr>
          <p:spPr>
            <a:xfrm>
              <a:off x="4267080" y="30481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oo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1 if can still read data (no EOF, bad bits, etc). In this case, there is no data, so the test fai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2819160" y="3200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EC831-06C4-41AC-A5DF-E72E27056C4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13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following items were extrac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he istringstream objec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: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: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: 12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: 4.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: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String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C67B5-9B87-4B5A-BC62-45326D1B1DD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5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ing Assignment and Concaten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che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3.at( index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character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thro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_of_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no range che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3.append( "pet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3 += "pet"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pet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nd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3.append( s1, start, N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nd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eginning at index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7291-FDAB-4208-9011-C0EC24B8A5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5.1: fig15_0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ring assignment and concaten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2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3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2 = string1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ssign string1 to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3.assign( string1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string1 to string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361960" y="2209680"/>
            <a:ext cx="4115160" cy="1752840"/>
            <a:chOff x="2361960" y="2209680"/>
            <a:chExt cx="4115160" cy="1752840"/>
          </a:xfrm>
        </p:grpSpPr>
        <p:sp>
          <p:nvSpPr>
            <p:cNvPr id="102" name=""/>
            <p:cNvSpPr/>
            <p:nvPr/>
          </p:nvSpPr>
          <p:spPr>
            <a:xfrm>
              <a:off x="3809880" y="22096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ing initialization and assign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361960" y="2362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361960" y="2362320"/>
              <a:ext cx="14475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504960" y="3124080"/>
            <a:ext cx="4115160" cy="1219320"/>
            <a:chOff x="3504960" y="3124080"/>
            <a:chExt cx="4115160" cy="1219320"/>
          </a:xfrm>
        </p:grpSpPr>
        <p:sp>
          <p:nvSpPr>
            <p:cNvPr id="106" name=""/>
            <p:cNvSpPr/>
            <p:nvPr/>
          </p:nvSpPr>
          <p:spPr>
            <a:xfrm>
              <a:off x="4952880" y="3124080"/>
              <a:ext cx="2667240" cy="938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1: c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2: c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3: c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504960" y="3505320"/>
              <a:ext cx="1447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6A6B7-CE19-4894-A720-0841B38C5A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00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dify string2 and string3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string3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r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modification of string2 and string3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monstrating member function 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tring3.length(); i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tring3.at( i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declare string4 and string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4( string1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pul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tring5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+=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3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e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"carpet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1.appe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om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"catacomb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end subscript locations 4 through end of string1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string "comb" (string5 was initially empty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5.append( string1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1.length()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concatenation:\nstring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3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ing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4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5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5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895120" y="1447920"/>
            <a:ext cx="5410800" cy="1167120"/>
            <a:chOff x="2895120" y="1447920"/>
            <a:chExt cx="5410800" cy="1167120"/>
          </a:xfrm>
        </p:grpSpPr>
        <p:sp>
          <p:nvSpPr>
            <p:cNvPr id="111" name=""/>
            <p:cNvSpPr/>
            <p:nvPr/>
          </p:nvSpPr>
          <p:spPr>
            <a:xfrm>
              <a:off x="4191120" y="1676520"/>
              <a:ext cx="4114800" cy="938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fter modification of string2 and string3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1: c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2: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3: 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2895120" y="1447920"/>
              <a:ext cx="12956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514600" y="2361960"/>
            <a:ext cx="3124080" cy="1038240"/>
            <a:chOff x="2514600" y="2361960"/>
            <a:chExt cx="3124080" cy="1038240"/>
          </a:xfrm>
        </p:grpSpPr>
        <p:sp>
          <p:nvSpPr>
            <p:cNvPr id="114" name=""/>
            <p:cNvSpPr/>
            <p:nvPr/>
          </p:nvSpPr>
          <p:spPr>
            <a:xfrm>
              <a:off x="2971800" y="2819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use of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stead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514600" y="236196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962520" y="3726000"/>
            <a:ext cx="4343400" cy="1379880"/>
            <a:chOff x="3962520" y="3726000"/>
            <a:chExt cx="4343400" cy="1379880"/>
          </a:xfrm>
        </p:grpSpPr>
        <p:sp>
          <p:nvSpPr>
            <p:cNvPr id="117" name=""/>
            <p:cNvSpPr/>
            <p:nvPr/>
          </p:nvSpPr>
          <p:spPr>
            <a:xfrm>
              <a:off x="5638680" y="3726000"/>
              <a:ext cx="2667240" cy="1379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fter concatenatio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1: catacom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2: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3: carp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4: catapu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5: com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962520" y="4800600"/>
              <a:ext cx="1676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BCCA2-6FDE-448C-B16E-E9C832DF03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5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-360" y="838080"/>
            <a:ext cx="7010280" cy="373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c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c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c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modification of string2 and string3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c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r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c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concaten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: catacom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: r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3: carpe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4: catap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5: com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01028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Courier New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BE085-5A81-4F80-9DE5-56784F0AAB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5T20:00:22Z</dcterms:created>
  <dc:creator>kalid</dc:creator>
  <dc:description/>
  <dc:language>en-US</dc:language>
  <cp:lastModifiedBy>Pearson Education</cp:lastModifiedBy>
  <dcterms:modified xsi:type="dcterms:W3CDTF">2002-08-22T12:46:21Z</dcterms:modified>
  <cp:revision>495</cp:revision>
  <dc:subject/>
  <dc:title>PowerPoint Presentation</dc:title>
</cp:coreProperties>
</file>