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8DBE-D569-4D5A-80CF-B692A97C6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8993-98E0-4D4A-AD30-9AFC52215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5822-9658-4E3D-A6B6-54EA4657D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95B0-CDFC-42AD-BB6D-C3F56975B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75859-25C4-4877-9427-54D150F326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B4682-59D3-4905-AA46-53B803C12E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F9808-E3E3-47E8-8C8F-8734F8004C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8A5F2-4A07-497A-838C-1ECD411018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D5ECC-431E-4C0D-8DFB-18A7B4FA95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FB72-90F9-4601-B18A-E7455E3031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8FC98-E47B-4C71-86F7-D62C975F36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89113-EE8C-4380-8E92-5F8A1BBD0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CF4A0-A41A-420B-9500-E40198E34E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6342-A2F4-4D39-9A53-6C819E5BB6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FE1BB-3046-40B0-A405-17D78E42D0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BD4C1-3940-4A86-9523-63695B4131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C597C-D8F1-4742-A51A-641A8CA3DC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FCE0-D0BC-4D9E-82CD-7378B14C9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BDF2-60AF-4DE5-970B-9BB933FBF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F48D8-9B28-430F-A50B-F5FB1DE97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CBC6-5E04-45CE-A2CE-71DB7D6C2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9E1D-80CE-4CA0-AEB0-DCB51F074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8D8E-9FA1-4216-98B5-F8FF8780C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2895-D5E4-4655-B9FE-EC74BC057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D23A-79BE-4F59-9826-4DC637DE5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3CBC-CBAD-4FF8-A401-9050AB9EA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4 - File Process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371600"/>
            <a:ext cx="7315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Data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iles and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reating a Sequential-Access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ading Data from a Sequential-Access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pdating Sequential-Access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andom-Access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reating a Random-Access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riting Data Randomly to a Random-Access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ading Data Sequentially from a Random-Access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xample: A Transaction-Processing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4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put/Output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FA58-71C5-4153-83EB-6B32E3EFE5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reating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-open m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f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opened for output by defa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fstream outClientFile( "clients.dat", ios::ou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fstream outClientFile( "clients.da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09480" y="2021040"/>
          <a:ext cx="7305840" cy="338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21040"/>
                    <a:ext cx="7305840" cy="33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D01C-2EFF-4F15-827B-631D7DCC73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reating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!outClient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nonzero (true)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ed non-existent file for reading, wrong 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 void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stream object to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n 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, otherwise non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when EOF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cin &gt;&gt; myVariabl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citly conver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ps until 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D42E-F508-4FD5-AC46-59EB9F96CE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reating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ing to file (just li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ClientFile &lt;&lt; my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sing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ClientFile.clos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ally closed when destructor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A66B-556B-483D-B201-B7853FD4DD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4: fig14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 sequential fi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it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fstream constructor opens file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fstream outClientFi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s.d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o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unable to create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outClientFile ) {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!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open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057040" y="837720"/>
            <a:ext cx="3886560" cy="2181240"/>
            <a:chOff x="2057040" y="837720"/>
            <a:chExt cx="3886560" cy="2181240"/>
          </a:xfrm>
        </p:grpSpPr>
        <p:sp>
          <p:nvSpPr>
            <p:cNvPr id="253" name=""/>
            <p:cNvSpPr/>
            <p:nvPr/>
          </p:nvSpPr>
          <p:spPr>
            <a:xfrm>
              <a:off x="3276720" y="2438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the header files required for file I/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2057040" y="837720"/>
              <a:ext cx="12193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2209680" y="2438280"/>
              <a:ext cx="10670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038480" y="3124080"/>
            <a:ext cx="4114800" cy="1143000"/>
            <a:chOff x="4038480" y="3124080"/>
            <a:chExt cx="4114800" cy="1143000"/>
          </a:xfrm>
        </p:grpSpPr>
        <p:sp>
          <p:nvSpPr>
            <p:cNvPr id="257" name=""/>
            <p:cNvSpPr/>
            <p:nvPr/>
          </p:nvSpPr>
          <p:spPr>
            <a:xfrm>
              <a:off x="5486400" y="31240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created and used to open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"clients.dat"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f the file does not exist, it is crea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038480" y="358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666880" y="4419720"/>
            <a:ext cx="5562720" cy="590400"/>
            <a:chOff x="2666880" y="4419720"/>
            <a:chExt cx="5562720" cy="590400"/>
          </a:xfrm>
        </p:grpSpPr>
        <p:sp>
          <p:nvSpPr>
            <p:cNvPr id="260" name=""/>
            <p:cNvSpPr/>
            <p:nvPr/>
          </p:nvSpPr>
          <p:spPr>
            <a:xfrm>
              <a:off x="5562720" y="4419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!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used to test if the file opened proper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666880" y="4572000"/>
              <a:ext cx="289584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68D96-EE03-4CCB-9A2C-7BD34D404A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he account, name, and balance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end-of-file to end input.\n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account, name and balance from cin, then place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in &gt;&gt; account &gt;&gt; name &gt;&gt; balanc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ClientFile &lt;&lt; accoun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endl;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fstream destructor closes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828800" y="609480"/>
            <a:ext cx="4114800" cy="1524240"/>
            <a:chOff x="1828800" y="609480"/>
            <a:chExt cx="4114800" cy="1524240"/>
          </a:xfrm>
        </p:grpSpPr>
        <p:sp>
          <p:nvSpPr>
            <p:cNvPr id="265" name=""/>
            <p:cNvSpPr/>
            <p:nvPr/>
          </p:nvSpPr>
          <p:spPr>
            <a:xfrm>
              <a:off x="3276720" y="6094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implicitly converted to a pointer. When EOF is encountered, it returns 0 and the loop stop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828800" y="1447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057400" y="2666880"/>
            <a:ext cx="3581280" cy="904680"/>
            <a:chOff x="2057400" y="2666880"/>
            <a:chExt cx="3581280" cy="904680"/>
          </a:xfrm>
        </p:grpSpPr>
        <p:sp>
          <p:nvSpPr>
            <p:cNvPr id="268" name=""/>
            <p:cNvSpPr/>
            <p:nvPr/>
          </p:nvSpPr>
          <p:spPr>
            <a:xfrm>
              <a:off x="2971800" y="2990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 data to file like a regular strea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2057400" y="2666880"/>
              <a:ext cx="9144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523880" y="3885840"/>
            <a:ext cx="4114800" cy="1144080"/>
            <a:chOff x="1523880" y="3885840"/>
            <a:chExt cx="4114800" cy="1144080"/>
          </a:xfrm>
        </p:grpSpPr>
        <p:sp>
          <p:nvSpPr>
            <p:cNvPr id="271" name=""/>
            <p:cNvSpPr/>
            <p:nvPr/>
          </p:nvSpPr>
          <p:spPr>
            <a:xfrm>
              <a:off x="2971800" y="3962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le closed when destructor called for object. Can be explicitly closed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ose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flipV="1">
              <a:off x="1523880" y="388584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798F-8D68-4C55-AD61-B0BCB1E455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account, name, and balanc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end-of-file to end inpu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100 Jones 24.9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200 Doe 345.6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00 White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400 Stone -42.1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500 Rich 224.6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^Z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01336-8DAB-4337-B796-1F6B1C3260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ading Data from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stream inClientFile( "filename", ios::in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!inClient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sts if file was opened prope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 void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verts to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inClientFile &gt;&gt; my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s when EOF found (gets valu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7AF7-9D64-4440-BDA3-4B29C4D199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7: fig14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ing and printing a sequential fi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xit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E76ED-CEC3-4D0F-84B9-AA6F424C08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fstream constructor opens the file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stream inClientFi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s.d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ifstream could 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ClientFil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open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 &lt;&lt; fixed &lt;&lt; 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each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ClientFile &gt;&gt; account &gt;&gt; name &gt;&gt; balan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Line( account, name, balan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stream destructor closes the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742840" y="533520"/>
            <a:ext cx="5181840" cy="1066680"/>
            <a:chOff x="2742840" y="533520"/>
            <a:chExt cx="5181840" cy="1066680"/>
          </a:xfrm>
        </p:grpSpPr>
        <p:sp>
          <p:nvSpPr>
            <p:cNvPr id="282" name=""/>
            <p:cNvSpPr/>
            <p:nvPr/>
          </p:nvSpPr>
          <p:spPr>
            <a:xfrm>
              <a:off x="5257800" y="5335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n and test file for in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114440" y="685800"/>
              <a:ext cx="11430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742840" y="685800"/>
              <a:ext cx="2514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514600" y="3733920"/>
            <a:ext cx="4114800" cy="838080"/>
            <a:chOff x="2514600" y="3733920"/>
            <a:chExt cx="4114800" cy="838080"/>
          </a:xfrm>
        </p:grpSpPr>
        <p:sp>
          <p:nvSpPr>
            <p:cNvPr id="286" name=""/>
            <p:cNvSpPr/>
            <p:nvPr/>
          </p:nvSpPr>
          <p:spPr>
            <a:xfrm>
              <a:off x="3962520" y="3733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from file until EOF fou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51460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849D2-20AA-4E72-B175-03598C5362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ingle recor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ccoun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ight &lt;&lt;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utput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438280"/>
            <a:ext cx="70102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  Name        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      Jones          24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       Doe           345.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       White      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      Stone         -42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0       Rich          224.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A05B-51E7-413C-BA48-D02D7E7B9B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, variables are tempo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s are perman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etic disk, optical disk, ta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, update, process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tial and random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ted and raw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D3DC-4A0F-4E29-BD4B-4EFE644185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ading Data from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position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next byte to read/wr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o reposition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ek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eek get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ek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eek put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es have "get" and "put"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ek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ek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set: number of bytes relative to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ion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::be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faul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::be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relative to beginning of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::c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relative to current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::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relative to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0E2E-6DA8-4692-8A83-27CAE5FDB6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ading Data from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Object.seekg(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es to front of file (loca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beca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::be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Object.seekg(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es to nth byte from begi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Object.seekg(n, ios::cu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es n bytes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Object.seekg(y, ios::en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es y bytes back from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Object.seekg(0, ios::cu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es to last b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ek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imi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BD26C-A31B-4AF9-83CF-4CF3D591BE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ading Data from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pointer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ll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ll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cation = fileObject.tellg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dit manager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 accounts with zero balance, credit, and de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9E57-B33B-4F4B-93B1-BDA367FFC2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8: fig14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dit-inquiry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D49C5-DC6E-4182-9106-0F8F5DB828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nu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questType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ZERO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REDIT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BIT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eque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uldDispl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fstream constructor opens the file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stream inClientFi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s.d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ifstream could 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ClientFil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open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qu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user's request (e.g., zero, credit or debit balanc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quest = getReques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33269-25F9-4C1C-A97B-4BFFFAEC92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user's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quest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ques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ZERO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unts with zero balance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REDIT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unts with credit balance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BIT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ccounts with debit balance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39FE-310B-4568-8C1E-C2502B72E5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account, name and balance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ClientFile &gt;&gt; account &gt;&gt; name &gt;&gt;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file contents (until eof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ClientFile.eof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houldDisplay( request, balance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outputLine( account, name, balan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read account, name and balance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inClientFile &gt;&gt; account &gt;&gt; name &gt;&gt;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ner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ClientFile.clear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et eof for next inpu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ClientFile.seek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ve to beginning of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quest = getReques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additional request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d of run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stream destructor closes the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514600" y="2590920"/>
            <a:ext cx="4114800" cy="1143000"/>
            <a:chOff x="2514600" y="2590920"/>
            <a:chExt cx="4114800" cy="1143000"/>
          </a:xfrm>
        </p:grpSpPr>
        <p:sp>
          <p:nvSpPr>
            <p:cNvPr id="306" name=""/>
            <p:cNvSpPr/>
            <p:nvPr/>
          </p:nvSpPr>
          <p:spPr>
            <a:xfrm>
              <a:off x="3962520" y="2590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e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reset eof.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ek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set file position pointer to beginning of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514600" y="29718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048120" y="2971800"/>
              <a:ext cx="914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0FBB5-C13F-40AA-8D4E-141BF6BC3B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btain request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eques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qu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quest o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reque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1 - List accounts with zero balanc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2 - List accounts with credit balanc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3 - List accounts with debit balanc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4 - End of ru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ixed &lt;&lt; 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put user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requ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reques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ZERO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reques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ques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01C3B-7A10-4B77-BA76-C82B85DC5B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to display given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uldDispl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yp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whether to display cred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ype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REDIT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balanc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whether to display deb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ype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BIT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balance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whether to display zero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ype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ZERO_BALA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balance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houldDispl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ingle recor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ccoun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ight &lt;&lt;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utput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1118F-5527-4F85-A310-319F150600B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- List accounts with zero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- List accounts with cred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- List accounts with deb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- End of ru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s with zero balanc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       White          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- List accounts with zero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- List accounts with cred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- List accounts with deb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- End of ru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s with credit balanc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0       Stone         -42.1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7A021-6308-4C0E-A1D7-BC15DC9339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Data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mallest to lar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t (binary digi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or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thing in computer ultimately represented as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mbersome for humans to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s, letters, symbols used to represen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character represented by 1's and 0'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te: 8 b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store a charac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Unicode for large character set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char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7467-E270-4040-996A-447F7C6462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- List accounts with zero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- List accounts with cred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- List accounts with deb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- End of ru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s with debit balanc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      Jones          24.9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       Doe           345.6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0       Rich          224.6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requ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- List accounts with zero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- List accounts with cred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- List accounts with debit balanc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- End of ru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of ru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EC123-B193-4D3E-9E7D-BF0F0FDF72F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pdating Sequential-Access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ing sequential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sk overwriting other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change name "White" to "Worthington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00 White 0.00 400 Jones 32.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new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ted text different from internal repres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blem can be avoided, but awkw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01920" y="28195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99040" y="4114800"/>
            <a:ext cx="33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00 White 0.00 400 Jones 32.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9092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21000" y="4952880"/>
            <a:ext cx="33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00 Worthington 0.00ones 32.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505160" y="3581280"/>
            <a:ext cx="2314440" cy="533520"/>
            <a:chOff x="1505160" y="3581280"/>
            <a:chExt cx="2314440" cy="533520"/>
          </a:xfrm>
        </p:grpSpPr>
        <p:sp>
          <p:nvSpPr>
            <p:cNvPr id="324" name=""/>
            <p:cNvSpPr/>
            <p:nvPr/>
          </p:nvSpPr>
          <p:spPr>
            <a:xfrm>
              <a:off x="2568960" y="3809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05160" y="3581280"/>
              <a:ext cx="23144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300 Worthington 0.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822840" y="4322880"/>
            <a:ext cx="3720960" cy="630000"/>
            <a:chOff x="3822840" y="4322880"/>
            <a:chExt cx="3720960" cy="630000"/>
          </a:xfrm>
        </p:grpSpPr>
        <p:sp>
          <p:nvSpPr>
            <p:cNvPr id="327" name=""/>
            <p:cNvSpPr/>
            <p:nvPr/>
          </p:nvSpPr>
          <p:spPr>
            <a:xfrm>
              <a:off x="5334120" y="4322880"/>
              <a:ext cx="22096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gets overwrit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3822840" y="4495680"/>
              <a:ext cx="1511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CC8A-E918-456E-A2A4-C1EEAA06EBD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-Access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nt to locate record quick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line reservations, AT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tial files must search through each 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-access files ar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ant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ert record without destroying other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date/delete items without changing other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F48E-67B6-4FAF-A1E9-F68A768378B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-Access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imposes no structure on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 must create random-access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plest way: fixed-length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position in file from record size and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6191280" cy="21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EF4C-0CEE-4715-8A06-29B646DAC27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reating a Random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"1234567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v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23456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8 bytes (1 for each character + nul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fixed number of bytes (perhaps 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3 same size in bytes as 1234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rit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utFile &lt;&lt; 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number of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utFile.write(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const char *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siz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raw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pointer to memory location, number of bytes to 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data directly from memory into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onver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C4A2-B4C1-4CFD-8623-8D98127AFC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reating a Random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File.write( reinterpret_cast&lt;const char *&gt;(&amp;number), sizeof( number )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numb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char 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interpret_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(number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n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similar (more lat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tween compatible mach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when using raw, unformatt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os::bina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raw writes/rea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A572-F061-438E-907E-8D638AC85A8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reating a Random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write entir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object to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dit processing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 at most 100 fixed-length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unt number (k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and last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ount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, create new, delete, list all accounts in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program to create blank 100-record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8993-1932-4037-B987-ADF6B5079BF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Data.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10: clientData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ClientData definition used in Fig. 14.12–Fig. 14.15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LIENTDATA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LIENTDATA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lientData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tr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essor functions for account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AccountNumb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ccount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essor functions for 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astName( str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getLa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04760" y="838080"/>
            <a:ext cx="4115160" cy="1310760"/>
            <a:chOff x="1904760" y="838080"/>
            <a:chExt cx="4115160" cy="1310760"/>
          </a:xfrm>
        </p:grpSpPr>
        <p:sp>
          <p:nvSpPr>
            <p:cNvPr id="343" name=""/>
            <p:cNvSpPr/>
            <p:nvPr/>
          </p:nvSpPr>
          <p:spPr>
            <a:xfrm>
              <a:off x="3352680" y="83808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ient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ores the information for each person. 100 blank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ient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will be written to a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904760" y="1447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2A3E6-4002-4D99-A200-EE05C28909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Data.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essor functions for 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str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getFir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ccessor functions for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Bala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la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lient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590560" y="1587600"/>
            <a:ext cx="4115160" cy="1310760"/>
            <a:chOff x="2590560" y="1587600"/>
            <a:chExt cx="4115160" cy="1310760"/>
          </a:xfrm>
        </p:grpSpPr>
        <p:sp>
          <p:nvSpPr>
            <p:cNvPr id="348" name=""/>
            <p:cNvSpPr/>
            <p:nvPr/>
          </p:nvSpPr>
          <p:spPr>
            <a:xfrm>
              <a:off x="4038480" y="15876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ut limits on the size of the first and last name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ccount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la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are already of a fixed siz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590560" y="1739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E380B-1E84-47DD-A92F-A43AC3D01AB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Data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11: ClientData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ClientData stores customer's credit inform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Data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lientData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::ClientData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Valu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lastNameValue, string firstNameValue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AccountNumber( accountNumber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LastName( lastName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FirstName( firstName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Balance( balance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ientData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account-numb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::getAccount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ccount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6A652-0F84-4EB3-99F9-F3EE94D524A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Data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mallest to largest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eld: group of characters with some mea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r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rd: group of related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ayroll system, could be name, SS#, address, w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field associated with same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 key: field used to uniquely identify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: group of related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roll for entire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file: records stored by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base: group of related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roll, accounts-receivable, inventory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0C3A-8498-4396-B7FC-974576AAFC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Data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account-numb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::setAccountNumb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ccountNumber = accountNumber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Account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last-nam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lientData::getLa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last-nam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::setLastName( string lastNameStrin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at most 15 characters from string to 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lastNameValue = lastNameString.dat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= strlen( lastName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ength = ( lengt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lengt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ncpy( lastName, lastNameValue, 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end null character to 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astName[ length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A9B55-EC8E-4883-B523-594ADF583BE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Data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first-nam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lientData::getFir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first-nam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::setFirstName( string firstNameString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at most 10 characters from string to 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firstNameValue = firstNameString.dat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= strlen( firstName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ength = ( lengt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lengt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ncpy( firstName, firstNameValue, 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ppend new-line character to 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rstName[ length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DA310-983D-44E2-9025-029A045EF24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Data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balanc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::getBala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balanc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::setBala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lance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lance = balanc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A0F9F-7D77-46F2-B963-A416E353C74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12: fig14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ing a randomly accessed fi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Data.h"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Data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fstream outCred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.d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bina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ofstream could 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outCredi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open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038480" y="3048120"/>
            <a:ext cx="4114800" cy="838080"/>
            <a:chOff x="4038480" y="3048120"/>
            <a:chExt cx="4114800" cy="838080"/>
          </a:xfrm>
        </p:grpSpPr>
        <p:sp>
          <p:nvSpPr>
            <p:cNvPr id="361" name=""/>
            <p:cNvSpPr/>
            <p:nvPr/>
          </p:nvSpPr>
          <p:spPr>
            <a:xfrm>
              <a:off x="5486400" y="30481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n a file for raw writing using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os::bina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40384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76E5F-4B81-4B6A-B83B-0D1A6BD3DDB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ClientData with no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 blank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100 blank records to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Credit.write(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blank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895120" y="457200"/>
            <a:ext cx="4267800" cy="1219320"/>
            <a:chOff x="2895120" y="457200"/>
            <a:chExt cx="4267800" cy="1219320"/>
          </a:xfrm>
        </p:grpSpPr>
        <p:sp>
          <p:nvSpPr>
            <p:cNvPr id="366" name=""/>
            <p:cNvSpPr/>
            <p:nvPr/>
          </p:nvSpPr>
          <p:spPr>
            <a:xfrm>
              <a:off x="4495680" y="4572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blank object.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wri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output the raw data to a file (passing a pointer to the object and its siz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2895120" y="761760"/>
              <a:ext cx="1600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809520" y="99072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7F8A5-1CCD-47E9-BFCA-05A0A921CA4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Writing Data Randomly to a Random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ek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write to exact location in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re does the first record begi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econd recor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0 + sizeof(obj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recor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cordnum - 1) * sizeof(obj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0CBD-3758-4CCE-8CC5-0BD8082EC5C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13: fig14_1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riting to a random access fi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Data.h"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lientData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2BB1D-964C-44D9-BBB6-C656DFB9009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fstream outCred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.d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bina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ofstream can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outCredi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open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ccount number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1 to 100, 0 to end input)\n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quire user to specify accoun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 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.setAccountNumber( account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038480" y="838080"/>
            <a:ext cx="4114800" cy="838440"/>
            <a:chOff x="4038480" y="838080"/>
            <a:chExt cx="4114800" cy="838440"/>
          </a:xfrm>
        </p:grpSpPr>
        <p:sp>
          <p:nvSpPr>
            <p:cNvPr id="376" name=""/>
            <p:cNvSpPr/>
            <p:nvPr/>
          </p:nvSpPr>
          <p:spPr>
            <a:xfrm>
              <a:off x="5486400" y="838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n file for raw (binary) writ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4038480" y="990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743200" y="4038480"/>
            <a:ext cx="4114800" cy="838440"/>
            <a:chOff x="2743200" y="4038480"/>
            <a:chExt cx="4114800" cy="838440"/>
          </a:xfrm>
        </p:grpSpPr>
        <p:sp>
          <p:nvSpPr>
            <p:cNvPr id="379" name=""/>
            <p:cNvSpPr/>
            <p:nvPr/>
          </p:nvSpPr>
          <p:spPr>
            <a:xfrm>
              <a:off x="4191120" y="4038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t account number, put into object. It has not yet been written to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2743200" y="4191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B3A8E-91BD-4E19-AB82-CD5FDF898FF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r enters information, which is copied into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.getAccountNumber()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getAccountNumber()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r enters last name, first name and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lastname, firstname, balance\n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&gt;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&gt;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t record lastName, firstName and balanc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LastName( la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FirstName( fir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Balance( balan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eek position in file of user-specified record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Credit.seekp( ( client.getAccountNumber()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rite user-specified information in file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Credit.write(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514600" y="2362320"/>
            <a:ext cx="4114800" cy="1295280"/>
            <a:chOff x="2514600" y="2362320"/>
            <a:chExt cx="4114800" cy="1295280"/>
          </a:xfrm>
        </p:grpSpPr>
        <p:sp>
          <p:nvSpPr>
            <p:cNvPr id="384" name=""/>
            <p:cNvSpPr/>
            <p:nvPr/>
          </p:nvSpPr>
          <p:spPr>
            <a:xfrm>
              <a:off x="3962520" y="23623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si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Cred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he proper location in the file (based on the account number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1460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590560" y="3733920"/>
            <a:ext cx="4115160" cy="838080"/>
            <a:chOff x="2590560" y="3733920"/>
            <a:chExt cx="4115160" cy="838080"/>
          </a:xfrm>
        </p:grpSpPr>
        <p:sp>
          <p:nvSpPr>
            <p:cNvPr id="387" name=""/>
            <p:cNvSpPr/>
            <p:nvPr/>
          </p:nvSpPr>
          <p:spPr>
            <a:xfrm>
              <a:off x="4038480" y="3733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ientDa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to file at specified posi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590560" y="3886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51639-3EDA-4A0D-83E6-03F5DECD841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14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nable user to specify another accoun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ccount number\n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AccountNumber( account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0CBBE-04F0-4A97-8977-5BD3859D1B1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Data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00200" y="2209680"/>
            <a:ext cx="5172120" cy="2895480"/>
            <a:chOff x="1600200" y="2209680"/>
            <a:chExt cx="5172120" cy="2895480"/>
          </a:xfrm>
        </p:grpSpPr>
        <p:sp>
          <p:nvSpPr>
            <p:cNvPr id="97" name=""/>
            <p:cNvSpPr/>
            <p:nvPr/>
          </p:nvSpPr>
          <p:spPr>
            <a:xfrm>
              <a:off x="2182680" y="4789080"/>
              <a:ext cx="1652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7400" y="4441680"/>
              <a:ext cx="10317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01001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05000" y="4089240"/>
              <a:ext cx="90648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Ju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63760" y="3741480"/>
              <a:ext cx="5364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Ju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3080" y="3741480"/>
              <a:ext cx="6588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32000" y="4597200"/>
              <a:ext cx="1440" cy="209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65280" y="4238280"/>
              <a:ext cx="1440" cy="209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74720" y="3917880"/>
              <a:ext cx="360" cy="209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41360" y="3744720"/>
              <a:ext cx="74160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82960" y="374472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65440" y="3744720"/>
              <a:ext cx="74160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24200" y="374472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5000" y="2209680"/>
              <a:ext cx="6606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Sal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73520" y="2209680"/>
              <a:ext cx="6588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Bl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82960" y="2212560"/>
              <a:ext cx="741240" cy="140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24200" y="2212560"/>
              <a:ext cx="741240" cy="140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07040" y="2212560"/>
              <a:ext cx="741240" cy="140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65440" y="2212560"/>
              <a:ext cx="741600" cy="140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05000" y="2419200"/>
              <a:ext cx="412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73520" y="2419200"/>
              <a:ext cx="5364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B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82960" y="242064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24200" y="242064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07040" y="242064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65440" y="2420640"/>
              <a:ext cx="74160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05000" y="2628720"/>
              <a:ext cx="5367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Ju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73520" y="2628720"/>
              <a:ext cx="6588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82960" y="263016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24200" y="263016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07040" y="263016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65440" y="2630160"/>
              <a:ext cx="74160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05000" y="2836800"/>
              <a:ext cx="53676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r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73520" y="2836800"/>
              <a:ext cx="78264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82960" y="283968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24200" y="283968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07040" y="283968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65440" y="2839680"/>
              <a:ext cx="74160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05000" y="3044520"/>
              <a:ext cx="6606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Ran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73520" y="3044520"/>
              <a:ext cx="4125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2960" y="304776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24200" y="304776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07040" y="304776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65440" y="3047760"/>
              <a:ext cx="74160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12880" y="2700000"/>
              <a:ext cx="370080" cy="974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0" y="0"/>
                  </a:lnTo>
                  <a:lnTo>
                    <a:pt x="0" y="1998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35560" y="2628720"/>
              <a:ext cx="5367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48320" y="3744720"/>
              <a:ext cx="78264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Reco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76440" y="4089240"/>
              <a:ext cx="6606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Fi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47760" y="4449600"/>
              <a:ext cx="30067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Byte</a:t>
              </a:r>
              <a:r>
                <a:rPr b="0" sz="1000" spc="-1" strike="noStrike">
                  <a:solidFill>
                    <a:srgbClr val="000000"/>
                  </a:solidFill>
                  <a:latin typeface="Mincho"/>
                </a:rPr>
                <a:t> (ASCII character J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28840" y="4941720"/>
              <a:ext cx="4143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Mincho"/>
                </a:rPr>
                <a:t>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0200" y="4385880"/>
              <a:ext cx="428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ECED-9E03-40CB-AAA9-F48CC8462E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ccount number (1 to 100, 0 to end inpu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lastname, firstname,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Barker Doug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ccoun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2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lastname, firstname,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Brown Nancy -24.5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ccoun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9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lastname, firstname,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Stone Sam 34.9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ccoun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8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lastname, firstname,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Smith Dave 258.3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ccoun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3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lastname, firstname,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Dunn Stacey 314.3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ccount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?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09120" y="533160"/>
            <a:ext cx="5258160" cy="961920"/>
            <a:chOff x="609120" y="533160"/>
            <a:chExt cx="5258160" cy="961920"/>
          </a:xfrm>
        </p:grpSpPr>
        <p:sp>
          <p:nvSpPr>
            <p:cNvPr id="394" name=""/>
            <p:cNvSpPr/>
            <p:nvPr/>
          </p:nvSpPr>
          <p:spPr>
            <a:xfrm>
              <a:off x="3200400" y="914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at accounts can be created in any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609120" y="533160"/>
              <a:ext cx="2590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09120" y="1219320"/>
              <a:ext cx="2590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B570-D703-424E-A43B-4D4EAD0714F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0  Reading Data Sequentially from a Random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similar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s raw bytes from file into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File.read( reinterpret_cast&lt;char *&gt;( &amp;number )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of( int 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amp;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cation to stor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of(int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how many bytes to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not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File &gt;&gt; numb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th raw by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pec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data from a random-access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 through each record sequenti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data (accountNumber == 0) then sk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42A7-EFAC-462B-BC8C-1AFCDE7A779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14: fig14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ing a random access fi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it protoy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Data.h"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Data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3CC3B-019D-4372-BE59-55C0D501868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ostream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stream inCred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.d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ifstream can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Credi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open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ef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igh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 clien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first record from file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Credit.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71800" y="2819520"/>
            <a:ext cx="4038480" cy="1676160"/>
            <a:chOff x="2971800" y="2819520"/>
            <a:chExt cx="4038480" cy="1676160"/>
          </a:xfrm>
        </p:grpSpPr>
        <p:sp>
          <p:nvSpPr>
            <p:cNvPr id="404" name=""/>
            <p:cNvSpPr/>
            <p:nvPr/>
          </p:nvSpPr>
          <p:spPr>
            <a:xfrm>
              <a:off x="2971800" y="2819520"/>
              <a:ext cx="4038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zeof(ClientData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ytes and put into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i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is may be an empty recor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733560" y="3657600"/>
              <a:ext cx="1522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10E56-673D-4ECF-9D75-E216C3EC636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all records from file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Credit &amp;&amp; !inCredit.eof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isplay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.getAccountNumber(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Line( cout,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next from file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Credit.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ingl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 &amp;recor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ecord.getAccountNumb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ecord.getLastName().data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ecord.getFirstName().data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ight &lt;&lt; fix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howpoint &lt;&lt; record.getBalance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put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276720" y="609480"/>
            <a:ext cx="3962160" cy="1220040"/>
            <a:chOff x="3276720" y="609480"/>
            <a:chExt cx="3962160" cy="1220040"/>
          </a:xfrm>
        </p:grpSpPr>
        <p:sp>
          <p:nvSpPr>
            <p:cNvPr id="409" name=""/>
            <p:cNvSpPr/>
            <p:nvPr/>
          </p:nvSpPr>
          <p:spPr>
            <a:xfrm>
              <a:off x="4572000" y="7621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op exits if there is an error reading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dit == 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or EOF is foun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dit.eof() == 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3276720" y="609480"/>
              <a:ext cx="12952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819160" y="1523520"/>
            <a:ext cx="4115160" cy="2667960"/>
            <a:chOff x="2819160" y="1523520"/>
            <a:chExt cx="4115160" cy="2667960"/>
          </a:xfrm>
        </p:grpSpPr>
        <p:sp>
          <p:nvSpPr>
            <p:cNvPr id="412" name=""/>
            <p:cNvSpPr/>
            <p:nvPr/>
          </p:nvSpPr>
          <p:spPr>
            <a:xfrm>
              <a:off x="4267080" y="2394000"/>
              <a:ext cx="266724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non-empty accounts. Note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putLi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ak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gument. We could easily output to another file (opened with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, which derive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2819160" y="1523520"/>
              <a:ext cx="14475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276360" y="3124080"/>
              <a:ext cx="9903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3BF45-48C1-461E-AC68-C5A107ECE77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  Last Name       First Name   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        Brown           Nancy          -24.5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        Dunn            Stacey         314.3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7        Barker          Doug            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8        Smith           Dave           258.3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6        Stone           Sam             34.9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890D5-9147-4793-963C-AD2F0FC55BB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1  Example: A Transaction-Processing Progra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 access for bank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random access file (data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ient.d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user m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tion 1: store accou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.t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tion 2: update rec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3201840"/>
            <a:ext cx="49528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  Last Name       First Name   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        Brown           Nancy          -24.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        Dunn            Stacey         314.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7        Barker          Doug        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8        Smith           Dave           258.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6        Stone           Sam             34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00200" y="5181480"/>
            <a:ext cx="49528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ccount to update (1 - 100):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7        Barker          Doug        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charge (+) or payment (-): +87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7        Barker          Doug            87.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6A81-E431-43D7-A751-3AE4051F413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1  Example: A Transaction-Processing Progra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u options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tion 3: add new rec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tion 4: delete rec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pen file for reading and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strea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"Or" file-open modes toge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stream inOutCredit( "credit.dat", ios::in | ios::ou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00200" y="2209680"/>
            <a:ext cx="49528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new account number (1 - 100): 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lastname, firstname,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? Johnston Sarah 247.4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00200" y="3429000"/>
            <a:ext cx="49528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account to delete (1 - 100):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ount #29 dele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8ADA-90FD-4FC7-B05C-A7DCB9C9465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553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4.15: fig14_1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program reads a random access file sequentially, upd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previously written to the file, creates data to be plac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the file, and deletes data previously in the fi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o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f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it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ientData.h"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ientData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36BED-E240-485C-9F3E-AD81302045E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erChoi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Record( fstream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Record( fstream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Record( fstream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Record( fstream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ostream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ccou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nu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s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R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PD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pen file for reading and writing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stream inOutCred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dit.da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o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fstream cannot ope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nOutCredit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open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666520" y="2362320"/>
            <a:ext cx="4115160" cy="837720"/>
            <a:chOff x="2666520" y="2362320"/>
            <a:chExt cx="4115160" cy="837720"/>
          </a:xfrm>
        </p:grpSpPr>
        <p:sp>
          <p:nvSpPr>
            <p:cNvPr id="430" name=""/>
            <p:cNvSpPr/>
            <p:nvPr/>
          </p:nvSpPr>
          <p:spPr>
            <a:xfrm>
              <a:off x="4114440" y="23623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n file for reading and writing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needed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666520" y="2514600"/>
              <a:ext cx="14475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FD54D-96B3-41AD-82E3-1A71D93390A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iles and Stre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views file as sequence of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ds wi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nd-of-f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ar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ile ope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created, stream associated with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 created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clu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 between program and file/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14400" y="2232000"/>
            <a:ext cx="6934320" cy="739800"/>
            <a:chOff x="914400" y="2232000"/>
            <a:chExt cx="6934320" cy="739800"/>
          </a:xfrm>
        </p:grpSpPr>
        <p:sp>
          <p:nvSpPr>
            <p:cNvPr id="149" name=""/>
            <p:cNvSpPr/>
            <p:nvPr/>
          </p:nvSpPr>
          <p:spPr>
            <a:xfrm>
              <a:off x="914400" y="2232000"/>
              <a:ext cx="6678720" cy="739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355760" y="2270880"/>
              <a:ext cx="6492960" cy="567360"/>
              <a:chOff x="1355760" y="2270880"/>
              <a:chExt cx="6492960" cy="567360"/>
            </a:xfrm>
          </p:grpSpPr>
          <p:sp>
            <p:nvSpPr>
              <p:cNvPr id="151" name=""/>
              <p:cNvSpPr/>
              <p:nvPr/>
            </p:nvSpPr>
            <p:spPr>
              <a:xfrm>
                <a:off x="1355760" y="2516760"/>
                <a:ext cx="4341240" cy="320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6" y="0"/>
                    </a:moveTo>
                    <a:lnTo>
                      <a:pt x="19996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96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356480" y="2516760"/>
                <a:ext cx="334080" cy="320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58360" y="2516760"/>
                <a:ext cx="333720" cy="320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97000" y="2516760"/>
                <a:ext cx="2224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17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97000" y="2837520"/>
                <a:ext cx="2224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17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54040" y="2316240"/>
                <a:ext cx="137880" cy="23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55920" y="2316240"/>
                <a:ext cx="137880" cy="23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1690560" y="2316240"/>
                <a:ext cx="333720" cy="521280"/>
                <a:chOff x="1690560" y="2316240"/>
                <a:chExt cx="333720" cy="521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690560" y="2516760"/>
                  <a:ext cx="33372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787760" y="2316240"/>
                  <a:ext cx="13788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24280" y="2316240"/>
                <a:ext cx="334080" cy="521280"/>
                <a:chOff x="2024280" y="2316240"/>
                <a:chExt cx="334080" cy="5212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024280" y="2516760"/>
                  <a:ext cx="33408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121480" y="2316240"/>
                  <a:ext cx="13788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692080" y="2316240"/>
                <a:ext cx="333720" cy="521280"/>
                <a:chOff x="2692080" y="2316240"/>
                <a:chExt cx="333720" cy="5212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692080" y="2516760"/>
                  <a:ext cx="33372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789280" y="2316240"/>
                  <a:ext cx="13788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026160" y="2316240"/>
                <a:ext cx="333720" cy="521280"/>
                <a:chOff x="3026160" y="2316240"/>
                <a:chExt cx="333720" cy="5212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026160" y="2516760"/>
                  <a:ext cx="33372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23360" y="2316240"/>
                  <a:ext cx="13788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4027680" y="2316240"/>
                <a:ext cx="334080" cy="521280"/>
                <a:chOff x="4027680" y="2316240"/>
                <a:chExt cx="334080" cy="5212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027680" y="2516760"/>
                  <a:ext cx="33408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124880" y="2316240"/>
                  <a:ext cx="13788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4362120" y="2316240"/>
                <a:ext cx="333720" cy="521280"/>
                <a:chOff x="4362120" y="2316240"/>
                <a:chExt cx="333720" cy="5212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362120" y="2516760"/>
                  <a:ext cx="33372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458960" y="2316240"/>
                  <a:ext cx="13824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695840" y="2270880"/>
                <a:ext cx="667800" cy="566640"/>
                <a:chOff x="4695840" y="2270880"/>
                <a:chExt cx="667800" cy="5666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695840" y="2516760"/>
                  <a:ext cx="66780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2" y="0"/>
                      </a:moveTo>
                      <a:lnTo>
                        <a:pt x="19972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2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859640" y="2591640"/>
                  <a:ext cx="33876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859640" y="2270880"/>
                  <a:ext cx="33876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360760" y="2316240"/>
                <a:ext cx="338400" cy="521280"/>
                <a:chOff x="5360760" y="2316240"/>
                <a:chExt cx="338400" cy="5212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363640" y="2516760"/>
                  <a:ext cx="333360" cy="320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44" y="0"/>
                      </a:moveTo>
                      <a:lnTo>
                        <a:pt x="19944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4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360760" y="2316240"/>
                  <a:ext cx="33840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72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n-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5807880" y="2588040"/>
                <a:ext cx="2040840" cy="2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end-of-file ma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3360240" y="2316240"/>
                <a:ext cx="667440" cy="521280"/>
                <a:chOff x="3360240" y="2316240"/>
                <a:chExt cx="667440" cy="521280"/>
              </a:xfrm>
            </p:grpSpPr>
            <p:grpSp>
              <p:nvGrpSpPr>
                <p:cNvPr id="185" name=""/>
                <p:cNvGrpSpPr/>
                <p:nvPr/>
              </p:nvGrpSpPr>
              <p:grpSpPr>
                <a:xfrm>
                  <a:off x="3360240" y="2316240"/>
                  <a:ext cx="333720" cy="521280"/>
                  <a:chOff x="3360240" y="2316240"/>
                  <a:chExt cx="333720" cy="52128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3360240" y="2516760"/>
                    <a:ext cx="333720" cy="3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457080" y="2316240"/>
                    <a:ext cx="138240" cy="23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3693960" y="2316240"/>
                  <a:ext cx="333720" cy="521280"/>
                  <a:chOff x="3693960" y="2316240"/>
                  <a:chExt cx="333720" cy="52128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3693960" y="2516760"/>
                    <a:ext cx="333720" cy="3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3790800" y="2316240"/>
                    <a:ext cx="138600" cy="23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72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32AA-3A43-4E26-AAE0-D275F06228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able user to specify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choice = enterChoice()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oic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ext file from record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R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PD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pdate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ew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lete existing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elete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07D9-9131-4706-AEFE-D85A1FAF141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able user to specify 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choice = enterChoice()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oic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text file from record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R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print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updat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UPD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update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reat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new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elete existing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deleteRecord( inOutCred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2666880" y="1142640"/>
            <a:ext cx="4648320" cy="581040"/>
            <a:chOff x="2666880" y="1142640"/>
            <a:chExt cx="4648320" cy="581040"/>
          </a:xfrm>
        </p:grpSpPr>
        <p:sp>
          <p:nvSpPr>
            <p:cNvPr id="437" name=""/>
            <p:cNvSpPr/>
            <p:nvPr/>
          </p:nvSpPr>
          <p:spPr>
            <a:xfrm>
              <a:off x="4648320" y="1143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s menu and returns user's choi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2666880" y="1142640"/>
              <a:ext cx="198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02885-9A69-45F3-8E28-E1FD373B73D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display error if user does not select valid cho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faul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correct cho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OutCredit.clear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et end-of-file indic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 user to input menu cho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terChoic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available op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your cho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 - store a formatted text file of accoun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 called \"print.txt\" for print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 - update an acc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 - add a new acc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 - delete an acc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 - end program\n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AC773-B9A3-4D77-BC41-4343DFE380A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nu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menuChoic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eive choice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nu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enterCho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formatted text file for prin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Record( fstream &amp;readFromFi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text file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fstream outPrintFi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.tx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ios::o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it program if ofstream cannot create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outPrintFil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le could not be creat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rintFile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a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 Nam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ight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la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362320" y="1981080"/>
            <a:ext cx="4800600" cy="2667240"/>
            <a:chOff x="2362320" y="1981080"/>
            <a:chExt cx="4800600" cy="2667240"/>
          </a:xfrm>
        </p:grpSpPr>
        <p:sp>
          <p:nvSpPr>
            <p:cNvPr id="444" name=""/>
            <p:cNvSpPr/>
            <p:nvPr/>
          </p:nvSpPr>
          <p:spPr>
            <a:xfrm>
              <a:off x="4495680" y="1981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.tx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First, print the header for the ta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3047760" y="2133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362320" y="2133720"/>
              <a:ext cx="213336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C1224-D43E-4401-8100-88936DA5E00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7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ile-position pointer to beginning of record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adFromFile.seek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first record from record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 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adFromFile.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all records from record file into text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readFromFile.eof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rite single record to text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.getAccountNumber(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Line( outPrintFile,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ad next record from record fil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readFromFile.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971800" y="533160"/>
            <a:ext cx="5791320" cy="2514960"/>
            <a:chOff x="2971800" y="533160"/>
            <a:chExt cx="5791320" cy="2514960"/>
          </a:xfrm>
        </p:grpSpPr>
        <p:sp>
          <p:nvSpPr>
            <p:cNvPr id="450" name=""/>
            <p:cNvSpPr/>
            <p:nvPr/>
          </p:nvSpPr>
          <p:spPr>
            <a:xfrm>
              <a:off x="6095880" y="762120"/>
              <a:ext cx="2667240" cy="228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o to front of file, read account data, and print record if not empty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putLi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ake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(ba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 It can easily print to a file (as in this case)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2971800" y="533160"/>
              <a:ext cx="31240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4419720" y="1676520"/>
              <a:ext cx="16761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4E4B4-071E-44AB-9AEB-E879AB0519B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8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date balance in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pdateRecord( fstream &amp;updateFi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number of account to up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 = getAc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ccount to upda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ve file-position pointer to correct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pdateFile.seekg(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 account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first recor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 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pdateFile.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pdat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.getAccountNumber(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Line( cout,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quest user to specify transa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charge (+) or payment (-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ansaction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rge or pay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transac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pdate record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ldBalance = client.getBala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Balance( oldBalance + transactio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Line( cout, cli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240" y="609120"/>
            <a:ext cx="3810240" cy="2058480"/>
            <a:chOff x="2514240" y="609120"/>
            <a:chExt cx="3810240" cy="2058480"/>
          </a:xfrm>
        </p:grpSpPr>
        <p:sp>
          <p:nvSpPr>
            <p:cNvPr id="456" name=""/>
            <p:cNvSpPr/>
            <p:nvPr/>
          </p:nvSpPr>
          <p:spPr>
            <a:xfrm>
              <a:off x="3657600" y="16002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I/O) because we must read the old balance, update it, and write the new bal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2514240" y="609120"/>
              <a:ext cx="1143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5F5B2-5398-4BB5-A3D0-C55866F21EF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9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ove file-position pointer to correct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File.seekp(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account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rite updated record over old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updateFile.write(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error if account does not ex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#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ccountNumb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has no information.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update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nd insert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wRecord( fstream &amp;insertInFi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number of account to 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 = getAc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new account nu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ve file-position pointer to correct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sertInFile.seekg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 account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666880" y="2819520"/>
            <a:ext cx="4114800" cy="1447560"/>
            <a:chOff x="2666880" y="2819520"/>
            <a:chExt cx="4114800" cy="1447560"/>
          </a:xfrm>
        </p:grpSpPr>
        <p:sp>
          <p:nvSpPr>
            <p:cNvPr id="461" name=""/>
            <p:cNvSpPr/>
            <p:nvPr/>
          </p:nvSpPr>
          <p:spPr>
            <a:xfrm>
              <a:off x="4114800" y="2819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we read to see if a non-empty record already exists. If not, we write a new recor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2666880" y="335268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7644A-9E17-435A-B5AD-9B910E909AB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0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recor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 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sertInFile.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record, if record does not previously ex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.getAccountNumber()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r enters last name, first name and bala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lastname, firstname, balance\n?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&gt;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&gt;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balan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use values to populate accou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LastName( la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FirstName( firstNa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Balance( balanc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.setAccountNumber( account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B7FC8-C0C3-4E24-B116-51A853BB3A2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1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ove file-position pointer to correct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ertInFile.seekp( ( account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nsert record in file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sertInFile.write(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error if account previously exis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#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ccount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lready contains information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new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F50C-3716-415C-A5B9-966B3B22930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2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an existing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Record( fstream &amp;deleteFromFil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number of account to dele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 = getAccou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ccount to delet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ve file-position pointer to correct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leteFromFile.seekg(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 account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record from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lientData 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leteFromFile.rea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lete record, if record exists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lient.getAccountNumber(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ientData blankClie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move file-position pointer to correct record in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leteFromFile.seekp( ( account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590920" y="609120"/>
            <a:ext cx="5333760" cy="2606760"/>
            <a:chOff x="2590920" y="609120"/>
            <a:chExt cx="5333760" cy="2606760"/>
          </a:xfrm>
        </p:grpSpPr>
        <p:sp>
          <p:nvSpPr>
            <p:cNvPr id="470" name=""/>
            <p:cNvSpPr/>
            <p:nvPr/>
          </p:nvSpPr>
          <p:spPr>
            <a:xfrm>
              <a:off x="5257800" y="190512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we read to check if the account exits. If it does, we write blank data (erase it). If it does not exist, there is no need to delete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flipV="1">
              <a:off x="2590920" y="609120"/>
              <a:ext cx="26668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E6B76-CD71-4701-B5D6-CFB11F5B617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iles and Stre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erform file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fstrea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templ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_i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_o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ut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_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/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for specializations that all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/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ut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/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564A7-AD87-482E-AA89-64BE35613C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3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place existing record with blank record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eleteFromFile.write(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interpret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&gt;( &amp;blankClien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ClientData ) )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#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ccountNumbe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deleted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error if record does not exi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count #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ccountNumbe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empty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lete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ingle reco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2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Line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entData &amp;recor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 &lt;&lt; lef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ecord.getAccountNumb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ecord.getLastName().data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ecord.getFirstName().data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ight &lt;&lt; fix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showpoint &lt;&lt; record.getBalance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utputLi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819520" y="2438280"/>
            <a:ext cx="4114800" cy="1219320"/>
            <a:chOff x="2819520" y="2438280"/>
            <a:chExt cx="4114800" cy="1219320"/>
          </a:xfrm>
        </p:grpSpPr>
        <p:sp>
          <p:nvSpPr>
            <p:cNvPr id="475" name=""/>
            <p:cNvSpPr/>
            <p:nvPr/>
          </p:nvSpPr>
          <p:spPr>
            <a:xfrm>
              <a:off x="4267440" y="24382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putLi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very flexible, and can output to an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strea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(such as a file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281952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2215D-36FD-4EAE-BBF8-BA266EA055F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4 of 1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btain account-number value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ccou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mp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account-numb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promp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(1 - 100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ccountNumbe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accountNumber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count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c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4B71-5083-4DC1-BB2F-9481AF72650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2  Input/Output of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pter 8 (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object's data transmit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 functions available intern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objects stored in file, lose type info (class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must know type of object when r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writing, output object type code before real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reading, read typ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proper overloaded function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387F8-D837-45CA-B51C-6B93CC1D632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iles and Stre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ing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objects from temp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 from stream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stream methods from Ch.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371600" y="3416400"/>
            <a:ext cx="6019920" cy="2984400"/>
            <a:chOff x="1371600" y="3416400"/>
            <a:chExt cx="6019920" cy="2984400"/>
          </a:xfrm>
        </p:grpSpPr>
        <p:sp>
          <p:nvSpPr>
            <p:cNvPr id="196" name=""/>
            <p:cNvSpPr/>
            <p:nvPr/>
          </p:nvSpPr>
          <p:spPr>
            <a:xfrm>
              <a:off x="1371600" y="3416400"/>
              <a:ext cx="6019920" cy="29844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873080" y="3511440"/>
              <a:ext cx="4950000" cy="2793240"/>
              <a:chOff x="1873080" y="3511440"/>
              <a:chExt cx="4950000" cy="2793240"/>
            </a:xfrm>
          </p:grpSpPr>
          <p:sp>
            <p:nvSpPr>
              <p:cNvPr id="198" name=""/>
              <p:cNvSpPr/>
              <p:nvPr/>
            </p:nvSpPr>
            <p:spPr>
              <a:xfrm>
                <a:off x="4347720" y="5468400"/>
                <a:ext cx="360" cy="56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75800" y="4632120"/>
                <a:ext cx="434520" cy="56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62" y="0"/>
                    </a:lnTo>
                  </a:path>
                </a:pathLst>
              </a:custGeom>
              <a:solidFill>
                <a:srgbClr val="000000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686200" y="4632120"/>
                <a:ext cx="434520" cy="56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2" y="199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3645720" y="6020280"/>
                <a:ext cx="1438560" cy="284400"/>
                <a:chOff x="3645720" y="6020280"/>
                <a:chExt cx="1438560" cy="28440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3646080" y="6020280"/>
                  <a:ext cx="1438200" cy="284400"/>
                  <a:chOff x="3646080" y="6020280"/>
                  <a:chExt cx="1438200" cy="2844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3646080" y="602028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646080" y="602028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3645720" y="6105600"/>
                  <a:ext cx="143856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ic_fstre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578400" y="3511440"/>
                <a:ext cx="1572840" cy="284040"/>
                <a:chOff x="3578400" y="3511440"/>
                <a:chExt cx="1572840" cy="28404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3579120" y="3511440"/>
                  <a:ext cx="1572120" cy="284040"/>
                  <a:chOff x="3579120" y="3511440"/>
                  <a:chExt cx="1572120" cy="2840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3579120" y="3511440"/>
                    <a:ext cx="157212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579120" y="3511440"/>
                    <a:ext cx="157212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0" name=""/>
                <p:cNvSpPr/>
                <p:nvPr/>
              </p:nvSpPr>
              <p:spPr>
                <a:xfrm>
                  <a:off x="3578400" y="3596400"/>
                  <a:ext cx="157284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ic_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4816800" y="4632120"/>
                <a:ext cx="434520" cy="56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62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546000" y="4632120"/>
                <a:ext cx="434520" cy="56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2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1873080" y="5184000"/>
                <a:ext cx="1438560" cy="284400"/>
                <a:chOff x="1873080" y="5184000"/>
                <a:chExt cx="1438560" cy="28440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1873800" y="5184000"/>
                  <a:ext cx="1437840" cy="284400"/>
                  <a:chOff x="1873800" y="5184000"/>
                  <a:chExt cx="1437840" cy="2844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1873800" y="5184000"/>
                    <a:ext cx="143784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1873800" y="5184000"/>
                    <a:ext cx="143784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1873080" y="5269320"/>
                  <a:ext cx="143856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ic_ifstre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384160" y="5184000"/>
                <a:ext cx="1438920" cy="284400"/>
                <a:chOff x="5384160" y="5184000"/>
                <a:chExt cx="1438920" cy="2844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5384880" y="5184000"/>
                  <a:ext cx="1438200" cy="284400"/>
                  <a:chOff x="5384880" y="5184000"/>
                  <a:chExt cx="1438200" cy="2844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5384880" y="518400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5384880" y="518400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5384160" y="5269320"/>
                  <a:ext cx="143892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ic_ofstre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645720" y="5184000"/>
                <a:ext cx="1438560" cy="284400"/>
                <a:chOff x="3645720" y="5184000"/>
                <a:chExt cx="1438560" cy="28440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3646080" y="5184000"/>
                  <a:ext cx="1438200" cy="284400"/>
                  <a:chOff x="3646080" y="5184000"/>
                  <a:chExt cx="1438200" cy="2844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3646080" y="518400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646080" y="518400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3645720" y="5269320"/>
                  <a:ext cx="143856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ic_iostre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3412440" y="3795480"/>
                <a:ext cx="434160" cy="56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62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17240" y="3795480"/>
                <a:ext cx="434160" cy="56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2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2608920" y="4347720"/>
                <a:ext cx="1438200" cy="284400"/>
                <a:chOff x="2608920" y="4347720"/>
                <a:chExt cx="1438200" cy="28440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2609280" y="4347720"/>
                  <a:ext cx="1437840" cy="284400"/>
                  <a:chOff x="2609280" y="4347720"/>
                  <a:chExt cx="1437840" cy="28440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2609280" y="4347720"/>
                    <a:ext cx="143784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2609280" y="4347720"/>
                    <a:ext cx="143784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4" name=""/>
                <p:cNvSpPr/>
                <p:nvPr/>
              </p:nvSpPr>
              <p:spPr>
                <a:xfrm>
                  <a:off x="2608920" y="4432680"/>
                  <a:ext cx="143820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ic_istre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4749120" y="4347720"/>
                <a:ext cx="1438560" cy="284400"/>
                <a:chOff x="4749120" y="4347720"/>
                <a:chExt cx="1438560" cy="28440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4749480" y="4347720"/>
                  <a:ext cx="1438200" cy="284400"/>
                  <a:chOff x="4749480" y="4347720"/>
                  <a:chExt cx="1438200" cy="2844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4749480" y="434772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749480" y="4347720"/>
                    <a:ext cx="143820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8" y="0"/>
                        </a:moveTo>
                        <a:lnTo>
                          <a:pt x="19988" y="19941"/>
                        </a:lnTo>
                        <a:lnTo>
                          <a:pt x="0" y="19941"/>
                        </a:lnTo>
                        <a:lnTo>
                          <a:pt x="0" y="0"/>
                        </a:lnTo>
                        <a:lnTo>
                          <a:pt x="19988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9" name=""/>
                <p:cNvSpPr/>
                <p:nvPr/>
              </p:nvSpPr>
              <p:spPr>
                <a:xfrm>
                  <a:off x="4749120" y="4432680"/>
                  <a:ext cx="1438560" cy="14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ic_ostre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E3CA-7754-4B9E-9FBF-4ED8BD52B9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reating a Sequential-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imposes no structure on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cept of "record" must be implemented by programm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pen file, create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"line of communication" from object to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put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utput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/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tak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ile 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ile-open m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stream outClientFile( "filename",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fileOpenMod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attach a file l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stream outClientFi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ClientFile.open( "filename",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fileOpenMod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3F8E-7BF4-4949-A446-B30C416302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5T19:30:17Z</dcterms:created>
  <dc:creator>kalid</dc:creator>
  <dc:description/>
  <dc:language>en-US</dc:language>
  <cp:lastModifiedBy>Pearson Education</cp:lastModifiedBy>
  <dcterms:modified xsi:type="dcterms:W3CDTF">2002-08-20T16:13:20Z</dcterms:modified>
  <cp:revision>595</cp:revision>
  <dc:subject/>
  <dc:title>PowerPoint Presentation</dc:title>
</cp:coreProperties>
</file>