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0489-73D5-4093-9873-F477CE12C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2F43-2CA7-48C1-910A-647AD474D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A16A-BD27-40D5-B0D9-A3DE7BF40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6466-528A-4AF2-83C9-A63C56D39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078D-FA74-4542-B5FB-636FB7395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24A6-CAFB-44B0-A090-C74F38A212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482D-26AD-4499-9170-FFB709EAD3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5FAF-8536-4B04-A4A4-48BD9EFF91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9E5D-C80A-49D3-8AD8-EA38B370E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E2FE-AC59-4DFA-B34A-AD4BDA27A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5534-C441-4A70-A415-0A90DA00D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E4B4-D81D-471C-9D82-FAD9A2A01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CF07-A753-4B7C-960D-BA145DD6A5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B01E-FF8E-4C5A-AC5D-A6ACB71B7D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5AAD-7E5F-4BFD-9A6C-793FBE8D78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AF57-E777-48E8-AA4A-58D94EB68E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F446-98B8-4ADE-BAE7-EB789A166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EE8C-BE09-470D-A67A-C669F722C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A56F-D0C4-43A0-A4AD-F2B5E56E8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97ED-FF23-46F0-9E7A-E22821D31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EB24-EF8C-4E64-A66F-2FD13896B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756A-2992-48E1-9748-E3DA573C9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2972-CAC1-4561-8D5D-B4C445D6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4E8F-4FDA-41FD-B401-0D0F3B896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19F-B7C3-47EB-98A8-60B119376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805-4438-46C7-B063-5BCD4C5D0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3 -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-Handling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Other Error-Hand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4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imple Exception-Handling Example: Divide by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5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Rethrowing an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6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7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ocessing Unexpected Exce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8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ck Unw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9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onstructors, Destructors and Exception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0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Exceptions and Inher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1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Processing new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2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Class auto_ptr and Dynamic Memory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13.13  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</a:rPr>
              <a:t>Standard Library Exception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72D7-64B0-403E-B808-3D0C993406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divide-by-zero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new exception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divisio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deno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zero, throw excep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 to di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ideByZero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C07D-684C-457E-81C1-7BE408F4A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1: fig13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imple exception-handling example that checks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ByZeroException objects should be thrown by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on detecting division-by-zero exception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 {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 specifies default error messag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videByZeroException::DivideByZeroException(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except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to divide by zero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{}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ivideByZeroException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360" y="1816200"/>
            <a:ext cx="3353040" cy="2450880"/>
            <a:chOff x="3276360" y="1816200"/>
            <a:chExt cx="3353040" cy="2450880"/>
          </a:xfrm>
        </p:grpSpPr>
        <p:sp>
          <p:nvSpPr>
            <p:cNvPr id="110" name=""/>
            <p:cNvSpPr/>
            <p:nvPr/>
          </p:nvSpPr>
          <p:spPr>
            <a:xfrm>
              <a:off x="3962520" y="1816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new exception class (inherit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Pass a descriptive message to the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276360" y="228600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76360" y="2286000"/>
              <a:ext cx="685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101B-C6AA-463E-91C2-132C27650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erform division and throw DivideByZeroException object 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vide-by-zero except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quoti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erato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nominat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DivideByZeroException if trying to divide by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enominato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videByZeroException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rminat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divisio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numerator ) / denomin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quoti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num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r-specified denomin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of div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 (end-of-file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5640" y="1752120"/>
            <a:ext cx="3810240" cy="1891440"/>
            <a:chOff x="2285640" y="1752120"/>
            <a:chExt cx="3810240" cy="1891440"/>
          </a:xfrm>
        </p:grpSpPr>
        <p:sp>
          <p:nvSpPr>
            <p:cNvPr id="116" name=""/>
            <p:cNvSpPr/>
            <p:nvPr/>
          </p:nvSpPr>
          <p:spPr>
            <a:xfrm>
              <a:off x="2971800" y="281952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denominator is zero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videByZero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285640" y="17521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0665-FD5E-4BA2-8390-20C6A3998F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able user to enter two integers to divi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in &gt;&gt; number1 &gt;&gt; number2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try block contains code that might throw exceptio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nd code that should not execute if an exception occ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sult = quotient( number1, number2 )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quotient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esult &lt;&lt; endl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exception handler handles a divide-by-zero exception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ivideByZeroException &amp;divideByZeroException ) {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divideByZeroException.what() &lt;&lt; endl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nter two integers (end-of-file to end)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norm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61960" y="3429000"/>
            <a:ext cx="4038840" cy="3107520"/>
            <a:chOff x="2361960" y="3429000"/>
            <a:chExt cx="4038840" cy="3107520"/>
          </a:xfrm>
        </p:grpSpPr>
        <p:sp>
          <p:nvSpPr>
            <p:cNvPr id="121" name=""/>
            <p:cNvSpPr/>
            <p:nvPr/>
          </p:nvSpPr>
          <p:spPr>
            <a:xfrm>
              <a:off x="3429000" y="3765600"/>
              <a:ext cx="297180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structur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s.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can cat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ivideByZero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and print an error message. If no exception occurs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is skipp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wh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the string describing the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960" y="3429000"/>
              <a:ext cx="10666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388C-4C45-4EDD-A20E-4F6D83272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quotient is: 14.28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100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ttempted to divide by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 (end-of-file to end): ^Z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170C-C835-428D-81C5-7808A176A7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throwing an Excep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hrow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exception handler cannot process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ill rethrow if handler did som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throw exception to anothe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es to next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 try to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tatement 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;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e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25E3-F7DB-4611-A47D-FD3281050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2: fig13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exception rethrow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exception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xcept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w, catch and rethrow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hrowException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 and catch it immediate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Function throwException throws an excep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eption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at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exception &amp;caugh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Exception handled in function throwExceptio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Function throwException rethrows excepti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hrow exception for further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99840" y="1905120"/>
            <a:ext cx="4648680" cy="4038480"/>
            <a:chOff x="1599840" y="1905120"/>
            <a:chExt cx="4648680" cy="4038480"/>
          </a:xfrm>
        </p:grpSpPr>
        <p:sp>
          <p:nvSpPr>
            <p:cNvPr id="130" name=""/>
            <p:cNvSpPr/>
            <p:nvPr/>
          </p:nvSpPr>
          <p:spPr>
            <a:xfrm>
              <a:off x="3581280" y="1905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ception handler generates a default exception (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It immediately catches and rethrows it (not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362320" y="2514600"/>
              <a:ext cx="12189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99840" y="2514600"/>
              <a:ext cx="198108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BD14-3A2A-4377-AA28-23555DE356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also should not prin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row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invokes function throwExcep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hrowException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should not print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xception &amp;caught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xception handled in mai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control continues after catch in mai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14600" y="533160"/>
            <a:ext cx="3657600" cy="1433880"/>
            <a:chOff x="2514600" y="533160"/>
            <a:chExt cx="3657600" cy="1433880"/>
          </a:xfrm>
        </p:grpSpPr>
        <p:sp>
          <p:nvSpPr>
            <p:cNvPr id="136" name=""/>
            <p:cNvSpPr/>
            <p:nvPr/>
          </p:nvSpPr>
          <p:spPr>
            <a:xfrm>
              <a:off x="350532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should never be reached, sin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mmediately exits th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514600" y="533160"/>
              <a:ext cx="990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90920" y="2438280"/>
            <a:ext cx="4038480" cy="976680"/>
            <a:chOff x="2590920" y="2438280"/>
            <a:chExt cx="4038480" cy="976680"/>
          </a:xfrm>
        </p:grpSpPr>
        <p:sp>
          <p:nvSpPr>
            <p:cNvPr id="139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rowExcep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hrows an exceptio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is caught and hand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90920" y="243828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16E5-D4A3-420E-8A62-B8D73592E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invokes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throws an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function throw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hrowException rethrows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handled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ntrol continues after catch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18E8-0C28-4ECD-8BF1-56D9FBDCE2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 Specif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exceptions function can 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throw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omeFunction( double valu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 ( ExceptionA, ExceptionB, ExceptionC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/ function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thr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nd derived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rows other type,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efault, terminates program (more 13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throw list, can throw any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mpty throw list, cannot throw any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B953-A212-4C25-9707-9ECC0867A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problem occurred in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"exception" to a program that us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lve excep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may be able to contin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d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ault-tolera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example, we will handle a divide-by-zer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9F5A-14E4-4329-A0D8-8CCAAE233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cessing Unexpected Excep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function register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unexp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_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what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efault,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edefined, still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fter new function fini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for 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pointer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ust take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CE45-741E-450E-9A33-83967F795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ck Unw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xception thrown but not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es to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es current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winds function call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k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handl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ne found, unwinds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xception never ca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ECF0-DF8E-4092-A5E4-47D33DF6CC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3: fig1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ck unwind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dexcept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untime_err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3 throws run-tim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3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_err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untime_error in function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r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invokes function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3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71800" y="1981080"/>
            <a:ext cx="4114800" cy="1219320"/>
            <a:chOff x="2971800" y="1981080"/>
            <a:chExt cx="4114800" cy="1219320"/>
          </a:xfrm>
        </p:grpSpPr>
        <p:grpSp>
          <p:nvGrpSpPr>
            <p:cNvPr id="152" name=""/>
            <p:cNvGrpSpPr/>
            <p:nvPr/>
          </p:nvGrpSpPr>
          <p:grpSpPr>
            <a:xfrm>
              <a:off x="2971800" y="1981080"/>
              <a:ext cx="4114800" cy="1067400"/>
              <a:chOff x="2971800" y="1981080"/>
              <a:chExt cx="4114800" cy="10674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19720" y="198108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the use of the throw list. Throws a runtime error exception, defined i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stdexcept&g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71800" y="213372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114440" y="213372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25C1-AF68-4ACE-AE13-B62E9BCCF6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invokes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ro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e stack unw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unction1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run-tim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untime_error &amp;error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f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rror.wha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6386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runtime_error in function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81080" y="1752480"/>
            <a:ext cx="4114800" cy="1554120"/>
            <a:chOff x="1981080" y="1752480"/>
            <a:chExt cx="4114800" cy="1554120"/>
          </a:xfrm>
        </p:grpSpPr>
        <p:sp>
          <p:nvSpPr>
            <p:cNvPr id="160" name=""/>
            <p:cNvSpPr/>
            <p:nvPr/>
          </p:nvSpPr>
          <p:spPr>
            <a:xfrm>
              <a:off x="3429000" y="1752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ich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unction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exception occurs, and unwinds until an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can be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C04F-32F8-4489-8611-54F561C062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9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, Destructors and Exception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i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ils; cannot allocate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a value - how to inform us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 user examines object, notices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ome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alternative: throw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automatically called for memb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for automatic variable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tch exceptions in de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5C10-F7BE-44DD-B035-FF44785EA3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0  Exception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derived from ba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handle base class, can hand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c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F562-7390-46E2-8E7D-FA38B68703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ls to ge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pilers hav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 depends on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9EF5-4408-4808-B025-B29BF36588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4: fig1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pre-standard new returning 0 when memor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is not alloca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returns 0 on failure to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emory allocation failed for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9520" y="2895480"/>
            <a:ext cx="4114800" cy="838440"/>
            <a:chOff x="2819520" y="2895480"/>
            <a:chExt cx="4114800" cy="838440"/>
          </a:xfrm>
        </p:grpSpPr>
        <p:sp>
          <p:nvSpPr>
            <p:cNvPr id="171" name=""/>
            <p:cNvSpPr/>
            <p:nvPr/>
          </p:nvSpPr>
          <p:spPr>
            <a:xfrm>
              <a:off x="4267440" y="289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onstr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n allocation fail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1952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4224-96E3-4CD1-9861-386796FA12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successful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4382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mory allocation failed for ptr[ 4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E2A6-B967-4216-AF84-D66AB16490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5: fig13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new throwing bad_alloc when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 be allocat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bad_allo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allocate memory for ptr[ i ]; new throws bad_allo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</a:t>
            </a: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n fail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8960" y="3124080"/>
            <a:ext cx="4115160" cy="838440"/>
            <a:chOff x="1218960" y="3124080"/>
            <a:chExt cx="4115160" cy="838440"/>
          </a:xfrm>
        </p:grpSpPr>
        <p:sp>
          <p:nvSpPr>
            <p:cNvPr id="179" name=""/>
            <p:cNvSpPr/>
            <p:nvPr/>
          </p:nvSpPr>
          <p:spPr>
            <a:xfrm>
              <a:off x="26668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monstr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throws an exce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189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D39A-D67B-4027-BB28-F9DB88F7AE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next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eceding task did not execute correctl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rror process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logic an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ke program difficult to read/deb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 handling removes error correction from "main line"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76D7-E39E-4DF6-85CB-320C7F8F7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handle bad_alloc exce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bad_alloc &amp;memoryAllocationException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xception occur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memoryAllocationException.wha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590920"/>
            <a:ext cx="7010280" cy="144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occurred: Allocation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D56B-81CF-4847-86F1-437BD2E816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1  Processing new Fail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_new_han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er function to call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function pointer to function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registered, function called instead of throwing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84A7-638D-40CD-96D6-FCDEA66270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6: fig13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et_new_handl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er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operator new and set_new_hand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_new_handl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ort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stomNewHandler(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er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ustomNewHandler was calle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bort(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et_new_handler to handle failed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00200" y="2209680"/>
            <a:ext cx="4114800" cy="838440"/>
            <a:chOff x="1600200" y="2209680"/>
            <a:chExt cx="4114800" cy="838440"/>
          </a:xfrm>
        </p:grpSpPr>
        <p:sp>
          <p:nvSpPr>
            <p:cNvPr id="189" name=""/>
            <p:cNvSpPr/>
            <p:nvPr/>
          </p:nvSpPr>
          <p:spPr>
            <a:xfrm>
              <a:off x="3048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ustom handler must take no arguments and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600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AC19-DDAC-47F5-8ACE-9208328E7F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that customNewHandler should be called on fai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emory allocation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_new_handler( customNewHandler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memory for ptr[ i ]; customNewHandler will 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alled on failed memory allo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ocated 5000000 doubles in ptr[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962520"/>
            <a:ext cx="7010280" cy="129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0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1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2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5000000 doubles in ptr[ 3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stomNewHandler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437920" y="838080"/>
            <a:ext cx="3429360" cy="2257200"/>
            <a:chOff x="2437920" y="838080"/>
            <a:chExt cx="3429360" cy="2257200"/>
          </a:xfrm>
        </p:grpSpPr>
        <p:sp>
          <p:nvSpPr>
            <p:cNvPr id="195" name=""/>
            <p:cNvSpPr/>
            <p:nvPr/>
          </p:nvSpPr>
          <p:spPr>
            <a:xfrm>
              <a:off x="3200400" y="2514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_new_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838080"/>
              <a:ext cx="7621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C1AB-9FAA-416F-B677-DC22113FA3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2  Class auto_ptr and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pointer, allocate memory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f exception occurs before you c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l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uto_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memor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pointers (h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pointer goes out of scope, 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memory lea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to_ptr&lt; MyClass &gt; newPointer( new MyClass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dynamically allocated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A435-FD75-4486-9179-89C42A8E0A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3.7: fig1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uto_pt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memory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auto_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uto_pt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or for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131A-CFE7-486F-95BF-33C4896946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 for Intege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valu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ger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se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unction to retur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Integ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DF2D-C0FA-405F-BE81-F2188CA79A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auto_ptr to manipulate Integ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ing an auto_ptr object that points to an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"aim" auto_ptr at Integer object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_ptr&lt; Integer &gt; ptrToInteg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sing the auto_ptr to manipulate the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set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ToInteger-&gt;setInte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auto_ptr to get Integ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 after set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*ptrToInteger ).getInteg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rminating pr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7760" y="838080"/>
            <a:ext cx="4115160" cy="838440"/>
            <a:chOff x="3047760" y="838080"/>
            <a:chExt cx="4115160" cy="838440"/>
          </a:xfrm>
        </p:grpSpPr>
        <p:sp>
          <p:nvSpPr>
            <p:cNvPr id="206" name=""/>
            <p:cNvSpPr/>
            <p:nvPr/>
          </p:nvSpPr>
          <p:spPr>
            <a:xfrm>
              <a:off x="449568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o_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be manipulated like a regular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047760" y="990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67080" y="3048120"/>
            <a:ext cx="4114800" cy="1554120"/>
            <a:chOff x="4267080" y="3048120"/>
            <a:chExt cx="4114800" cy="1554120"/>
          </a:xfrm>
        </p:grpSpPr>
        <p:sp>
          <p:nvSpPr>
            <p:cNvPr id="209" name=""/>
            <p:cNvSpPr/>
            <p:nvPr/>
          </p:nvSpPr>
          <p:spPr>
            <a:xfrm>
              <a:off x="5715000" y="30481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explicitly called, bu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o_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destroyed once it leaves scope. Thus, the destructor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670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9959-C55C-40FF-91C1-1A39C7EFDD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an auto_ptr object that points to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or for Integer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the auto_ptr to manipulate the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after setInteger: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ing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 for Integer 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CA76-7DC9-4FE5-A1AD-054C4D5788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3  Standard Library Exception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verridden to provide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pl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time_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ic_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all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ca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_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n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tch all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( exception Any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not catch user-defined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7E2A-DA59-4E3F-9536-0010A94FB2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ynchronous errors (divide by zero, null poin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handle asynchronous errors (independent of pro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I/O, mouse, keyboard, network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handl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hat has err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ception handl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f it exists) can deal with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exception handl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ncaugh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terminat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617F-C1C8-4D4B-9A6F-719D4F283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that may rais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 (exceptionTyp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de to handle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encloses code that may raise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 fol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 and handle exception, if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parameter; if named, can access exceptio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B38A-8EAA-4FB5-B6B3-75295B7EA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eption-Handling Overview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 where exception occu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xception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kips remainder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mes af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hand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s for enclo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ck (stack unwinding, 13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skip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094E-7E91-49CB-800B-1CACB3807C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for personal (not commercial)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may f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appropri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ppropriate for mission-critical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rror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fortunately, may not test for these when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erro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 exi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pass error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CF95-2D9A-4B2C-BFB4-998A71AC4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Error-Handling Techniq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jum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ngjum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etjm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 from deeply nested function to call error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danger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icated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have a special ha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13.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789B-33AE-4B25-8A12-73CD258D13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imple Exception-Handling Example: Divide by Zer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ws an 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hen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throw almost anything (exception object, integer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my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xception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can take a string (to describe excep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a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that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5014-10CC-4372-B116-15D9AE4D26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9:54:53Z</dcterms:created>
  <dc:creator>kalid</dc:creator>
  <dc:description/>
  <dc:language>en-US</dc:language>
  <cp:lastModifiedBy>UAGUIMA</cp:lastModifiedBy>
  <dcterms:modified xsi:type="dcterms:W3CDTF">2002-08-15T19:22:02Z</dcterms:modified>
  <cp:revision>427</cp:revision>
  <dc:subject/>
  <dc:title>fig13_01.cpp (1 of 3)  </dc:title>
</cp:coreProperties>
</file>