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AE70-576F-4E3D-A463-2A36C1AE4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48CE-7C41-4920-9BD7-90A867CDA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5CB0-665B-455C-95D2-C04187DFC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0D87-985E-4659-9CE9-AFC50BAC0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8245-E7F0-46D6-A4D2-4B03BDC5AA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3D5E-D8ED-4977-8A33-A988E1866D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F541-72C8-44AD-A9CD-1EC46C58C6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4D0B-476F-475F-8563-9DF02D54A7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2EA4-076B-439A-BCC2-BE62A9EE09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622B-7C85-44C2-B534-0CC9AD6311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1D41-BE5E-4C3A-AB36-361775673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8FCB-C796-49C9-8383-4DECC5EFE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F6F6-F4AD-4014-940F-D6FA5DFED2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EA3A-D76F-4D64-98C8-7F0D79899C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AEF5-59C9-4181-95A6-B2C7EFD7E9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6D22-71F3-4049-ABAB-C781055119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E3278-A257-4785-926F-BF9DF6778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F6BD-94BC-4B83-A12E-735840AC9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AA9B-396E-4E32-94AB-9CC266777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91B3-318B-4451-9064-71A206C2E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5ACD-A2A6-4537-9F8E-477C1FD6A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8EFD-176D-450A-B8BC-D9182AA6F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B4C4-EA6C-4C1F-89CB-CFBB61D9D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BE60-D1AA-49A9-914C-B38BE9B78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CB86-704F-459A-B9E5-AC1951A9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CC64-64B0-42D5-8CE2-95FA5100A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2 - C++ Stream Input/Output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ic Streams vs. Standard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ostream Library Header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Input/Output Classes and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3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utput of char *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3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haracter Output using Member Function 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get and getline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stream Member Functions peek, putback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gn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4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ype-Safe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formatted I/O using read, write and g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3032-FD7B-4BE4-9DB5-0900D2C752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output (usually display sc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 &lt;&lt; grad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o type informatio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 to standard error de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utputs immediat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uffers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when buffer full or flu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advantage (discussed in OS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C27B-3E49-482B-9F9F-D5D0020DBE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file processing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ifstr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ile input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ofstr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ile 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fstr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ile 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izations allow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liases for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5AD7-E237-4138-8C24-8B1B9F8C11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2057400"/>
            <a:ext cx="6172200" cy="2819520"/>
            <a:chOff x="1371600" y="2057400"/>
            <a:chExt cx="6172200" cy="2819520"/>
          </a:xfrm>
        </p:grpSpPr>
        <p:sp>
          <p:nvSpPr>
            <p:cNvPr id="140" name=""/>
            <p:cNvSpPr/>
            <p:nvPr/>
          </p:nvSpPr>
          <p:spPr>
            <a:xfrm>
              <a:off x="1371600" y="2057400"/>
              <a:ext cx="6172200" cy="281952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543680" y="2202840"/>
              <a:ext cx="5828760" cy="2526840"/>
              <a:chOff x="1543680" y="2202840"/>
              <a:chExt cx="5828760" cy="252684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3549240" y="3630240"/>
                <a:ext cx="1816920" cy="299880"/>
                <a:chOff x="3549240" y="3630240"/>
                <a:chExt cx="1816920" cy="2998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3549240" y="3630240"/>
                  <a:ext cx="1816920" cy="299880"/>
                  <a:chOff x="3549240" y="3630240"/>
                  <a:chExt cx="1816920" cy="2998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354924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354924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3651480" y="36943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o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607280" y="2916720"/>
                <a:ext cx="1816920" cy="299880"/>
                <a:chOff x="4607280" y="2916720"/>
                <a:chExt cx="1816920" cy="29988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4607280" y="2916720"/>
                  <a:ext cx="1816920" cy="299880"/>
                  <a:chOff x="4607280" y="2916720"/>
                  <a:chExt cx="1816920" cy="2998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460728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60728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4708800" y="298080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o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491560" y="2916720"/>
                <a:ext cx="1816920" cy="299880"/>
                <a:chOff x="2491560" y="2916720"/>
                <a:chExt cx="1816920" cy="2998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2491560" y="2916720"/>
                  <a:ext cx="1816920" cy="299880"/>
                  <a:chOff x="2491560" y="2916720"/>
                  <a:chExt cx="1816920" cy="2998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249156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491560" y="291672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2593800" y="298080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549240" y="2202840"/>
                <a:ext cx="1816920" cy="299880"/>
                <a:chOff x="3549240" y="2202840"/>
                <a:chExt cx="1816920" cy="29988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3549240" y="2202840"/>
                  <a:ext cx="1816920" cy="299880"/>
                  <a:chOff x="3549240" y="2202840"/>
                  <a:chExt cx="1816920" cy="2998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3549240" y="22028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549240" y="22028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>
                  <a:off x="3651120" y="22669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543680" y="3630240"/>
                <a:ext cx="1816920" cy="299880"/>
                <a:chOff x="1543680" y="3630240"/>
                <a:chExt cx="1816920" cy="29988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1543680" y="3630240"/>
                  <a:ext cx="1816920" cy="299880"/>
                  <a:chOff x="1543680" y="3630240"/>
                  <a:chExt cx="1816920" cy="2998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154368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543680" y="363024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1645920" y="36943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if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555160" y="3630240"/>
                <a:ext cx="1817280" cy="299880"/>
                <a:chOff x="5555160" y="3630240"/>
                <a:chExt cx="1817280" cy="29988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5555160" y="3630240"/>
                  <a:ext cx="1817280" cy="299880"/>
                  <a:chOff x="5555160" y="3630240"/>
                  <a:chExt cx="1817280" cy="2998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5555160" y="3630240"/>
                    <a:ext cx="181728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555160" y="3630240"/>
                    <a:ext cx="181728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5657040" y="369432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of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4457160" y="3930480"/>
                <a:ext cx="360" cy="685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9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3549240" y="4429800"/>
                <a:ext cx="1816920" cy="299880"/>
                <a:chOff x="3549240" y="4429800"/>
                <a:chExt cx="1816920" cy="29988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3549240" y="4429800"/>
                  <a:ext cx="1816920" cy="299880"/>
                  <a:chOff x="3549240" y="4429800"/>
                  <a:chExt cx="1816920" cy="29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3549240" y="442980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549240" y="4429800"/>
                    <a:ext cx="18169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1" y="0"/>
                        </a:moveTo>
                        <a:lnTo>
                          <a:pt x="19991" y="19929"/>
                        </a:lnTo>
                        <a:lnTo>
                          <a:pt x="0" y="19929"/>
                        </a:lnTo>
                        <a:lnTo>
                          <a:pt x="0" y="0"/>
                        </a:lnTo>
                        <a:lnTo>
                          <a:pt x="19991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" name=""/>
                <p:cNvSpPr/>
                <p:nvPr/>
              </p:nvSpPr>
              <p:spPr>
                <a:xfrm>
                  <a:off x="3651120" y="4493880"/>
                  <a:ext cx="161208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basic_f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600720" y="2502720"/>
                <a:ext cx="1714320" cy="413640"/>
                <a:chOff x="3600720" y="2502720"/>
                <a:chExt cx="1714320" cy="4136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074920" y="250272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29" y="1994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00720" y="250272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8"/>
                      </a:moveTo>
                      <a:lnTo>
                        <a:pt x="19929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017880" y="3216600"/>
                <a:ext cx="2883960" cy="413640"/>
                <a:chOff x="3017880" y="3216600"/>
                <a:chExt cx="2883960" cy="4136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074920" y="321660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29" y="0"/>
                      </a:moveTo>
                      <a:lnTo>
                        <a:pt x="0" y="19948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600720" y="3216600"/>
                  <a:ext cx="24012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9929" y="19948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017880" y="3216600"/>
                  <a:ext cx="23976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8"/>
                      </a:moveTo>
                      <a:lnTo>
                        <a:pt x="19929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662080" y="3216600"/>
                  <a:ext cx="239760" cy="413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29" y="1994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5D2C-88D1-402B-8C96-A02B4C1B17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Out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ted and unforma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data typ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s (decimal, octal, hexadecim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oating point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precision, forced decimal points, scientific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ustified, padde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percase/lowercase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51DE-F58A-4EAD-B794-086EA4F0B4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1 Output of char * Variab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determines data type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lly an improvement (over 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y to print value of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address of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verloaded to print null-terminated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ution: cas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henever printing value of a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 as a hex (base 16)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A26A-4ABB-483B-95C3-DF38C0C07B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3: fig12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the address stored in a char * vari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value of char *, then display value of char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static_cast to void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of word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word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of static_cast&lt; void * &gt;( word )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word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5720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f word is: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 of static_cast&lt; void *&gt;( word ) is: 0046C07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62520" y="1676520"/>
            <a:ext cx="3124080" cy="1828800"/>
            <a:chOff x="3962520" y="1676520"/>
            <a:chExt cx="3124080" cy="1828800"/>
          </a:xfrm>
        </p:grpSpPr>
        <p:sp>
          <p:nvSpPr>
            <p:cNvPr id="194" name=""/>
            <p:cNvSpPr/>
            <p:nvPr/>
          </p:nvSpPr>
          <p:spPr>
            <a:xfrm>
              <a:off x="4419720" y="1676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print the value of the pointer, we must cast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Otherwise, the string is prin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962520" y="2210040"/>
              <a:ext cx="457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67A8-68E4-4879-B5E8-0E61611740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3.2 Character Output using Member Function 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put( 'A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casc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put( 'A' ).put(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valuates left-to-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numerical (ASCII)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put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E539-C276-4090-B986-1B4FA5C707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ted and unformatted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 skips whitespace (blanks, tabs, newlin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ang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n EOF encount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returns reference to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 bits set if errors occ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in 12.7 and 1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C672-4851-4D50-99E3-52251AEA06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get and getline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ge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one character from stream (even whitesp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nd-of-file encoun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of-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end of in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trl-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IBM-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trl-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UNIX and Ma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eof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f EOF has occu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A489-AC08-4006-A9D1-6DEE38AB94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4: fig12_0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ber functions get, put and eo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int, because char cannot represent E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mpt user to enter line of te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input, cin.eof()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 followed by end-of-fil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get to read each character; use put to display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haracter = cin.get()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.put( charact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nd-of-fil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OF in this system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haract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put, cin.eof()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666880" y="3048120"/>
            <a:ext cx="4114800" cy="1067400"/>
            <a:chOff x="2666880" y="3048120"/>
            <a:chExt cx="4114800" cy="1067400"/>
          </a:xfrm>
        </p:grpSpPr>
        <p:sp>
          <p:nvSpPr>
            <p:cNvPr id="205" name=""/>
            <p:cNvSpPr/>
            <p:nvPr/>
          </p:nvSpPr>
          <p:spPr>
            <a:xfrm>
              <a:off x="4114800" y="3048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with no arguments) returns a single character input, unl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counte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6668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79D8-4D58-43CC-BCBF-A3591DC039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2 - C++ Stream Input/Output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21932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Stream Manip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egral Stream Base: dec, oct, hex and set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loating-Point Precision (precision, setpreci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ield Width (width, set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6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ogrammer-Defined Manip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Format States and Stream Manip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railing Zeros and Decimal Points (showpo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ustification (left, right and inter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dding (fill, setf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egral Stream Base (dec, oct, hex, showb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5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loating-Point Numbers; Scientific and Fixe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Notation (scientific, fix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ppercase/Lowercase Control (upper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pecifying Boolean Format (boolalp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7.8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tting and Resetting the Format State via Member-Function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eam Error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2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ying an Output Stream to an Inpu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EC6A-1B3E-46A4-BFDF-CE45A2F490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09480"/>
            <a:ext cx="701028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input, cin.eof()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 followed by end-of-fi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get and pu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get and pu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OF in this system is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input cin.eof() is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856F-D6D6-4941-B565-5E6E5CD632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get and getline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(charR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character referenc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s one character, store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R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reference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OF,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(charArray, size, delimi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unti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 read, or delimiter encount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delimi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n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miter stays in in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move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ignor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array null-term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ACA6-587F-4CCE-A19C-CC017AF14E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5: fig12_05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asting input of a string via cin and cin.ge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wo char arrays, each with 80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in to input characters into buffer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buff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uffer1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tring read with cin wa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uffer1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in.get to input characters into buffer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get( buffer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19160" y="4572000"/>
            <a:ext cx="4115160" cy="838080"/>
            <a:chOff x="2819160" y="4572000"/>
            <a:chExt cx="4115160" cy="838080"/>
          </a:xfrm>
        </p:grpSpPr>
        <p:sp>
          <p:nvSpPr>
            <p:cNvPr id="215" name=""/>
            <p:cNvSpPr/>
            <p:nvPr/>
          </p:nvSpPr>
          <p:spPr>
            <a:xfrm>
              <a:off x="4267080" y="4572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delimiter specified, so the defaul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\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u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819160" y="4724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057400" y="3048120"/>
            <a:ext cx="4114800" cy="838080"/>
            <a:chOff x="2057400" y="3048120"/>
            <a:chExt cx="4114800" cy="838080"/>
          </a:xfrm>
        </p:grpSpPr>
        <p:sp>
          <p:nvSpPr>
            <p:cNvPr id="218" name=""/>
            <p:cNvSpPr/>
            <p:nvPr/>
          </p:nvSpPr>
          <p:spPr>
            <a:xfrm>
              <a:off x="350532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only read until the first white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05740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C654-A29F-4B45-8DC7-FDDF95138B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uffer2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read with cin.get wa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uffer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981080"/>
            <a:ext cx="7010280" cy="228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asting string input with cin and cin.get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read with cin w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asting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read with cin.get w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 input with cin and cin.g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38A2-7E2C-4E3C-85C5-33B0D905CC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1 get and getline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line(array, size, delimi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last version of 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, or until delimiter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delimiter from input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null character at end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8E75-A624-4924-871C-D206DBA583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6: fig12_06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ting characters using cin member function getli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rray of 80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put characters in buffer via cin function ge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getline( buff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uffer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entence entered i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buff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B646-160C-423B-81E4-DA6B45F329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getline member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entence entered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getline member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96900-DD50-46E6-BC72-03F22E2D86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2 istream Member Functions peek, putback and igno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gnor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ards characters from stream (default 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s discarding once delimiter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delimi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back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character obtain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ck on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eek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ext character in stream, but does not rem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5757-0D54-4081-8129-96DC463899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4.3 Type-Safe I/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to accept data of specific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unexpected data 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 bits 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 can test bits to see if I/O fa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in section 1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49BF-93B6-4E65-9597-059A8D320A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nformatted I/O using read, write and gcou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rmatte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ember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raw bytes into character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enough characters read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number of characters read by last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bytes from character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when null character f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buffer[] = "HAPPY BIRTHDAY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write( buffer, 1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first 10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9161-FD72-4E1C-A0C2-61963A70E2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common I/O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orien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s, function overloading, operator over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sa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O sensitive to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if types do not 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-defined and standar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C++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09CD-9ECF-44BC-853C-1730284F5B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7: fig12_07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nformatted I/O using read, gcount and wri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ffe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rray of 80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function read to input characters into buff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read( buff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functions write and gcount to display buffer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entence entered wa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.write( buffer, cin.gcount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19160" y="2743200"/>
            <a:ext cx="4115160" cy="1600200"/>
            <a:chOff x="2819160" y="2743200"/>
            <a:chExt cx="4115160" cy="1600200"/>
          </a:xfrm>
        </p:grpSpPr>
        <p:sp>
          <p:nvSpPr>
            <p:cNvPr id="238" name=""/>
            <p:cNvSpPr/>
            <p:nvPr/>
          </p:nvSpPr>
          <p:spPr>
            <a:xfrm>
              <a:off x="4267080" y="2743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20 characters from input stream. Display the proper number of character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ri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819160" y="2895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048120" y="2895480"/>
              <a:ext cx="12189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B153-D506-4C16-A1AC-4690814EE6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read, write, and gcount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entence entered wa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read, wr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351B9-F03F-4A7F-8E12-04D396674A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 to Stream Manipul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s perform formatting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 width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is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fla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l character in fiel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ushing strea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ing newline in output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ipping whitespace in input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58E9-6EC1-462F-90D3-77C3786B29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1 Integral Stream Base: dec, oct, hex and setbas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s normally base 10 (decim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manipulators to change 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ase 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ase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sets to base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hex &lt;&lt; my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base(newB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f 8, 10, or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remains same until explicitly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argument (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b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4016-B991-40DE-B3B8-1F53112BA0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8: fig12_08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eam manipulators hex, oct, dec and set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de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decimal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hex stream manipulator to show hexadecimal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 hexadecimal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h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876560" y="4343400"/>
            <a:ext cx="4115160" cy="838080"/>
            <a:chOff x="4876560" y="4343400"/>
            <a:chExt cx="4115160" cy="838080"/>
          </a:xfrm>
        </p:grpSpPr>
        <p:sp>
          <p:nvSpPr>
            <p:cNvPr id="250" name=""/>
            <p:cNvSpPr/>
            <p:nvPr/>
          </p:nvSpPr>
          <p:spPr>
            <a:xfrm>
              <a:off x="6324480" y="4343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age of stream manipul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76560" y="4495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A8AC-C83C-4DE7-BA05-263BCA07CC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ct stream manipulator to show octal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dec &lt;&lt; 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 octal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oct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etbase stream manipulator to show decimal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b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 decimal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8195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decimal numb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in hexadecimal is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 in octal is: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in decimal is: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742840" y="1676160"/>
            <a:ext cx="3810240" cy="1662480"/>
            <a:chOff x="2742840" y="1676160"/>
            <a:chExt cx="3810240" cy="1662480"/>
          </a:xfrm>
        </p:grpSpPr>
        <p:sp>
          <p:nvSpPr>
            <p:cNvPr id="256" name=""/>
            <p:cNvSpPr/>
            <p:nvPr/>
          </p:nvSpPr>
          <p:spPr>
            <a:xfrm>
              <a:off x="3886200" y="2514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b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parameterized stream manipulator (it takes an argument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2742840" y="1676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4DFE-AF85-40D4-AA50-F2979C25B7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2 Floating-Point Precision (precision, setprecis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precision of floating point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digits to right of deci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number of decimal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etprecision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eci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recision(newPrec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no arguments, returns current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tings remain until changed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1349-2AA2-4A3E-8E9D-1D6350949F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9: fig12_09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ling precision of floating-point valu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math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r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ot2 = sq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quare root of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c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quare root of 2 with precisions 0-9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cision set by ios_base member-function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ecision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se fixed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057400" y="4572000"/>
            <a:ext cx="4114800" cy="838080"/>
            <a:chOff x="2057400" y="4572000"/>
            <a:chExt cx="4114800" cy="838080"/>
          </a:xfrm>
        </p:grpSpPr>
        <p:sp>
          <p:nvSpPr>
            <p:cNvPr id="263" name=""/>
            <p:cNvSpPr/>
            <p:nvPr/>
          </p:nvSpPr>
          <p:spPr>
            <a:xfrm>
              <a:off x="3505320" y="4572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fixed precision, not scientific notation (more details in 12.7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057400" y="4724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FE88-006C-40E2-B3EB-75A88C4274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square root using ios_base function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lac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.precision( plac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root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ecision set by stream-manipulator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precision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precision for each digit, then display square roo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lac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lace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precision( places ) &lt;&lt; root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429000" y="990720"/>
            <a:ext cx="4419720" cy="1828800"/>
            <a:chOff x="3429000" y="990720"/>
            <a:chExt cx="4419720" cy="1828800"/>
          </a:xfrm>
        </p:grpSpPr>
        <p:sp>
          <p:nvSpPr>
            <p:cNvPr id="268" name=""/>
            <p:cNvSpPr/>
            <p:nvPr/>
          </p:nvSpPr>
          <p:spPr>
            <a:xfrm>
              <a:off x="5181480" y="9907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format of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eci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parameterized 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precis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3429000" y="99072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657240" y="1447920"/>
              <a:ext cx="1523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3EEA-FFCB-4B8A-89E4-FA84A5A3C9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quare root of 2 with precisions 0-9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sion set by ios_base member-function precis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sion set by stream-manipulator setprecis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4142135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7EF3-DB73-4EAF-93FB-D755F81340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: sequence of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: from device (keyboard, disk drive) 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: from memory to device (monitor, printer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perations often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it for disk drive/keyboard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-level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formatted (not convenient for peo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-by-byt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speed, high-volume 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s grouped (into integers, characters, string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most I/O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5740-5F3D-4EA3-8499-E9A26B5A43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3 Field Width (width, setw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 (bas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_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width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field 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character positions fo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number of characters that should be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revious 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l characters/Pad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hen output too small for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outputs are printed (not trunc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lso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ading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1 less character (leave room for nu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C161-2CB6-470B-BC00-E0089AB0CA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0: fig12_10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member function widt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ten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sent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wid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only 5 characters from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eld width, then display characters based on that wid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in &gt;&gt; senten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.width( widthValue++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ntenc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wid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5 more characters from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7400" y="3048120"/>
            <a:ext cx="4114800" cy="838080"/>
            <a:chOff x="2057400" y="3048120"/>
            <a:chExt cx="4114800" cy="838080"/>
          </a:xfrm>
        </p:grpSpPr>
        <p:sp>
          <p:nvSpPr>
            <p:cNvPr id="278" name=""/>
            <p:cNvSpPr/>
            <p:nvPr/>
          </p:nvSpPr>
          <p:spPr>
            <a:xfrm>
              <a:off x="350532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s up to 4 characters, stops when whitespace rea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05740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81280" y="3844800"/>
            <a:ext cx="4114800" cy="422280"/>
            <a:chOff x="3581280" y="3844800"/>
            <a:chExt cx="4114800" cy="422280"/>
          </a:xfrm>
        </p:grpSpPr>
        <p:sp>
          <p:nvSpPr>
            <p:cNvPr id="281" name=""/>
            <p:cNvSpPr/>
            <p:nvPr/>
          </p:nvSpPr>
          <p:spPr>
            <a:xfrm>
              <a:off x="5029200" y="3844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the output wid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581280" y="38862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20ADB-55E4-41BB-8147-DB4ED6CECE4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609480"/>
            <a:ext cx="7010280" cy="3353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is a test of the width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E584-BB4F-4A16-AAFE-D21A8F8A24C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6.4 Programmer-Defined Manipul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parameter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bell( ostream&amp; output )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output &lt;&lt; '\a';  // issue system be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b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carriage retu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ta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303C-87CF-4BB1-A1ED-988E0C82E2C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1: fig12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ing and testing programmer-defined, nonparameteriz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eam manipul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lus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ll manipulator (using escape sequence \a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bell( ostream&amp; output 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system bee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riageReturn manipulator (using escape sequence \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carriageReturn( ostream&amp; output )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carriage return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10D7-BA0A-465F-8250-9AC3CBB4D3F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b manipulator (using escape sequence \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tab( ostream&amp; output )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tab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Line manipulator (using escape sequence \n and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flush)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&amp; endLine( ostream&amp; output )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lus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sue end of line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tab and endLine manipu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the tab manipulat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ab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ab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c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the carriageReturn and bell manipulator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in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........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el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bell manipul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760E-D1FE-45AC-AA51-0B111CCB02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arriageReturn and endLine manipul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arriageRetur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----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i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5238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tab manipul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      b      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carriageReturn and bell manipula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506B-3E78-4F6C-B538-32802B5D5E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Format States and Stream Manipul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stream manipulators for 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ing up n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inherit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_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A317-E8C6-4141-84CB-0260D6522F5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1 Trailing Zeros and Decimal Points (showpoint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decimal number to print with trailing ze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decimal number 79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 withou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w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.000000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w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p to level of prec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show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FC81-5433-42AF-A8F7-A21B5D16ECA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3: fig12_13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howpoint to control the printing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ailing zeros and decimal points for doub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ouble values with default stream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using showpo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9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990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9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0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ouble value after show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how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using showpo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9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9.9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9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9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9.0000 prints 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.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F9FF-D492-4127-9D42-43F7AD01BA1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1 Classic Streams vs. Standar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c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/outp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(one by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number of characters (ASC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stream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languages need special alphab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code character set supports th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char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o I/O with Unicode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8A63-F61C-41CB-80A5-2E93CE0701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9480"/>
            <a:ext cx="7010280" cy="221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using show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900 prints as: 9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000 prints as: 9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0000 prints as: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using show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900 prints as: 9.99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.9000 prints as: 9.9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9.0000 prints as: 9.0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09320" y="1523880"/>
            <a:ext cx="3429360" cy="1876320"/>
            <a:chOff x="2209320" y="1523880"/>
            <a:chExt cx="3429360" cy="1876320"/>
          </a:xfrm>
        </p:grpSpPr>
        <p:sp>
          <p:nvSpPr>
            <p:cNvPr id="305" name=""/>
            <p:cNvSpPr/>
            <p:nvPr/>
          </p:nvSpPr>
          <p:spPr>
            <a:xfrm>
              <a:off x="29718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ou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ow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trailing zeros are remov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09320" y="1523880"/>
              <a:ext cx="7621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14B5-924A-42D9-9F09-1A6F281F689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2 Justification (left, right and interna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-justified, padding to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-justified, padding to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set padding/fill charac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's sign left-just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's value right-just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        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ow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ces sign to p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show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A5D5-6222-4791-A237-BC97ECA3626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4: fig12_1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left justification and right justific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right justified (defaul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fault is right justified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left manipulator to display x left just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std::left to left justify x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71800" y="3581280"/>
            <a:ext cx="4114800" cy="838440"/>
            <a:chOff x="2971800" y="3581280"/>
            <a:chExt cx="4114800" cy="838440"/>
          </a:xfrm>
        </p:grpSpPr>
        <p:sp>
          <p:nvSpPr>
            <p:cNvPr id="312" name=""/>
            <p:cNvSpPr/>
            <p:nvPr/>
          </p:nvSpPr>
          <p:spPr>
            <a:xfrm>
              <a:off x="4419720" y="3581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ght- and left-just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within a width of 10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971800" y="373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5182-3A35-44FF-9C2D-7ECE0E7AD60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right manipulator to display x right just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se std::right to right justify x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righ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17524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is right just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std::left to left justify 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e std::right to right justify 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3CFA-2E27-4ECA-BE2F-2932DBBEF17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5: fig12_15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n integer with internal spacing and plus sig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ntern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value with internal spacing and plus sig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rnal &lt;&lt; showpos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480060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+      1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819160" y="2819520"/>
            <a:ext cx="4115160" cy="838080"/>
            <a:chOff x="2819160" y="2819520"/>
            <a:chExt cx="4115160" cy="838080"/>
          </a:xfrm>
        </p:grpSpPr>
        <p:sp>
          <p:nvSpPr>
            <p:cNvPr id="321" name=""/>
            <p:cNvSpPr/>
            <p:nvPr/>
          </p:nvSpPr>
          <p:spPr>
            <a:xfrm>
              <a:off x="42670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owpo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8191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B04B1-3CAF-4C73-955B-E3F8FD3E369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3 Padding (fill, setfill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fill character used in pad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fill('*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fi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manipu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fill( '^'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0910-EE85-4130-8855-69E8A81FAB1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6: fig12_16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ber-function fill and stream-manipulator setfil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change the padding character for fields larger th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ed val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ntern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de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F8907-5323-4D92-92C2-28F6576A800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ed as int right and left justified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nd as hex with internal justification.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default pad character (space)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with plus sig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howbase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with left jus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s hex with internal just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rnal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ex &lt;&lt; x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various padding character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using padded characters (right justific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.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dec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133360" y="4114800"/>
            <a:ext cx="4115160" cy="838080"/>
            <a:chOff x="2133360" y="4114800"/>
            <a:chExt cx="4115160" cy="838080"/>
          </a:xfrm>
        </p:grpSpPr>
        <p:sp>
          <p:nvSpPr>
            <p:cNvPr id="330" name=""/>
            <p:cNvSpPr/>
            <p:nvPr/>
          </p:nvSpPr>
          <p:spPr>
            <a:xfrm>
              <a:off x="3581280" y="4114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133360" y="426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0E88-37C3-411D-ADA2-3BC8CE47DDA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using padded characters (left justific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%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using padded characters (internal justific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rnal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^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e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362320"/>
            <a:ext cx="701028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 printed as int right and left just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as hex with internal jus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default pad character (spac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    27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various padding charac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%%%%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x^^^^27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D226-CD83-4728-B6C9-D351647E634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4 Integral Stream Base (dec, oct, hex, showbase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integer in various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imal numbers 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oc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h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w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base of number to be sh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show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CC36-B61F-405F-B3EB-4B4EBC190A8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2 iostream Library Header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header files with hundreds of I/O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uffered err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ed err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manip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 I/O with parameterized stream manip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stream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processing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9195-5DAC-44D8-9809-674BF7A0D6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7: fig12_17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eam-manipulator showb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howbase to show number 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ing integers preceded by their bas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howb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x &lt;&lt; endl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ecimal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oct &lt;&lt; x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ctal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hex &lt;&lt; x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hexadecimal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04760" y="2895480"/>
            <a:ext cx="4115160" cy="838440"/>
            <a:chOff x="1904760" y="2895480"/>
            <a:chExt cx="4115160" cy="838440"/>
          </a:xfrm>
        </p:grpSpPr>
        <p:sp>
          <p:nvSpPr>
            <p:cNvPr id="340" name=""/>
            <p:cNvSpPr/>
            <p:nvPr/>
          </p:nvSpPr>
          <p:spPr>
            <a:xfrm>
              <a:off x="3352680" y="2895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ces numbers to be printed with a prece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f octal)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f hexadecimal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904760" y="304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05E5-7555-4CF9-9367-2FFC8BB3617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ing integers preceded by their bas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14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6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DE43-A42B-4B8A-BEF5-83F638CCB3E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5 Floating-Point Numbers; Scientific and Fixed Notation (scientific, fixed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cient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scientific no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.946000e+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fixed poin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number of decimals specified by prec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46000000.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manipulator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of number determines how it app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3FC0-A710-49CD-9B25-ECA5C51D89A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8: fig12_18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ing floating-point values in system defaul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cientific and fixed forma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cientifi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01234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946e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nd y in defaul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splayed in default form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nd y in scientific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splayed in scientific form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cientific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438280" y="1981080"/>
            <a:ext cx="4114800" cy="2819520"/>
            <a:chOff x="2438280" y="1981080"/>
            <a:chExt cx="4114800" cy="2819520"/>
          </a:xfrm>
        </p:grpSpPr>
        <p:sp>
          <p:nvSpPr>
            <p:cNvPr id="349" name=""/>
            <p:cNvSpPr/>
            <p:nvPr/>
          </p:nvSpPr>
          <p:spPr>
            <a:xfrm>
              <a:off x="3886200" y="1981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differing initializations, and us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cientif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eam manipul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43828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438280" y="2133720"/>
              <a:ext cx="144792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3C52-371E-43CF-905C-5081BF2E615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x and y in fixe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splayed in fixed form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fixed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524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ed in default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123457      1.946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ed in scientific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234567e-003   1.946000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ed in fixed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01235        1946000000.00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590560" y="1523880"/>
            <a:ext cx="4115160" cy="838440"/>
            <a:chOff x="2590560" y="1523880"/>
            <a:chExt cx="4115160" cy="838440"/>
          </a:xfrm>
        </p:grpSpPr>
        <p:sp>
          <p:nvSpPr>
            <p:cNvPr id="356" name=""/>
            <p:cNvSpPr/>
            <p:nvPr/>
          </p:nvSpPr>
          <p:spPr>
            <a:xfrm>
              <a:off x="4038480" y="1523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difference between the default, fixed, and scientific forma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59056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B1F1-F2AB-4F70-8F4C-A67A3374C44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6 Uppercase/Lowercase Control (uppercase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per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percase E in scientific no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E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percase X in hex notation and uppercase hex let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AB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default, lower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upper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B757-CE7F-417E-829B-3BD718DB1DB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19: fig12_19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eam-manipulator uppercas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upperc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h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ing uppercase letters in scientific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tation exponents and hexadecimal value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td:uppercase to display uppercase lett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std::hex to display hexadecima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uppercas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345e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he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45678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752480" y="2895480"/>
            <a:ext cx="4114800" cy="838440"/>
            <a:chOff x="1752480" y="2895480"/>
            <a:chExt cx="4114800" cy="838440"/>
          </a:xfrm>
        </p:grpSpPr>
        <p:sp>
          <p:nvSpPr>
            <p:cNvPr id="363" name=""/>
            <p:cNvSpPr/>
            <p:nvPr/>
          </p:nvSpPr>
          <p:spPr>
            <a:xfrm>
              <a:off x="3200400" y="2895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ce uppercase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75248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CE72-0CF0-4854-857E-AF8A946808C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ing uppercase letters in scientifi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ation exponents and hexadecimal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345E+0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5BCD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EB32-E20F-4554-86C4-8292E66FE14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7 Specifying Boolean Format (boolalpha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when u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ed as 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alp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string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true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false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boolalph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2AD4-C3F4-430C-9D64-636960C1240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20: fig12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eam-manipulators boolalpha and noboolalph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oolalpha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no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lean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efault true boolean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lean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ooleanValue after using bool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(after using boolalpha)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oolalpha &lt;&lt; booleanValue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witch booleanValue and use noboolalph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ooleanValu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boolean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noboolalpha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nobool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286000" y="1968480"/>
            <a:ext cx="4572000" cy="2374920"/>
            <a:chOff x="2286000" y="1968480"/>
            <a:chExt cx="4572000" cy="2374920"/>
          </a:xfrm>
        </p:grpSpPr>
        <p:sp>
          <p:nvSpPr>
            <p:cNvPr id="372" name=""/>
            <p:cNvSpPr/>
            <p:nvPr/>
          </p:nvSpPr>
          <p:spPr>
            <a:xfrm>
              <a:off x="4191120" y="1968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s can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us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alph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eam manipul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743200" y="2120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286000" y="2120760"/>
              <a:ext cx="1905120" cy="22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FE83-0EA7-4D7E-AC02-5DB7991EEAF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y has class templates for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sic_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in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sic_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out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sic_i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input and out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lares alias for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 Card *Card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nonym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in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D837-66DF-430B-A310-AEEE468D26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default false booleanValue after using noboolalph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lean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booleanValue after using boolalpha ag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oleanValue (after using boolalpha)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oolalpha &lt;&lt; boolean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36232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Value i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Value (after using boolalpha) i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booleanValue and use nobool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Value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oleanValue (after using boolalpha) is fal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9906-6444-4421-922C-E7A2C133FDE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7.8 Setting and Resetting the Format State via Member-Function fla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ave/restore forma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apply many changes, may want to restor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.flags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no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stat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mtfl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_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forma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mtfla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reviou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9608-605A-4FCA-B989-FA39122AB4A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21: fig12_21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flags member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c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cientifi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bas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_bas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9476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ags value, int and double values (original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the flags variable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out.fl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 int and double in original forma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Value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cout flags function to save origin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os_base::fmtflags originalFormat = cout.flag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howbase &lt;&lt; oct &lt;&lt; scientific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190760" y="4114800"/>
            <a:ext cx="4115160" cy="838080"/>
            <a:chOff x="4190760" y="4114800"/>
            <a:chExt cx="4115160" cy="838080"/>
          </a:xfrm>
        </p:grpSpPr>
        <p:sp>
          <p:nvSpPr>
            <p:cNvPr id="383" name=""/>
            <p:cNvSpPr/>
            <p:nvPr/>
          </p:nvSpPr>
          <p:spPr>
            <a:xfrm>
              <a:off x="5638680" y="4114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ve original format using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a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190760" y="426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B91C-0FA9-41C8-9F5E-8487CA06333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ags value, int and double values (new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the flags variable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out.fl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 int and double in a new forma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Value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.flags( originalForma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tor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ags value, int and double values (original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stored value of the flags variable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out.flag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int values in original format again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209320" y="1600200"/>
            <a:ext cx="3429360" cy="1556640"/>
            <a:chOff x="2209320" y="1600200"/>
            <a:chExt cx="3429360" cy="1556640"/>
          </a:xfrm>
        </p:grpSpPr>
        <p:sp>
          <p:nvSpPr>
            <p:cNvPr id="388" name=""/>
            <p:cNvSpPr/>
            <p:nvPr/>
          </p:nvSpPr>
          <p:spPr>
            <a:xfrm>
              <a:off x="2971800" y="2819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tore original form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2209320" y="1600200"/>
              <a:ext cx="7621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6A26-9E1C-42F0-A78F-BB8373B4431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the flags variable is: 5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int and double in original forma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the flags variable is: 0120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int and double in a new forma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1750   9.476280e-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tored value of the flags variable is: 5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values in original format agai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   0.09476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8B25-7A45-4F6A-A8F4-2C8BBD14642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Error St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tate of stream using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of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EOF encount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eo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error occurs in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not lost, error 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data l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non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ood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ofb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D026-0662-441C-8EB4-FF93905AFBB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 Error St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dstat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error state of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est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to test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ea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tream to "good" state, so I/O can 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pass other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clear( ios::failbit 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"clear" seems strange, but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274A-51A5-4D04-80B4-A86B28CC4BE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2.22: fig12_22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error stat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cin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a bad input operation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rdstate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rdst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eof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fail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fail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ba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bad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goo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good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xpects an integer, but enter a charac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teger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ter charact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895480" y="2209680"/>
            <a:ext cx="4114800" cy="838440"/>
            <a:chOff x="2895480" y="2209680"/>
            <a:chExt cx="4114800" cy="838440"/>
          </a:xfrm>
        </p:grpSpPr>
        <p:sp>
          <p:nvSpPr>
            <p:cNvPr id="399" name=""/>
            <p:cNvSpPr/>
            <p:nvPr/>
          </p:nvSpPr>
          <p:spPr>
            <a:xfrm>
              <a:off x="434340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original states using the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8954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4FA8-CB8D-4FCC-BB89-EE37C2F0F70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cin functions after ba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a bad input operation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rdstate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rdsta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eof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eof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fail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fail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cin.ba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bad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in.goo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good()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clea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ear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cin functions after clearing c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cin.clear()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fail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fai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n.good(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n.good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752480" y="1143000"/>
            <a:ext cx="4114800" cy="838080"/>
            <a:chOff x="1752480" y="1143000"/>
            <a:chExt cx="4114800" cy="838080"/>
          </a:xfrm>
        </p:grpSpPr>
        <p:sp>
          <p:nvSpPr>
            <p:cNvPr id="404" name=""/>
            <p:cNvSpPr/>
            <p:nvPr/>
          </p:nvSpPr>
          <p:spPr>
            <a:xfrm>
              <a:off x="3200400" y="11430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e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7524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B627-9110-4D39-A2E4-14706D3042E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2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a bad input oper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rdstate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eof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fail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bad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good()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pects an integer, but enter a characte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 bad input oper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rdstate():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eof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fail()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bad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good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in.clea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fail()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n.good()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A1C4-4292-4F14-B27F-E276E0A4057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"derive"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asic_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95280" y="1981080"/>
            <a:ext cx="6629400" cy="3213360"/>
            <a:chOff x="1295280" y="1981080"/>
            <a:chExt cx="6629400" cy="3213360"/>
          </a:xfrm>
        </p:grpSpPr>
        <p:sp>
          <p:nvSpPr>
            <p:cNvPr id="104" name=""/>
            <p:cNvSpPr/>
            <p:nvPr/>
          </p:nvSpPr>
          <p:spPr>
            <a:xfrm>
              <a:off x="1295280" y="1981080"/>
              <a:ext cx="6629400" cy="32133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610440" y="4470840"/>
              <a:ext cx="1951560" cy="465840"/>
              <a:chOff x="3610440" y="4470840"/>
              <a:chExt cx="1951560" cy="46584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3610440" y="4470840"/>
                <a:ext cx="1951560" cy="465840"/>
                <a:chOff x="3610440" y="4470840"/>
                <a:chExt cx="1951560" cy="4658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610440" y="447084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610440" y="447084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3719880" y="4570560"/>
                <a:ext cx="173160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io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746600" y="3362400"/>
              <a:ext cx="1951920" cy="465840"/>
              <a:chOff x="4746600" y="3362400"/>
              <a:chExt cx="1951920" cy="465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4746600" y="3362400"/>
                <a:ext cx="1951920" cy="465840"/>
                <a:chOff x="4746600" y="3362400"/>
                <a:chExt cx="1951920" cy="4658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746600" y="3362400"/>
                  <a:ext cx="195192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746600" y="3362400"/>
                  <a:ext cx="195192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4856040" y="3462120"/>
                <a:ext cx="173160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o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474640" y="3362400"/>
              <a:ext cx="1951560" cy="465840"/>
              <a:chOff x="2474640" y="3362400"/>
              <a:chExt cx="1951560" cy="465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2474640" y="3362400"/>
                <a:ext cx="1951560" cy="465840"/>
                <a:chOff x="2474640" y="3362400"/>
                <a:chExt cx="1951560" cy="4658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474640" y="336240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474640" y="336240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2583720" y="3462120"/>
                <a:ext cx="173196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i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610440" y="2253960"/>
              <a:ext cx="1951560" cy="465840"/>
              <a:chOff x="3610440" y="2253960"/>
              <a:chExt cx="1951560" cy="4658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3610440" y="2253960"/>
                <a:ext cx="1951560" cy="465840"/>
                <a:chOff x="3610440" y="2253960"/>
                <a:chExt cx="1951560" cy="4658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610440" y="225396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610440" y="2253960"/>
                  <a:ext cx="1951560" cy="46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noFill/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3719880" y="2353680"/>
                <a:ext cx="1731600" cy="3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basic_i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65880" y="2719800"/>
              <a:ext cx="1841400" cy="642240"/>
              <a:chOff x="3665880" y="2719800"/>
              <a:chExt cx="1841400" cy="642240"/>
            </a:xfrm>
          </p:grpSpPr>
          <p:sp>
            <p:nvSpPr>
              <p:cNvPr id="126" name=""/>
              <p:cNvSpPr/>
              <p:nvPr/>
            </p:nvSpPr>
            <p:spPr>
              <a:xfrm>
                <a:off x="5249520" y="2719800"/>
                <a:ext cx="25776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19948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65880" y="2719800"/>
                <a:ext cx="25740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8"/>
                    </a:moveTo>
                    <a:lnTo>
                      <a:pt x="19929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665880" y="3828240"/>
              <a:ext cx="1841400" cy="642240"/>
              <a:chOff x="3665880" y="3828240"/>
              <a:chExt cx="1841400" cy="642240"/>
            </a:xfrm>
          </p:grpSpPr>
          <p:sp>
            <p:nvSpPr>
              <p:cNvPr id="129" name=""/>
              <p:cNvSpPr/>
              <p:nvPr/>
            </p:nvSpPr>
            <p:spPr>
              <a:xfrm>
                <a:off x="5249520" y="3828240"/>
                <a:ext cx="25776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0"/>
                    </a:moveTo>
                    <a:lnTo>
                      <a:pt x="0" y="19948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65880" y="3828240"/>
                <a:ext cx="257400" cy="642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29" y="19948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97F3-3BB5-45B1-A354-57A967B517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ing an Output Stream to an Input Stre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with buffere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active program (prompt user, he/she respon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pt needs to appear before input proc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ed outputs only appear when buffer fills or flu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nchronizes stre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appear before subsequent in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ically don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 could w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tie( &amp;cou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to explicitly tie other I/O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n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Stream.tie(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CEDC-1A30-4579-B839-17472207476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2.2.3 Stream Input/Output Classes and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insertion and extraction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 to standard input (usually keyboar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 &gt;&gt; grad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determines data type of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proper overloaded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xtra type informatio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98EA-A8EA-44A0-B9B6-6F85314D54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55:01Z</dcterms:created>
  <dc:creator>Audrey Lee</dc:creator>
  <dc:description/>
  <dc:language>en-US</dc:language>
  <cp:lastModifiedBy>Pearson Education</cp:lastModifiedBy>
  <dcterms:modified xsi:type="dcterms:W3CDTF">2002-10-01T19:53:53Z</dcterms:modified>
  <cp:revision>673</cp:revision>
  <dc:subject/>
  <dc:title>fig12_03.cpp (1 of 1)  fig12_03.cpp output (1 of 1)  </dc:title>
</cp:coreProperties>
</file>