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5C82-D03C-4A61-A0F1-BA73A9FE4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A412-3011-4D6A-87C7-A75DD513D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B219-8383-4E2C-9535-D5AC3F129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8373-CE45-44A5-9611-B35D1DE1D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B502-2C07-48F0-AFD7-641312CD64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8AF4-C3D8-40F7-ADD0-01729E699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83AE-B9E8-4271-A7F3-78ADD79CE1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0831-F3D3-4A06-912F-FC9C8BE97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A957-4492-46D6-A96C-72FEBC366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4906-6CD5-490F-8E70-FD467D3FA5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D3CE-4B97-45DE-8F76-909B0F176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03BF-5633-431C-8180-822B7206C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48E1-65E4-48D9-A128-960E736336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FE87-91C7-48FF-B589-2E6DCE3E33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76F5-613A-49F9-A235-1659A8F512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6CBF-DFC9-4B99-A8B3-8E3CA1E5B9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E746-26AC-4490-97EA-85EE6A748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A6CC-38B9-42E7-864E-6C76AA529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536D-EB36-47B4-A02E-5BBF164D1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4F2F-D233-495A-BD25-7E862496F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8A2E-5FBB-46A0-AE60-104CBAFC2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721C-1DD6-46D6-99CC-0224E2F8A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E38E-39B5-457E-A403-CE9345806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FD05-85CD-4EEC-9F10-D2F540274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0F10-98C4-41F2-8959-E6E564525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A972-C00B-412B-B89A-2C79EFD42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- Templat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Function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 and Nontyp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Inherita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Frien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85E8-B329-416C-AEFB-06DE924CBD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2: tstack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STACK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STACK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 {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(stack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Stack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tackPt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~Stack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an element onto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p( T&amp;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an element off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0" y="492120"/>
            <a:ext cx="4114800" cy="1067400"/>
            <a:chOff x="2286000" y="492120"/>
            <a:chExt cx="4114800" cy="1067400"/>
          </a:xfrm>
        </p:grpSpPr>
        <p:sp>
          <p:nvSpPr>
            <p:cNvPr id="126" name=""/>
            <p:cNvSpPr/>
            <p:nvPr/>
          </p:nvSpPr>
          <p:spPr>
            <a:xfrm>
              <a:off x="3733920" y="492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cify class-template definition;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typ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to be cre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28600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120" y="4343040"/>
            <a:ext cx="4725000" cy="1038240"/>
            <a:chOff x="1752120" y="4343040"/>
            <a:chExt cx="4725000" cy="1038240"/>
          </a:xfrm>
        </p:grpSpPr>
        <p:sp>
          <p:nvSpPr>
            <p:cNvPr id="129" name=""/>
            <p:cNvSpPr/>
            <p:nvPr/>
          </p:nvSpPr>
          <p:spPr>
            <a:xfrm>
              <a:off x="3809880" y="4800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arameters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361960" y="43430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1752120" y="4572000"/>
              <a:ext cx="2057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69EF-AE8F-424A-9C17-1F72FE8A0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tack is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Emp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Stack is f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ul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 ==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sF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# of elements in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p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tion of the top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*stack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the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04760" y="3165480"/>
            <a:ext cx="4115160" cy="838080"/>
            <a:chOff x="1904760" y="3165480"/>
            <a:chExt cx="4115160" cy="838080"/>
          </a:xfrm>
        </p:grpSpPr>
        <p:sp>
          <p:nvSpPr>
            <p:cNvPr id="135" name=""/>
            <p:cNvSpPr/>
            <p:nvPr/>
          </p:nvSpPr>
          <p:spPr>
            <a:xfrm>
              <a:off x="3352680" y="31654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of elements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04760" y="3317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8186-E71C-4789-8C13-BC8E34E2B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&lt; T &gt;::Stack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s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p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initially emp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cate memory for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ack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element onto 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uccessful, return true;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&lt; T &gt;::pus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amp;push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Full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tackPtr[ ++top ] = pushValu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item on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sh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us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09680" y="533520"/>
            <a:ext cx="5029200" cy="2361960"/>
            <a:chOff x="2209680" y="533520"/>
            <a:chExt cx="5029200" cy="2361960"/>
          </a:xfrm>
        </p:grpSpPr>
        <p:sp>
          <p:nvSpPr>
            <p:cNvPr id="140" name=""/>
            <p:cNvSpPr/>
            <p:nvPr/>
          </p:nvSpPr>
          <p:spPr>
            <a:xfrm>
              <a:off x="4572000" y="1676520"/>
              <a:ext cx="2666880" cy="1006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s preceded with hea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empla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lass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T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362320" y="1828800"/>
              <a:ext cx="2209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2209680" y="533520"/>
              <a:ext cx="2362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447560" y="838080"/>
            <a:ext cx="4800600" cy="2669760"/>
            <a:chOff x="1447560" y="838080"/>
            <a:chExt cx="4800600" cy="2669760"/>
          </a:xfrm>
        </p:grpSpPr>
        <p:sp>
          <p:nvSpPr>
            <p:cNvPr id="144" name=""/>
            <p:cNvSpPr/>
            <p:nvPr/>
          </p:nvSpPr>
          <p:spPr>
            <a:xfrm>
              <a:off x="3447720" y="2197080"/>
              <a:ext cx="2800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inary scope 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with class-template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tie definition to class template’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927800" y="2349360"/>
              <a:ext cx="1519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1447560" y="838080"/>
              <a:ext cx="199980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133360" y="665280"/>
            <a:ext cx="4876560" cy="1737360"/>
            <a:chOff x="2133360" y="665280"/>
            <a:chExt cx="4876560" cy="1737360"/>
          </a:xfrm>
        </p:grpSpPr>
        <p:sp>
          <p:nvSpPr>
            <p:cNvPr id="148" name=""/>
            <p:cNvSpPr/>
            <p:nvPr/>
          </p:nvSpPr>
          <p:spPr>
            <a:xfrm>
              <a:off x="3849120" y="665280"/>
              <a:ext cx="3160800" cy="1737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creates array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For example, compiler gener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ackPtr =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T[ size 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133360" y="817560"/>
              <a:ext cx="1715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D2FB-64DD-4310-893E-7EB6B1933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tack1.h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element off 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uccessful, return true;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ck&lt; T &gt;::pop( T &amp;pop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is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pValue = stackPtr[ top--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 item from 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p unsuccessfu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736560"/>
            <a:ext cx="4572000" cy="1235520"/>
            <a:chOff x="2286000" y="736560"/>
            <a:chExt cx="4572000" cy="1235520"/>
          </a:xfrm>
        </p:grpSpPr>
        <p:sp>
          <p:nvSpPr>
            <p:cNvPr id="153" name=""/>
            <p:cNvSpPr/>
            <p:nvPr/>
          </p:nvSpPr>
          <p:spPr>
            <a:xfrm>
              <a:off x="4191120" y="965160"/>
              <a:ext cx="2666880" cy="1006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function preceded with hea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</a:rPr>
                <a:t>templa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lt; </a:t>
              </a:r>
              <a:r>
                <a:rPr b="1" lang="en-US" sz="14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T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286000" y="736560"/>
              <a:ext cx="1905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80720" y="1050840"/>
            <a:ext cx="4800960" cy="1936440"/>
            <a:chOff x="1980720" y="1050840"/>
            <a:chExt cx="4800960" cy="1936440"/>
          </a:xfrm>
        </p:grpSpPr>
        <p:sp>
          <p:nvSpPr>
            <p:cNvPr id="156" name=""/>
            <p:cNvSpPr/>
            <p:nvPr/>
          </p:nvSpPr>
          <p:spPr>
            <a:xfrm>
              <a:off x="3981600" y="1676520"/>
              <a:ext cx="2800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inary scope 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with class-template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tie definition to class template’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1980720" y="1050840"/>
              <a:ext cx="200052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C605-0258-406B-97F5-DF36018568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3: fig11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-class-template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stack1.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ushing elements onto double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oubleStack.push( doubleValue )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ouble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ubleValue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ouble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double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61960" y="1143000"/>
            <a:ext cx="4115160" cy="838080"/>
            <a:chOff x="2361960" y="1143000"/>
            <a:chExt cx="4115160" cy="838080"/>
          </a:xfrm>
        </p:grpSpPr>
        <p:sp>
          <p:nvSpPr>
            <p:cNvPr id="161" name=""/>
            <p:cNvSpPr/>
            <p:nvPr/>
          </p:nvSpPr>
          <p:spPr>
            <a:xfrm>
              <a:off x="38098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k to class template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3619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09880" y="2057400"/>
            <a:ext cx="4114800" cy="838080"/>
            <a:chOff x="3809880" y="2057400"/>
            <a:chExt cx="4114800" cy="838080"/>
          </a:xfrm>
        </p:grpSpPr>
        <p:sp>
          <p:nvSpPr>
            <p:cNvPr id="164" name=""/>
            <p:cNvSpPr/>
            <p:nvPr/>
          </p:nvSpPr>
          <p:spPr>
            <a:xfrm>
              <a:off x="525780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8098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857320" y="3048120"/>
            <a:ext cx="4115160" cy="838080"/>
            <a:chOff x="2857320" y="3048120"/>
            <a:chExt cx="4115160" cy="838080"/>
          </a:xfrm>
        </p:grpSpPr>
        <p:sp>
          <p:nvSpPr>
            <p:cNvPr id="167" name=""/>
            <p:cNvSpPr/>
            <p:nvPr/>
          </p:nvSpPr>
          <p:spPr>
            <a:xfrm>
              <a:off x="430524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s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85732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FF14-4728-4F6E-9BF2-8FE480ED8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doubleStack.pop( doubleValue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double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ushing elements onto int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Stack.push( intValue 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nt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int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intStack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Stack.pop( intValue )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int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857320" y="609120"/>
            <a:ext cx="4115160" cy="1053000"/>
            <a:chOff x="2857320" y="609120"/>
            <a:chExt cx="4115160" cy="1053000"/>
          </a:xfrm>
        </p:grpSpPr>
        <p:sp>
          <p:nvSpPr>
            <p:cNvPr id="172" name=""/>
            <p:cNvSpPr/>
            <p:nvPr/>
          </p:nvSpPr>
          <p:spPr>
            <a:xfrm>
              <a:off x="4305240" y="838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-template specializa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57320" y="6091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495680" y="2798640"/>
            <a:ext cx="4114800" cy="824040"/>
            <a:chOff x="4495680" y="2798640"/>
            <a:chExt cx="4114800" cy="824040"/>
          </a:xfrm>
        </p:grpSpPr>
        <p:sp>
          <p:nvSpPr>
            <p:cNvPr id="175" name=""/>
            <p:cNvSpPr/>
            <p:nvPr/>
          </p:nvSpPr>
          <p:spPr>
            <a:xfrm>
              <a:off x="5943600" y="2798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similarity of cod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in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od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495680" y="2798640"/>
              <a:ext cx="1447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29A7-34B0-4118-861F-3297B1DFD8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85800"/>
            <a:ext cx="7010280" cy="3581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3AE6-7486-4B03-A0BA-2C4C023AA8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4: fig11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test program. Function main uses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to manipulate objects of type Stack&lt; T &gt;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stack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ck class templ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to manipulate Stack&lt; T 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tack(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T &gt; &amp;theStack,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ference to Stack&lt; T &gt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value,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itial value to push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increment,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for subsequ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ackName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of the Stack &lt; T &gt;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Pushing elements on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ack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heStack.push( value ) ) {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+= increment;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381200" y="2133720"/>
            <a:ext cx="4762440" cy="1310760"/>
            <a:chOff x="4381200" y="2133720"/>
            <a:chExt cx="4762440" cy="1310760"/>
          </a:xfrm>
        </p:grpSpPr>
        <p:sp>
          <p:nvSpPr>
            <p:cNvPr id="183" name=""/>
            <p:cNvSpPr/>
            <p:nvPr/>
          </p:nvSpPr>
          <p:spPr>
            <a:xfrm>
              <a:off x="6056640" y="2133720"/>
              <a:ext cx="308700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emplate to manipul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liminates similar code from previous fil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double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ck&lt; int 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381200" y="2286000"/>
              <a:ext cx="1675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9AD9-77BB-41C7-ACFE-B00C474AA3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full. Cannot pus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value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pping elements from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ack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heStack.pop( value )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valu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ck is empty. Cannot pop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testStac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doubleStac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ck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Stack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Stack( doubleStac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oubleStack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Stack( intStack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St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8A7F-2EE1-477C-90FC-A7F3AF36E2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full. Cannot push 6.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double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.5 4.4 3.3 2.2 1.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is empty. Cannot po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ing elements onto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full. Cannot push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pping elements from intSta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8 7 6 5 4 3 2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 is empty. Cannot pop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00040" y="1981080"/>
            <a:ext cx="3772440" cy="1419120"/>
            <a:chOff x="3200040" y="1981080"/>
            <a:chExt cx="3772440" cy="1419120"/>
          </a:xfrm>
        </p:grpSpPr>
        <p:sp>
          <p:nvSpPr>
            <p:cNvPr id="190" name=""/>
            <p:cNvSpPr/>
            <p:nvPr/>
          </p:nvSpPr>
          <p:spPr>
            <a:xfrm>
              <a:off x="430524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output identical to tha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ig11_03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3200040" y="1981080"/>
              <a:ext cx="1104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B687-0BF8-415D-B07D-06DFD6CE18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ntire range of related (overloaded)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ntire range of relat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A67C-8EDC-482E-89FA-DCD157E79F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type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as co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, int elements 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 &gt; mostRecentSalesFigure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object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 = string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58C2-1567-4E66-8123-1B11465296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iding 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for specific typ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match common clas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rray&lt; Martian 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body of clas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8C47-0FB2-4800-BFEF-5842ED902A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ways of relating templates and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emplate derived from non-templat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-template specialization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template class derived from class-template spec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25C1-14D7-46C1-AFD2-98A54313B0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between class templ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ir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06ED-380F-420A-A1C6-6BBC6CB5E8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1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ll 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2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float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float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double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double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( X&lt; int 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 int 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A::f4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ll class-template spec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091F-FD37-4430-A0DE-5C442AA330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C&lt; T &gt;::f5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&lt;float&gt;::f5( X&lt; float&gt; &amp;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X&lt;floa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ide defini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&lt; class T &gt; class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Y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iend of every class-templat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Z&lt;T&gt;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Z&lt;floa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-template specializ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&lt;float&gt;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6F7D-2A92-444F-A775-7AA2AC8DE6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atic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mplat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 shared between al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-template spec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has own copy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initialized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has own copy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0CA0-B53F-457D-8A90-D7B4C1FD1A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oper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cal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function 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generates separate object-cod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B554-BCAD-465B-8131-29DD2BCC2C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-templat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formal type parameters in angle bracket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ameter preceded by 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chang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typename ElementType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 class BorderType, class FillType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typ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to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 of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withi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A767-6E3D-4DD8-8FC1-D2B75D062C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1.1: fig11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emplate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emplate printArray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*arra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ount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array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61960" y="1143000"/>
            <a:ext cx="4115160" cy="838080"/>
            <a:chOff x="2361960" y="1143000"/>
            <a:chExt cx="4115160" cy="838080"/>
          </a:xfrm>
        </p:grpSpPr>
        <p:sp>
          <p:nvSpPr>
            <p:cNvPr id="98" name=""/>
            <p:cNvSpPr/>
            <p:nvPr/>
          </p:nvSpPr>
          <p:spPr>
            <a:xfrm>
              <a:off x="3809880" y="11430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emplate definition; declare single formal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36196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0720" y="2092320"/>
            <a:ext cx="3505680" cy="885600"/>
            <a:chOff x="1980720" y="2092320"/>
            <a:chExt cx="3505680" cy="885600"/>
          </a:xfrm>
        </p:grpSpPr>
        <p:sp>
          <p:nvSpPr>
            <p:cNvPr id="101" name=""/>
            <p:cNvSpPr/>
            <p:nvPr/>
          </p:nvSpPr>
          <p:spPr>
            <a:xfrm>
              <a:off x="2819520" y="2397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ype parameter; use any valid identifi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980720" y="20923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2987280"/>
            <a:ext cx="3504600" cy="1391760"/>
            <a:chOff x="1676520" y="2987280"/>
            <a:chExt cx="3504600" cy="1391760"/>
          </a:xfrm>
        </p:grpSpPr>
        <p:sp>
          <p:nvSpPr>
            <p:cNvPr id="104" name=""/>
            <p:cNvSpPr/>
            <p:nvPr/>
          </p:nvSpPr>
          <p:spPr>
            <a:xfrm>
              <a:off x="2514600" y="3311640"/>
              <a:ext cx="2666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user-defined type, stream-insertion operator must be overloaded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676520" y="2987280"/>
              <a:ext cx="83808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FA95-2735-409D-B9DA-9B1D13380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aCount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 bCount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.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[ cCount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6th position for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a contain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nteger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, aCount );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 b contain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double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b, bCoun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c contains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character function-template spec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c, cCoun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4920" y="1905120"/>
            <a:ext cx="6706080" cy="2669760"/>
            <a:chOff x="1294920" y="1905120"/>
            <a:chExt cx="6706080" cy="2669760"/>
          </a:xfrm>
        </p:grpSpPr>
        <p:sp>
          <p:nvSpPr>
            <p:cNvPr id="109" name=""/>
            <p:cNvSpPr/>
            <p:nvPr/>
          </p:nvSpPr>
          <p:spPr>
            <a:xfrm>
              <a:off x="2514600" y="2473200"/>
              <a:ext cx="5486400" cy="2101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s complete function-template specialization for printing arra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oi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printArray(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onst 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*array,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onst 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nt )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( </a:t>
              </a:r>
              <a:r>
                <a:rPr b="1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 =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0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i &lt; count; i++ )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cout &lt;&lt; array[ i ]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 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t &lt;&lt; 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 </a:t>
              </a:r>
              <a:r>
                <a:rPr b="1" lang="en-US" sz="1200" spc="-1" strike="noStrike">
                  <a:solidFill>
                    <a:srgbClr val="008000"/>
                  </a:solidFill>
                  <a:latin typeface="Courier New"/>
                  <a:ea typeface="Courier New"/>
                </a:rPr>
                <a:t>// end function printArray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294920" y="1905120"/>
              <a:ext cx="12193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3880" y="1981080"/>
            <a:ext cx="4114800" cy="1067400"/>
            <a:chOff x="1523880" y="1981080"/>
            <a:chExt cx="4114800" cy="1067400"/>
          </a:xfrm>
        </p:grpSpPr>
        <p:sp>
          <p:nvSpPr>
            <p:cNvPr id="112" name=""/>
            <p:cNvSpPr/>
            <p:nvPr/>
          </p:nvSpPr>
          <p:spPr>
            <a:xfrm>
              <a:off x="2971800" y="1981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inf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instantiates function-template specialization whe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5238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3880" y="3095640"/>
            <a:ext cx="4114800" cy="1067400"/>
            <a:chOff x="1523880" y="3095640"/>
            <a:chExt cx="4114800" cy="1067400"/>
          </a:xfrm>
        </p:grpSpPr>
        <p:sp>
          <p:nvSpPr>
            <p:cNvPr id="115" name=""/>
            <p:cNvSpPr/>
            <p:nvPr/>
          </p:nvSpPr>
          <p:spPr>
            <a:xfrm>
              <a:off x="2971800" y="30956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inf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instantiates function-template specialization whe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23880" y="324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C968-9A95-474B-9D45-A24AA00323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1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b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.1 2.2 3.3 4.4 5.5 6.6 7.7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c contain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F0B0-AAAF-4D1B-90CE-8AE38E4C33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function-template specia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uses overloading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 templates with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template functions with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function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performs matching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find precise match of function name and argu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ails, function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function-template specialization with precise m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D1C7-FCEB-4658-BACB-745C295D6D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FO (last-in-first-out)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i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 notion of stack gener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tiate type-specific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one or more typ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 “generic class” template to form class-template spe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BA79-385A-4359-B392-28A6854A81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40:27Z</dcterms:created>
  <dc:creator>Audrey Lee</dc:creator>
  <dc:description/>
  <dc:language>en-US</dc:language>
  <cp:lastModifiedBy>Pearson Education</cp:lastModifiedBy>
  <dcterms:modified xsi:type="dcterms:W3CDTF">2002-08-12T15:11:58Z</dcterms:modified>
  <cp:revision>43</cp:revision>
  <dc:subject/>
  <dc:title>fig11_01.cpp (1 of 2)  </dc:title>
</cp:coreProperties>
</file>