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DDAE-3095-4B08-94A7-B4C802E5E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AF00-202D-46DE-A87F-037B44CC6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5354-19A9-469C-A515-58511B663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2B49-1667-4F1A-A280-8318EFF71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60F6-8258-449F-894F-39E316A5E4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3EE7-2642-47B6-9BBB-73CA0471C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7524-7374-453C-8C24-B37E46AFA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0C6F-945C-4F6F-B39E-93040EE881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7606-51A1-4B90-BB2E-E40006C34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C236-8479-49A7-8C3D-20697FEA17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7D25-5FEE-4606-B530-1133F8E4B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6AEE-22BA-45D1-898B-5671088FB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F9EE-3F9E-4F44-A245-5A48788F1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816E-C6C2-47E1-86A1-6C6C9E3FD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499B-5D9F-4386-B6E2-8163FEC797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B7ED-42F2-45AB-BB9E-5810F6C6AD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6695-25E2-4F24-9F2A-EE0C5950A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A2D-0AF9-49B8-B9D0-ECB5FDF89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E5E7-7932-4627-980F-0D5F61A22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46DC-8EF3-45C9-AE88-46121E40A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61D1-4F1D-42A7-937B-D685FC07F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BC81-A567-4A6D-A2E3-F55C30C99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BE8F-8AA9-4311-8ABC-DC01A67B8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D883-E1EE-4643-84D9-903F8BA7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EFCA-976A-4217-BFB8-200EF12E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FB9D-61AE-4D77-B946-8FF82273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Programming: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s Among Objects in an Inheritance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voking Base-Class Functions from Derived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iming Derived-Class Pointers at Base-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3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rived-Class Member-Function Calls via Base-Class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2.4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 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ype Fields and switch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bstract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Inheriting Interface and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lymorphism, Virtual Functions and Dynamic Binding “Under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H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0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rtual 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EB88-3678-4FCD-97BE-D306FC8DF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5DD6-46A7-41A1-AEA4-9267D46582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86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7760" y="228600"/>
            <a:ext cx="4115160" cy="1310760"/>
            <a:chOff x="3047760" y="228600"/>
            <a:chExt cx="4115160" cy="1310760"/>
          </a:xfrm>
        </p:grpSpPr>
        <p:sp>
          <p:nvSpPr>
            <p:cNvPr id="120" name=""/>
            <p:cNvSpPr/>
            <p:nvPr/>
          </p:nvSpPr>
          <p:spPr>
            <a:xfrm>
              <a:off x="4495680" y="228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defines its print function.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 to output the x,y coordinates of the center, then prints the radiu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0477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7A27-4C21-4065-9D75-1F4472B60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5: fig10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base-class and derived-class pointers at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derived-class objects, respectivel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rived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BA21-0363-4754-8EC3-F138ACB33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point and circle object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class object 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nd print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derived-class pointer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object invokes derived-clas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5640" y="76320"/>
            <a:ext cx="4343760" cy="5181480"/>
            <a:chOff x="2285640" y="76320"/>
            <a:chExt cx="4343760" cy="5181480"/>
          </a:xfrm>
        </p:grpSpPr>
        <p:sp>
          <p:nvSpPr>
            <p:cNvPr id="127" name=""/>
            <p:cNvSpPr/>
            <p:nvPr/>
          </p:nvSpPr>
          <p:spPr>
            <a:xfrm>
              <a:off x="3962520" y="763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objects and pointers to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The pointers and objects are of the same class, so the prop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5640" y="762120"/>
              <a:ext cx="1676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438280" y="762120"/>
              <a:ext cx="152424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514600" y="762120"/>
              <a:ext cx="1447920" cy="44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9EB7-15B4-4206-B0EE-41F2D88CE1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print with base-class pointer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rived-class object\ninvokes base-class pri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 on that derived-class objec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vokes Point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057040" y="1523520"/>
            <a:ext cx="3810240" cy="2041200"/>
            <a:chOff x="2057040" y="1523520"/>
            <a:chExt cx="3810240" cy="2041200"/>
          </a:xfrm>
        </p:grpSpPr>
        <p:sp>
          <p:nvSpPr>
            <p:cNvPr id="134" name=""/>
            <p:cNvSpPr/>
            <p:nvPr/>
          </p:nvSpPr>
          <p:spPr>
            <a:xfrm>
              <a:off x="3200400" y="152388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iming a base-class pointer at a derived object is allowed (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“is a”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 However, it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, determined by the pointer type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llow us to change thi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057040" y="1523520"/>
              <a:ext cx="11430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71C0-BA87-43D3-9C5D-BA691FE62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point and circle objec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class object 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derived-class pointer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object 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print with base-class pointer to derived-class objec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 on that derived-class objec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0, 89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2C53-B3AA-4C1D-ACE9-443EF947B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2 Aiming Derived-Class Pointers at Base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imed base-class pointer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a derived-class pointer at a base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data/function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Radi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not 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ast base-object’s address to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downcasting (more i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derived-class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3EB4-E728-4173-A643-4B87F3BB1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6: fig10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iming a derived-class pointer at a base-clas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im derived-class pointer at base-class objec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irclePtr = &amp;point;  // Error: a Point is not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6\Fig10_06.cpp(12) : error C244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=' : cannot convert from 'class Point *' to 'class Circle *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s pointed to are unrelated; conversion requ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interpret_cast, C-style cast or function-style 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8D71-100B-4CD5-9E80-E2E2823D2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3 Derived-Class Member-Function Calls via Base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(pointer/re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can aim at derived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ing derived-class functions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not defined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type of pointer/reference determines functions it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C59B-01EB-4FCA-9C77-5B72FDFA0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7: fig10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rough a base-clas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base-class member functions on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r>
              <a:rPr b="1" lang="en-US" sz="1200" spc="-1" strike="noStrike">
                <a:solidFill>
                  <a:srgbClr val="66ff33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object through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pointPtr-&gt;getX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pointPtr-&gt;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9EB0-A210-4208-9F85-8D205BA3CB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in the general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at objects in same class hierarchy as if all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and dynamic bi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xplain how polymorphism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added easily, can still be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common interface (functi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a natural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6E2B-0465-4A6C-8767-F0E78BB6D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attempt to invoke derived-class-only member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// on derived-class object through base-class point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radius = pointPtr-&gt;getRadius()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pointPtr-&gt;setRadius( 33.33 );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diameter = pointPtr-&gt;getDiameter()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circumference = pointPtr-&gt;getCircumference(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double area = pointPtr-&gt;getArea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1676160"/>
            <a:ext cx="2666880" cy="2210760"/>
            <a:chOff x="2971800" y="1676160"/>
            <a:chExt cx="2666880" cy="2210760"/>
          </a:xfrm>
        </p:grpSpPr>
        <p:sp>
          <p:nvSpPr>
            <p:cNvPr id="150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se functions are only defined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971800" y="16761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C2FD-51F8-455E-BCA6-08F5C1DB55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5) : error C2039: 'g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6) : error C2039: 'setRadius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7) : error C2039: 'getDiameter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8) : error C2039: 'getCircumference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fig10_07.cpp(29) : error C2039: 'getArea' : is not a member of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10\fig10_07\point.h(6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Point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EE99-4764-4108-BB66-DBC735CD8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pointer-class determine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(not pointer) determines functio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has ow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raw any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,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determines prop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at run time (dynamic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 all shapes gen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5192-3BC9-4495-8114-A2AAFB5A4B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redefining, but new function must have same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unction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an only be overr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ll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actice to explicitly decl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ose proper function to call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occurs off pointer hand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function called from object, uses that object’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1D45-AAE0-482E-A1FC-A8BF14001C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ample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pointer to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call derived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50D1-5487-4B40-8B3D-58E8CB9113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8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7400" y="2819520"/>
            <a:ext cx="4114800" cy="838080"/>
            <a:chOff x="2057400" y="2819520"/>
            <a:chExt cx="4114800" cy="838080"/>
          </a:xfrm>
        </p:grpSpPr>
        <p:sp>
          <p:nvSpPr>
            <p:cNvPr id="163" name=""/>
            <p:cNvSpPr/>
            <p:nvPr/>
          </p:nvSpPr>
          <p:spPr>
            <a:xfrm>
              <a:off x="35053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will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all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574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E5C3-A681-4080-BF8A-244F0C6289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9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7CA0-51BC-42B2-8082-4B24FCB2E1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0: fig10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roducing polymorphism, virtual functions and dynami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bind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*point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*circle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02AB-1321-4F4A-8A80-61512D67FF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eric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static binding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Poi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l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bjects point and circle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voking print function on point and circl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objects with dynamic bind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base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point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base-class objec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base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A1D5-5C28-4C43-9F29-77004559A3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derived-class pointer at derived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ject and print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rived-class 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Ptr-&gt;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base-class pointer at derived-class object and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 = &amp;circle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Calling virtual function print with base-class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to derived-class objec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vokes derived-class print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Ptr-&gt;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lymorphism: invokes circle's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57040" y="3276720"/>
            <a:ext cx="3810240" cy="1982520"/>
            <a:chOff x="2057040" y="3276720"/>
            <a:chExt cx="3810240" cy="1982520"/>
          </a:xfrm>
        </p:grpSpPr>
        <p:sp>
          <p:nvSpPr>
            <p:cNvPr id="174" name=""/>
            <p:cNvSpPr/>
            <p:nvPr/>
          </p:nvSpPr>
          <p:spPr>
            <a:xfrm>
              <a:off x="3200400" y="37051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 run time, the program determin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iming a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, and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print function. This is an example of polymorphis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057040" y="32767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33A5-CA03-4987-B0A8-16BB1C4E18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s Among Objects in an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ly (Section 9.4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using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voke functions using base-class/derived-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rodu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s not a derived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BDED-8DC7-48BB-9230-57CF8E362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ig10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ing print function on point and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 with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base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base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30, 50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-class 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ing virtual function print with base-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to derived-clas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kes derived-class print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120, 89]; Radius = 2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A000-8756-4C99-8D76-85B011822F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4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message, “print”, given to many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rough a bas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takes on “many for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base-object, derived-pointer to deri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pointer to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call base-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pointer to base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 if explicit cast made (more in section 1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0455-CC85-4CCD-ADF1-9C41AA0BBD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specif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peration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one 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, perimeter, are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designing video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t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Sh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er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fresh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manager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base-class pointers to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eac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message has “many forms” of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B9E3-0FAE-41C5-8B00-FB57E3729D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 Examp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 game example,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ad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curi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ac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own definition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does not need to chang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gardless of object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cur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s “plug right 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and many objects without knowing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bl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lasses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0D47-A204-4235-8251-6E251305FC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e Fields and switch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determine object'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 base class an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all prop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forget to test for case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dd/remove a class, must upda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consuming and error 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branching logic, simpler programs, less debug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CE2D-9EA8-4C7F-8BC1-C1ED99DF86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: to be a base class (called abstract base class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fill in "missing piec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make objects from abstrac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 all functions they 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FEEB-971D-4A4E-8D38-B1CC7823B7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not required, bu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class 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one or more "pure"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function with initializer o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r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mplementations, overriding is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mplementation, must be overrid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es can have data and concrete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to have one or more pure virtu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BC41-FE92-4B06-BC2A-6D846CA7F7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base class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tract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pure virtua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ust imp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reen manager knows that each object can draw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s (more Chapter 2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lk through element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ase-class pointer to se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ssage to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C64B-9E76-41FE-BEE4-16FBB72F00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bstract 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s (must be implemen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implementation does not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functions (may be re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redefined, uses base 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 clas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9916-78AB-4CE2-9AEF-58F65DB9F6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5800" y="1295280"/>
            <a:ext cx="7848720" cy="4724640"/>
            <a:chOff x="685800" y="1295280"/>
            <a:chExt cx="7848720" cy="4724640"/>
          </a:xfrm>
        </p:grpSpPr>
        <p:sp>
          <p:nvSpPr>
            <p:cNvPr id="196" name=""/>
            <p:cNvSpPr/>
            <p:nvPr/>
          </p:nvSpPr>
          <p:spPr>
            <a:xfrm>
              <a:off x="685800" y="1295280"/>
              <a:ext cx="7848720" cy="47246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91080" y="1588680"/>
              <a:ext cx="7238160" cy="4136040"/>
              <a:chOff x="991080" y="1588680"/>
              <a:chExt cx="7238160" cy="41360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951200" y="1923840"/>
                <a:ext cx="1569240" cy="950040"/>
                <a:chOff x="1951200" y="1923840"/>
                <a:chExt cx="1569240" cy="9500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1951200" y="1923840"/>
                  <a:ext cx="1569240" cy="950040"/>
                  <a:chOff x="1951200" y="1923840"/>
                  <a:chExt cx="1569240" cy="9500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512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20372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520800" y="1923840"/>
                <a:ext cx="1569240" cy="950040"/>
                <a:chOff x="3520800" y="1923840"/>
                <a:chExt cx="1569240" cy="95004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3520800" y="1923840"/>
                  <a:ext cx="1569240" cy="950040"/>
                  <a:chOff x="3520800" y="1923840"/>
                  <a:chExt cx="1569240" cy="950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5208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36068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090040" y="1923840"/>
                <a:ext cx="1569600" cy="950040"/>
                <a:chOff x="5090040" y="1923840"/>
                <a:chExt cx="1569600" cy="9500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090040" y="1923840"/>
                  <a:ext cx="1569600" cy="950040"/>
                  <a:chOff x="5090040" y="1923840"/>
                  <a:chExt cx="1569600" cy="9500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090040" y="19238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1764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660000" y="1923840"/>
                <a:ext cx="1569240" cy="950040"/>
                <a:chOff x="6660000" y="1923840"/>
                <a:chExt cx="1569240" cy="95004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6660000" y="1923840"/>
                  <a:ext cx="1569240" cy="950040"/>
                  <a:chOff x="6660000" y="1923840"/>
                  <a:chExt cx="1569240" cy="9500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660000" y="19238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6746040" y="20354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951200" y="2874240"/>
                <a:ext cx="1569240" cy="950400"/>
                <a:chOff x="1951200" y="2874240"/>
                <a:chExt cx="1569240" cy="9504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1951200" y="2874240"/>
                  <a:ext cx="1569240" cy="950400"/>
                  <a:chOff x="1951200" y="2874240"/>
                  <a:chExt cx="1569240" cy="950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9512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20372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20800" y="2874240"/>
                <a:ext cx="1569240" cy="950400"/>
                <a:chOff x="3520800" y="2874240"/>
                <a:chExt cx="1569240" cy="95040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3520800" y="2874240"/>
                  <a:ext cx="1569240" cy="950400"/>
                  <a:chOff x="3520800" y="2874240"/>
                  <a:chExt cx="1569240" cy="95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208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3606480" y="29858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090040" y="2874240"/>
                <a:ext cx="1569600" cy="950400"/>
                <a:chOff x="5090040" y="2874240"/>
                <a:chExt cx="1569600" cy="9504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5090040" y="2874240"/>
                  <a:ext cx="1569600" cy="950400"/>
                  <a:chOff x="5090040" y="2874240"/>
                  <a:chExt cx="1569600" cy="9504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090040" y="2874240"/>
                    <a:ext cx="156960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51764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Point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0000" y="2874240"/>
                <a:ext cx="1569240" cy="950400"/>
                <a:chOff x="6660000" y="2874240"/>
                <a:chExt cx="1569240" cy="95040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6660000" y="2874240"/>
                  <a:ext cx="1569240" cy="950400"/>
                  <a:chOff x="6660000" y="2874240"/>
                  <a:chExt cx="1569240" cy="9504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660000" y="2874240"/>
                    <a:ext cx="1569240" cy="9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6746040" y="29858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[x,y]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951200" y="3824640"/>
                <a:ext cx="1569240" cy="950040"/>
                <a:chOff x="1951200" y="3824640"/>
                <a:chExt cx="1569240" cy="950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1951200" y="3824640"/>
                  <a:ext cx="1569240" cy="950040"/>
                  <a:chOff x="1951200" y="3824640"/>
                  <a:chExt cx="1569240" cy="9500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9512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20372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520800" y="3824640"/>
                <a:ext cx="1569240" cy="950040"/>
                <a:chOff x="3520800" y="3824640"/>
                <a:chExt cx="1569240" cy="9500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3520800" y="3824640"/>
                  <a:ext cx="1569240" cy="950040"/>
                  <a:chOff x="3520800" y="3824640"/>
                  <a:chExt cx="1569240" cy="9500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520800" y="382464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3606480" y="3936240"/>
                  <a:ext cx="139644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090040" y="3824640"/>
                <a:ext cx="1569600" cy="950040"/>
                <a:chOff x="5090040" y="3824640"/>
                <a:chExt cx="1569600" cy="95004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5090040" y="3824640"/>
                  <a:ext cx="1569600" cy="950040"/>
                  <a:chOff x="5090040" y="3824640"/>
                  <a:chExt cx="1569600" cy="9500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090040" y="382464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5176440" y="3936240"/>
                  <a:ext cx="1396080" cy="7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ircle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660000" y="3824640"/>
                <a:ext cx="1569240" cy="950040"/>
                <a:chOff x="6660000" y="3824640"/>
                <a:chExt cx="1569240" cy="9500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60000" y="3824640"/>
                  <a:ext cx="1569240" cy="950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71"/>
                      </a:lnTo>
                      <a:lnTo>
                        <a:pt x="0" y="19971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746040" y="4076280"/>
                <a:ext cx="139608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enter=[x,y]; radius=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51200" y="4774680"/>
                <a:ext cx="1569240" cy="950040"/>
                <a:chOff x="1951200" y="4774680"/>
                <a:chExt cx="1569240" cy="9500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1951200" y="4774680"/>
                  <a:ext cx="1569240" cy="950040"/>
                  <a:chOff x="1951200" y="4774680"/>
                  <a:chExt cx="1569240" cy="9500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9512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20372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+2</a:t>
                  </a: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520800" y="4774680"/>
                <a:ext cx="1569240" cy="950040"/>
                <a:chOff x="3520800" y="4774680"/>
                <a:chExt cx="1569240" cy="95004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520800" y="4774680"/>
                  <a:ext cx="1569240" cy="950040"/>
                  <a:chOff x="3520800" y="4774680"/>
                  <a:chExt cx="1569240" cy="950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208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3606480" y="4886280"/>
                  <a:ext cx="139644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i="1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i="1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090040" y="4774680"/>
                <a:ext cx="1569600" cy="950040"/>
                <a:chOff x="5090040" y="4774680"/>
                <a:chExt cx="1569600" cy="950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090040" y="4774680"/>
                  <a:ext cx="1569600" cy="950040"/>
                  <a:chOff x="5090040" y="4774680"/>
                  <a:chExt cx="1569600" cy="950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090040" y="4774680"/>
                    <a:ext cx="156960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51764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"Cylinder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60000" y="4774680"/>
                <a:ext cx="1569240" cy="950040"/>
                <a:chOff x="6660000" y="4774680"/>
                <a:chExt cx="1569240" cy="9500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6660000" y="4774680"/>
                  <a:ext cx="1569240" cy="950040"/>
                  <a:chOff x="6660000" y="4774680"/>
                  <a:chExt cx="1569240" cy="95004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660000" y="4774680"/>
                    <a:ext cx="1569240" cy="9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6" y="0"/>
                        </a:moveTo>
                        <a:lnTo>
                          <a:pt x="19986" y="19971"/>
                        </a:lnTo>
                        <a:lnTo>
                          <a:pt x="0" y="19971"/>
                        </a:lnTo>
                        <a:lnTo>
                          <a:pt x="0" y="0"/>
                        </a:lnTo>
                        <a:lnTo>
                          <a:pt x="19986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6746040" y="4886280"/>
                  <a:ext cx="1396080" cy="7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400" spc="-1" strike="noStrike">
                      <a:solidFill>
                        <a:srgbClr val="000000"/>
                      </a:solidFill>
                      <a:latin typeface="Courier New"/>
                    </a:rPr>
                    <a:t>center=[x,y]; radius=r; height=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2037600" y="1588680"/>
                <a:ext cx="139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Are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4604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76800" y="1588680"/>
                <a:ext cx="139608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6480" y="1588680"/>
                <a:ext cx="13964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getVolu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991080" y="228744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1080" y="32374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Po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91080" y="41878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irc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1080" y="5138280"/>
                <a:ext cx="8726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400" spc="-1" strike="noStrike">
                    <a:solidFill>
                      <a:srgbClr val="000000"/>
                    </a:solidFill>
                    <a:latin typeface="Courier New"/>
                  </a:rPr>
                  <a:t>Cylin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254C-191C-4D65-A69C-ED86DC8FF3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.1 Invoking Base-Class Functions from Derived-Class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pointers (base, derived) at objects (base, deri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bas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traight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pointer aimed at derived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”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s a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invoke base clas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depends on the class of the pointer/hand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depend on object to which it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, this can be changed (mo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2E23-F259-4F46-B4F3-8050427AB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2: shap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abstract-base-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HAP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irtual function that returns shape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ure virtual functions; overridden in derived cl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hape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hap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ha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2209680"/>
            <a:ext cx="4114800" cy="2362320"/>
            <a:chOff x="2514600" y="2209680"/>
            <a:chExt cx="4114800" cy="2362320"/>
          </a:xfrm>
        </p:grpSpPr>
        <p:sp>
          <p:nvSpPr>
            <p:cNvPr id="288" name=""/>
            <p:cNvSpPr/>
            <p:nvPr/>
          </p:nvSpPr>
          <p:spPr>
            <a:xfrm>
              <a:off x="39625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rtual and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146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895480" y="2362320"/>
              <a:ext cx="10670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C03C-141E-4594-B2A1-7FF2CEC0E4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pe.cpp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3: shap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volume of shape; 0.0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708A-DAEF-4542-BDE1-EA2FBF4930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Point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743200" y="2590920"/>
            <a:ext cx="4114800" cy="1523880"/>
            <a:chOff x="2743200" y="2590920"/>
            <a:chExt cx="4114800" cy="1523880"/>
          </a:xfrm>
        </p:grpSpPr>
        <p:sp>
          <p:nvSpPr>
            <p:cNvPr id="296" name=""/>
            <p:cNvSpPr/>
            <p:nvPr/>
          </p:nvSpPr>
          <p:spPr>
            <a:xfrm>
              <a:off x="4191120" y="25909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 only redefin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olu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zero (it can use the default implementatio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3200" y="312408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043C-7B4C-454E-8E9C-EA1AE9711A8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7146-F995-4017-B914-2003AB8ABC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DC8A-86EE-430A-B40A-E508E642BD8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470A-A279-41AE-8077-C7F524B27D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getName: return name of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oint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pure virtual function print: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0" y="837720"/>
            <a:ext cx="3581280" cy="2881800"/>
            <a:chOff x="2286000" y="837720"/>
            <a:chExt cx="3581280" cy="2881800"/>
          </a:xfrm>
        </p:grpSpPr>
        <p:sp>
          <p:nvSpPr>
            <p:cNvPr id="307" name=""/>
            <p:cNvSpPr/>
            <p:nvPr/>
          </p:nvSpPr>
          <p:spPr>
            <a:xfrm>
              <a:off x="32004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override pure virtual func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86000" y="83772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2286000" y="26665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2D55-BFDE-4990-9683-5129F9B2AE4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6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ircle"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9D4E-E20B-4B66-90B7-87B46BF9E0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6E3A-F0DB-487D-9554-807FE797B0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7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4534-07BC-49F9-A6B6-6039C1E510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 10.1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09680" y="2819520"/>
            <a:ext cx="4114800" cy="838080"/>
            <a:chOff x="2209680" y="2819520"/>
            <a:chExt cx="4114800" cy="838080"/>
          </a:xfrm>
        </p:grpSpPr>
        <p:sp>
          <p:nvSpPr>
            <p:cNvPr id="98" name=""/>
            <p:cNvSpPr/>
            <p:nvPr/>
          </p:nvSpPr>
          <p:spPr>
            <a:xfrm>
              <a:off x="3657600" y="28195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 class print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096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FE0E-2720-48BA-A718-73349C43D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706E-37B3-4704-839D-1BAAC174B7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area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utual function getName: return name of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ircle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print: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85640" y="1142640"/>
            <a:ext cx="3886560" cy="1038240"/>
            <a:chOff x="2285640" y="1142640"/>
            <a:chExt cx="3886560" cy="1038240"/>
          </a:xfrm>
        </p:grpSpPr>
        <p:sp>
          <p:nvSpPr>
            <p:cNvPr id="321" name=""/>
            <p:cNvSpPr/>
            <p:nvPr/>
          </p:nvSpPr>
          <p:spPr>
            <a:xfrm>
              <a:off x="35053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it now applies to Circ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285640" y="11426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BA8E-BF41-4F5B-B5FD-10C8013BB7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8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8911-8903-45AE-9F86-46CF26357B4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name of shape (i.e., "Cylinder"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6F63-93DE-45C3-B453-C05FA1639F7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19: cylinder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( xValue, yValue,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double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2268-7F8A-4D7E-9031-DDA8F905AEA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Area: return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::getArea() +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Volume: return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* getHeigh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26EE-8BDB-4500-BA0E-2EB8360EE9D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ride virtual function getName: return name of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ylinder::ge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15D4-7BF1-48E6-B0C8-F07BCEDDE79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0: fig10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shape, point, circle, cylinder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hap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ap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oint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5E8E-1D62-4E4A-8B25-B216BA2F395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loating-point numbe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oint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ircle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cylinder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t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C114-D962-47DC-BDEF-7A7FC10E6F3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vector of three base-class poin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Shape * &gt; shapeVecto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0] at derived-class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point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1] at derived-class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ircle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im shapeVector[2] at derived-class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apeVector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&amp;cylinder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pointer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hapeVector.size()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Pointer( shapeVector[ i ] 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514240" y="457200"/>
            <a:ext cx="4724280" cy="3886200"/>
            <a:chOff x="2514240" y="457200"/>
            <a:chExt cx="4724280" cy="3886200"/>
          </a:xfrm>
        </p:grpSpPr>
        <p:sp>
          <p:nvSpPr>
            <p:cNvPr id="340" name=""/>
            <p:cNvSpPr/>
            <p:nvPr/>
          </p:nvSpPr>
          <p:spPr>
            <a:xfrm>
              <a:off x="4338000" y="457200"/>
              <a:ext cx="290052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vector of generic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hap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s, and aim them at various objec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ViaPoi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the virtual functions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) using the base-class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types are dynamically boun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3177000" y="609480"/>
              <a:ext cx="1160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011400" y="1066680"/>
              <a:ext cx="13258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514240" y="1066680"/>
              <a:ext cx="182340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7772-5747-4684-9BFC-61EA51BA815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8645-F029-4907-918C-AB19DE788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019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hrough shapeVector and call virtualVia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 print the shape name, attributes, area and volu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f each object using dynamic bi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irtual function calls made of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-class references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hapeVector.size()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irtualViaReference( *shapeVector[ j ]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Point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*baseClassPtr )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Ptr-&gt;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Ptr-&gt;print()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Area(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Ptr-&gt;getVolu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Pointe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666880" y="838080"/>
            <a:ext cx="4114800" cy="838440"/>
            <a:chOff x="2666880" y="838080"/>
            <a:chExt cx="4114800" cy="838440"/>
          </a:xfrm>
        </p:grpSpPr>
        <p:sp>
          <p:nvSpPr>
            <p:cNvPr id="347" name=""/>
            <p:cNvSpPr/>
            <p:nvPr/>
          </p:nvSpPr>
          <p:spPr>
            <a:xfrm>
              <a:off x="4114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references instead of pointers, for the same eff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6668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047760" y="3048120"/>
            <a:ext cx="4115160" cy="838080"/>
            <a:chOff x="3047760" y="3048120"/>
            <a:chExt cx="4115160" cy="838080"/>
          </a:xfrm>
        </p:grpSpPr>
        <p:sp>
          <p:nvSpPr>
            <p:cNvPr id="350" name=""/>
            <p:cNvSpPr/>
            <p:nvPr/>
          </p:nvSpPr>
          <p:spPr>
            <a:xfrm>
              <a:off x="449568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virtual functions; the proper class function will be called at run-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0477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7B8C-27C3-45A3-8DCB-56EB0A16030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virtual function calls off a base-class referenc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ynamic binding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irtualVia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pe &amp;baseClassRef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baseClassRef.ge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ClassRef.print();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Area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aseClassRef.getVolu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virtualVia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852E-1388-4081-8865-CFBCBC3B905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point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342.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49AE-E83D-4D4D-93C4-D244085B9E8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 function calls made off base-class referenc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 [7, 11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 center is [22, 8]; radius is 3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.4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is 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 center is [10, 10]; radius is 3.30; height is 1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275.7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is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2744-3ED5-41FB-A768-35171457BD2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, Virtual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has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vtable has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rived class has same function a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pointer aims at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32DF-62E3-4B5D-8BB4-FD3C386E65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pointer to deriv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stroyed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ehavior un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base-class destructor 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derived-class destructors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w,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ppropriate destructor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rived-class object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destructor executes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destructor executes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cannot b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AF4F-FE84-41CD-AD9D-CE5E423C5B0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payroll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virtual functions and polymorph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types of employees, paid week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ied (fixed salary, no matter the h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ly (overtime [&gt;40 hours] pays time and a ha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 (paid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plus-commission (base salary + percentage of s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ss wants to raise pay by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736F-ACBE-4D9A-8B89-1C36B968B09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re virtual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arning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s pa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e virtual because need to know employe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alculate for gener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classes derive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14400" y="3349800"/>
            <a:ext cx="7162920" cy="2746080"/>
            <a:chOff x="914400" y="3349800"/>
            <a:chExt cx="7162920" cy="2746080"/>
          </a:xfrm>
        </p:grpSpPr>
        <p:sp>
          <p:nvSpPr>
            <p:cNvPr id="367" name=""/>
            <p:cNvSpPr/>
            <p:nvPr/>
          </p:nvSpPr>
          <p:spPr>
            <a:xfrm>
              <a:off x="914400" y="3349800"/>
              <a:ext cx="7162920" cy="274608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272240" y="3537360"/>
              <a:ext cx="6446520" cy="2370960"/>
              <a:chOff x="1272240" y="3537360"/>
              <a:chExt cx="6446520" cy="2370960"/>
            </a:xfrm>
          </p:grpSpPr>
          <p:sp>
            <p:nvSpPr>
              <p:cNvPr id="369" name=""/>
              <p:cNvSpPr/>
              <p:nvPr/>
            </p:nvSpPr>
            <p:spPr>
              <a:xfrm>
                <a:off x="294444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7" y="0"/>
                    </a:lnTo>
                  </a:path>
                </a:pathLst>
              </a:custGeom>
              <a:solidFill>
                <a:srgbClr val="000000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619800" y="3537360"/>
                <a:ext cx="1751400" cy="374040"/>
                <a:chOff x="3619800" y="3537360"/>
                <a:chExt cx="1751400" cy="3740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620160" y="3537360"/>
                  <a:ext cx="1751040" cy="374040"/>
                  <a:chOff x="3620160" y="3537360"/>
                  <a:chExt cx="1751040" cy="3740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620160" y="3537360"/>
                    <a:ext cx="175104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47"/>
                        </a:lnTo>
                        <a:lnTo>
                          <a:pt x="0" y="1994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3619800" y="3648960"/>
                  <a:ext cx="1751400" cy="1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sz="1200" spc="-1" strike="noStrike">
                      <a:solidFill>
                        <a:srgbClr val="000000"/>
                      </a:solidFill>
                      <a:latin typeface="Courier New"/>
                    </a:rPr>
                    <a:t>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1272240" y="4590360"/>
                <a:ext cx="1910520" cy="359280"/>
                <a:chOff x="1272240" y="4590360"/>
                <a:chExt cx="1910520" cy="35928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1272960" y="4590360"/>
                  <a:ext cx="1909800" cy="359280"/>
                  <a:chOff x="1272960" y="4590360"/>
                  <a:chExt cx="1909800" cy="3592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272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272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Salaried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808240" y="4590360"/>
                <a:ext cx="1910520" cy="359280"/>
                <a:chOff x="5808240" y="4590360"/>
                <a:chExt cx="1910520" cy="35928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5808960" y="4590360"/>
                  <a:ext cx="1909800" cy="359280"/>
                  <a:chOff x="5808960" y="4590360"/>
                  <a:chExt cx="1909800" cy="3592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808960" y="4590360"/>
                    <a:ext cx="19098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" name=""/>
                <p:cNvSpPr/>
                <p:nvPr/>
              </p:nvSpPr>
              <p:spPr>
                <a:xfrm>
                  <a:off x="5808240" y="4698000"/>
                  <a:ext cx="191052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Hourly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172480" y="3911400"/>
                <a:ext cx="8751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95320" y="4939920"/>
                <a:ext cx="360" cy="609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7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539880" y="4590360"/>
                <a:ext cx="1911240" cy="359280"/>
                <a:chOff x="3539880" y="4590360"/>
                <a:chExt cx="1911240" cy="35928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3540960" y="4590360"/>
                  <a:ext cx="1910160" cy="359280"/>
                  <a:chOff x="3540960" y="4590360"/>
                  <a:chExt cx="1910160" cy="35928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540960" y="4590360"/>
                    <a:ext cx="191016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3539880" y="4698000"/>
                  <a:ext cx="191124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4495320" y="3911400"/>
                <a:ext cx="360" cy="67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3102120" y="5549040"/>
                <a:ext cx="2786400" cy="359280"/>
                <a:chOff x="3102120" y="5549040"/>
                <a:chExt cx="2786400" cy="3592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3102840" y="5549040"/>
                  <a:ext cx="2785680" cy="359280"/>
                  <a:chOff x="3102840" y="5549040"/>
                  <a:chExt cx="2785680" cy="359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252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02840" y="5549040"/>
                    <a:ext cx="278568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3" y="0"/>
                        </a:moveTo>
                        <a:lnTo>
                          <a:pt x="19993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93" y="0"/>
                        </a:lnTo>
                        <a:close/>
                      </a:path>
                    </a:pathLst>
                  </a:custGeom>
                  <a:noFill/>
                  <a:ln w="2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3102120" y="5656680"/>
                  <a:ext cx="2786400" cy="1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BasePlusCommissionEmploy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8613-E2E3-4DF1-8BC8-31E9B228020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Case Study: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ynamic_ca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object's type at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0 if not of proper type (cannot be ca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Class *ptr = dynamic_cast &lt; NewClass *&gt; objec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typeinf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id(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information about type of operand, including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id(object).nam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A6F3-C788-4ED3-BA78-F51B03D52D6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3: employe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abstract bas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string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0CE8-4180-43A6-9247-69C1C5BFBC1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4191120"/>
            <a:ext cx="4114800" cy="838080"/>
            <a:chOff x="2057400" y="4191120"/>
            <a:chExt cx="4114800" cy="838080"/>
          </a:xfrm>
        </p:grpSpPr>
        <p:sp>
          <p:nvSpPr>
            <p:cNvPr id="105" name=""/>
            <p:cNvSpPr/>
            <p:nvPr/>
          </p:nvSpPr>
          <p:spPr>
            <a:xfrm>
              <a:off x="350532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he x,y coordinates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05740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79D2-2FA7-426D-A22B-0163BD09E0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 function makes Employee abstract base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re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irt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ocialSecurity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C170-5E1B-4708-8136-4C9AD47AFFD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724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4: employe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bstract-base-class 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No definitions are given for pure virtual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firstName( fir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lastName( last )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socialSecurityNumber( SSN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7ABF-857A-479B-9652-F4DEDEBA67C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248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mployee::getSocialSecurityNumb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ocialSecurityNumber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Fir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firs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4799-716C-441D-AFAA-055E7AA4550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LastNa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last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ocial security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setSocialSecurityNumb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ocialSecurityNumber 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ocialSecurity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's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getFir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LastNa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ocial security numb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ocialSecurityNumber()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09680" y="2666880"/>
            <a:ext cx="4114800" cy="838440"/>
            <a:chOff x="2209680" y="2666880"/>
            <a:chExt cx="4114800" cy="838440"/>
          </a:xfrm>
        </p:grpSpPr>
        <p:sp>
          <p:nvSpPr>
            <p:cNvPr id="411" name=""/>
            <p:cNvSpPr/>
            <p:nvPr/>
          </p:nvSpPr>
          <p:spPr>
            <a:xfrm>
              <a:off x="36576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implementation for virtua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096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172B-CFC0-48B8-8344-7DF1EDE37B3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5: salaried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salaried employe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19160" y="1981080"/>
            <a:ext cx="4267440" cy="1797480"/>
            <a:chOff x="2819160" y="1981080"/>
            <a:chExt cx="4267440" cy="1797480"/>
          </a:xfrm>
        </p:grpSpPr>
        <p:sp>
          <p:nvSpPr>
            <p:cNvPr id="416" name=""/>
            <p:cNvSpPr/>
            <p:nvPr/>
          </p:nvSpPr>
          <p:spPr>
            <a:xfrm>
              <a:off x="4419720" y="1981080"/>
              <a:ext cx="26668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unctions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aried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br>
                <a:rPr sz="1600"/>
              </a:b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overridden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ridden to specify that this is a salaried employe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895480" y="2590920"/>
              <a:ext cx="1524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19160" y="2590920"/>
              <a:ext cx="1600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48AA-D21A-49A9-971C-9BEF68A0323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6: salaried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Employee::Salaried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eeklySalary( salar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aried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setWeekly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eekly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133360" y="1981080"/>
            <a:ext cx="4115160" cy="838440"/>
            <a:chOff x="2133360" y="1981080"/>
            <a:chExt cx="4115160" cy="838440"/>
          </a:xfrm>
        </p:grpSpPr>
        <p:sp>
          <p:nvSpPr>
            <p:cNvPr id="422" name=""/>
            <p:cNvSpPr/>
            <p:nvPr/>
          </p:nvSpPr>
          <p:spPr>
            <a:xfrm>
              <a:off x="3581280" y="1981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base class constructor for basic fiel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333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780A-51B7-4DD9-BC5D-AC4844CE93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d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salaried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eeklySalary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alaried employee's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getWeekly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eeklySalar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eekly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alaried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alaried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123720" y="685440"/>
            <a:ext cx="3048480" cy="1038240"/>
            <a:chOff x="3123720" y="685440"/>
            <a:chExt cx="3048480" cy="1038240"/>
          </a:xfrm>
        </p:grpSpPr>
        <p:sp>
          <p:nvSpPr>
            <p:cNvPr id="427" name=""/>
            <p:cNvSpPr/>
            <p:nvPr/>
          </p:nvSpPr>
          <p:spPr>
            <a:xfrm>
              <a:off x="35053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implement pure virtual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123720" y="68544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9394-CC7D-42CD-8A4A-38B3D7E3C0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7: hourly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age per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s worked fo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DC87-F250-475F-A875-E79DB26FCC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8: hourly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Employee::Hourly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Wag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Wage( hourlyWag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s( hoursWorke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Hourly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W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Amount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ge = wageAmoun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wageAmou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DBA7-1BD2-49A2-9B52-D2E717CF32F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ly employee's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setHou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Worke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s = ( hoursWorke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oursWorke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68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oursWorke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s work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Hour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getWag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FCDA-0CF2-4BE3-9429-AF1783F56C6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981080"/>
            <a:ext cx="3886200" cy="2819520"/>
            <a:chOff x="2590920" y="1981080"/>
            <a:chExt cx="3886200" cy="2819520"/>
          </a:xfrm>
        </p:grpSpPr>
        <p:sp>
          <p:nvSpPr>
            <p:cNvPr id="110" name=""/>
            <p:cNvSpPr/>
            <p:nvPr/>
          </p:nvSpPr>
          <p:spPr>
            <a:xfrm>
              <a:off x="3809880" y="2209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redefines i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2590920" y="1981080"/>
              <a:ext cx="12189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590920" y="2590920"/>
              <a:ext cx="12189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C55A-EBA2-44EA-BCF3-3738C0CDAD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urly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ly employee's p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hours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ov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 * hou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time is paid at wage * 1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wage + ( hours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* wage *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ourly employee's inform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ly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1BC7-F56E-4E56-9CEC-03283567F0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553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29: commiss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oss weekly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percent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0" y="2209680"/>
            <a:ext cx="4114800" cy="1447920"/>
            <a:chOff x="2286000" y="2209680"/>
            <a:chExt cx="4114800" cy="1447920"/>
          </a:xfrm>
        </p:grpSpPr>
        <p:sp>
          <p:nvSpPr>
            <p:cNvPr id="440" name=""/>
            <p:cNvSpPr/>
            <p:nvPr/>
          </p:nvSpPr>
          <p:spPr>
            <a:xfrm>
              <a:off x="3733920" y="2209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st set rate and sa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860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37920" y="2362320"/>
              <a:ext cx="1295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5AA1-0EB1-4496-86C0-0D92D32376F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0: commission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onstruc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Employee::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WeeklySale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ce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Employee( first, last, socialSecurityNumber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GrossSales( grossWeeklySale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CommissionRate( perce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CommissionRa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Ra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7B4A-AE81-4ECB-B2C0-FB9B031D4AD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ommission employee's gross sales am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getGrossSale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weekly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Gross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grossSales = sale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es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Gross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ommission employee's commis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setCommissionR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ommissionRate = ( rat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rat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rat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CommissionR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A589-8115-41B2-9B7D-B1948127D90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ssion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mmissionRate() * getGrossSale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mmission employee's 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B0E2-A5D7-48A4-A425-0620D656CD9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1: baseplus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 derived from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mmission.h"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PlusCommission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irtu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ase salary per wee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62160" y="304920"/>
            <a:ext cx="3810240" cy="1295280"/>
            <a:chOff x="3962160" y="304920"/>
            <a:chExt cx="3810240" cy="1295280"/>
          </a:xfrm>
        </p:grpSpPr>
        <p:sp>
          <p:nvSpPr>
            <p:cNvPr id="452" name=""/>
            <p:cNvSpPr/>
            <p:nvPr/>
          </p:nvSpPr>
          <p:spPr>
            <a:xfrm>
              <a:off x="5105520" y="304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and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rectly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962160" y="8380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91E3-EFCF-41D9-A31D-75E3C795B71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2: baseplus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or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PlusCommissionEmployee::BasePlusCommissionEmployee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las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ocialSecurityNumber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ossSalesAmoun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mmissionEmployee( first, last, socialSecurityNumber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grossSalesAmount, rate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BaseSalary( baseSalaryAmoun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BasePlusCommission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ase-salaried commission employee's w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setBaseSalar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aseSalary = salary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0F8D-544B-415F-9A43-CA3651014F0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eplus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base 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getBaseSalar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Salar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BaseSala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base-salaried commission employee's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earning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aseSalary() + CommissionEmployee::earnings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arn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base-salaried commission employee's nam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base-salaried commission employe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::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de reu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F227-0C5B-432E-8916-30D7B3094E5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33: fig10_3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for Employee hierarch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typeinfo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bas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aried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aried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commission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missionEmployee 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seplus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PlusCommission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ly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urlyEmployee 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3D0E-3BE7-4A44-8B27-F3462BB26F5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14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floating-point output format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 &lt; Employee * &gt; employee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ector with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aried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h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mit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11-11-111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222-22-222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PlusCommission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ew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333-33-333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.0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ly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ar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444-44-444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16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FAE8-E946-42B2-98A8-4DF1E7DB597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10.4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3EAC-7345-42D0-8FE8-56BF90065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nerically process each element in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employees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inform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mployees[ i ]-&gt;print(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wncast pointer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asePlusCommissionEmployee *commissionPtr =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ynam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BasePlusCommissionEmployee *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( employees[ i ]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whether element points to base-salari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commission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mmissio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ld base salary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mmissionPtr-&gt;setBaseSalary(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mmissionPtr-&gt;getBaseSalary(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base salary with 10% increase is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&lt;&lt; commissionPtr-&gt;getBaseSalary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arned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mployees[ i ]-&gt;earnings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047760" y="228600"/>
            <a:ext cx="5715360" cy="1371600"/>
            <a:chOff x="3047760" y="228600"/>
            <a:chExt cx="5715360" cy="1371600"/>
          </a:xfrm>
        </p:grpSpPr>
        <p:sp>
          <p:nvSpPr>
            <p:cNvPr id="465" name=""/>
            <p:cNvSpPr/>
            <p:nvPr/>
          </p:nvSpPr>
          <p:spPr>
            <a:xfrm>
              <a:off x="4114800" y="228600"/>
              <a:ext cx="4648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wncasting to cast the employee object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f it points to the correct type of object, the pointer is non-zero. This way, we can give a raise to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PlusCommission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47760" y="9144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141B-9E27-403F-9981-E9EA9A0362B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lease memory held by vector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employees.size()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lass nam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eleting object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ype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*employees[ j ] ).na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s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47760" y="1495440"/>
            <a:ext cx="3353040" cy="1996560"/>
            <a:chOff x="3047760" y="1495440"/>
            <a:chExt cx="3353040" cy="1996560"/>
          </a:xfrm>
        </p:grpSpPr>
        <p:sp>
          <p:nvSpPr>
            <p:cNvPr id="470" name=""/>
            <p:cNvSpPr/>
            <p:nvPr/>
          </p:nvSpPr>
          <p:spPr>
            <a:xfrm>
              <a:off x="3733920" y="21812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_inf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This object contains information about the operand, including its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3047760" y="149544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5AF4-D966-41A6-B9EB-62E105770DE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10_3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aried employee: John Sm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111-11-11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8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ission employee: Sue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222-22-22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-salaried commission employee: Bob Lew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333-33-333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ld base salary: $30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base salary with 10% increase is: $3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53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ly employee: Karen Pr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cial security number: 444-44-444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arned $670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Salaried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BasePlusCommission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ing object of class Hourly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EDF1-D14F-4CED-A682-01C6048D0CB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49:19Z</dcterms:created>
  <dc:creator>kalid</dc:creator>
  <dc:description/>
  <dc:language>en-US</dc:language>
  <cp:lastModifiedBy>Pearson Education</cp:lastModifiedBy>
  <dcterms:modified xsi:type="dcterms:W3CDTF">2002-08-12T15:11:29Z</dcterms:modified>
  <cp:revision>553</cp:revision>
  <dc:subject/>
  <dc:title>PowerPoint Presentation</dc:title>
</cp:coreProperties>
</file>