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4D77-ECC5-4EAF-8C12-DD34CE6B5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B692-5EFA-4368-BA30-EF6D497CE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9624-7113-46A4-B1EB-1C0086BC4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1DF34-B8C9-4EAC-9D13-DCE313BCA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26306-FC75-4EC9-9C9D-F742975A50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94086-B059-45BC-8890-D84B1BEB90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78191-6A8B-4055-84F3-F6C9E57E20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E0D4F-43D6-4481-9756-9348267F03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21E93-9BF8-4813-9C15-C8C822B5F1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F7CB4-6760-4C25-A99D-A2C52DD802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2C832-4C0B-4B29-8F71-BA143BD3E6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5D7A-BBCE-402E-AD70-6F4AEBA1D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200B8-119F-4C3C-BB8A-87A6208F50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D3E9F-54D6-4847-9E8C-2225A2768A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3EB81-329C-4146-8FA8-9299D57015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CA870-9C29-49C5-A8B8-2F95ACD67A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2BCA0-837D-45E4-9448-E2A8643CFE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87EC-6053-4D95-BD00-443C645A7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C568-E356-43B8-BF15-C1943C742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5FC7-654B-4D07-8279-F18DC4662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BACA-0EDF-4E9C-AFC4-9F190F6B3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5220-0459-424C-A9F1-AB1402266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144A-D799-4BE0-B00B-1F3F5A75A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9BC94-AF7B-4963-B681-A2921E62E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F3A9-BD2A-4650-9977-71BBA4501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E649-03EA-4823-8A44-C31B9AF32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9 - Object-Oriented Programming: Inheritanc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932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Base Classes and Derived Class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rotected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Memb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lationship between Base Classes and Derived Class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se Study: Three-Level Inheritance Hierarch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onstructors and Destructors in Derived Class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“Uses A” and “Knows A” Relationship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rotected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Inheritan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9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oftware Engineering with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2EDF-ACC4-4316-86D4-CB463962DB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21120" y="3546360"/>
            <a:ext cx="19080" cy="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14800" y="3951360"/>
            <a:ext cx="19080" cy="1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1640" y="3043080"/>
            <a:ext cx="20880" cy="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37160" y="3159000"/>
            <a:ext cx="1800" cy="19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9280" y="3546360"/>
            <a:ext cx="19080" cy="1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25600" y="3951360"/>
            <a:ext cx="19080" cy="1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22440" y="4357800"/>
            <a:ext cx="19080" cy="1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16120" y="4764240"/>
            <a:ext cx="19080" cy="1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40040" y="4357800"/>
            <a:ext cx="19080" cy="1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27280" y="4764240"/>
            <a:ext cx="20520" cy="1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4680" y="5576760"/>
            <a:ext cx="20520" cy="18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98720" y="5576760"/>
            <a:ext cx="19080" cy="1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1440" y="3875040"/>
            <a:ext cx="19080" cy="18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3990960"/>
            <a:ext cx="1440" cy="190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13160" y="4686480"/>
            <a:ext cx="20880" cy="14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68680" y="4802040"/>
            <a:ext cx="1800" cy="20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13160" y="5499000"/>
            <a:ext cx="20880" cy="18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68680" y="5614920"/>
            <a:ext cx="1800" cy="19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69720" y="2057400"/>
            <a:ext cx="8469360" cy="3363840"/>
            <a:chOff x="369720" y="2057400"/>
            <a:chExt cx="8469360" cy="3363840"/>
          </a:xfrm>
        </p:grpSpPr>
        <p:grpSp>
          <p:nvGrpSpPr>
            <p:cNvPr id="173" name=""/>
            <p:cNvGrpSpPr/>
            <p:nvPr/>
          </p:nvGrpSpPr>
          <p:grpSpPr>
            <a:xfrm>
              <a:off x="3503160" y="2057400"/>
              <a:ext cx="1792440" cy="458640"/>
              <a:chOff x="3503160" y="2057400"/>
              <a:chExt cx="1792440" cy="45864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3504960" y="2057400"/>
                <a:ext cx="1790640" cy="458640"/>
                <a:chOff x="3504960" y="2057400"/>
                <a:chExt cx="1790640" cy="4586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504960" y="2057400"/>
                  <a:ext cx="1790640" cy="458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504960" y="2057400"/>
                  <a:ext cx="1790640" cy="458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3503160" y="2195640"/>
                <a:ext cx="1792440" cy="25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600" spc="-1" strike="noStrike">
                    <a:solidFill>
                      <a:srgbClr val="000000"/>
                    </a:solidFill>
                    <a:latin typeface="Courier New"/>
                  </a:rPr>
                  <a:t>Shap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842760" y="3370320"/>
              <a:ext cx="2636640" cy="458640"/>
              <a:chOff x="842760" y="3370320"/>
              <a:chExt cx="2636640" cy="458640"/>
            </a:xfrm>
          </p:grpSpPr>
          <p:sp>
            <p:nvSpPr>
              <p:cNvPr id="179" name=""/>
              <p:cNvSpPr/>
              <p:nvPr/>
            </p:nvSpPr>
            <p:spPr>
              <a:xfrm>
                <a:off x="842760" y="3370320"/>
                <a:ext cx="263664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1" y="0"/>
                    </a:moveTo>
                    <a:lnTo>
                      <a:pt x="19991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91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42760" y="3370320"/>
                <a:ext cx="263664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1" y="0"/>
                    </a:moveTo>
                    <a:lnTo>
                      <a:pt x="19991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91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840960" y="3508200"/>
              <a:ext cx="26384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TwoDimensionalSha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5393880" y="3370320"/>
              <a:ext cx="2637000" cy="458640"/>
              <a:chOff x="5393880" y="3370320"/>
              <a:chExt cx="2637000" cy="45864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5395680" y="3370320"/>
                <a:ext cx="2635200" cy="458640"/>
                <a:chOff x="5395680" y="3370320"/>
                <a:chExt cx="2635200" cy="4586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395680" y="3370320"/>
                  <a:ext cx="2635200" cy="458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395680" y="3370320"/>
                  <a:ext cx="2635200" cy="458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1" y="0"/>
                      </a:moveTo>
                      <a:lnTo>
                        <a:pt x="19991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91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5393880" y="3508200"/>
                <a:ext cx="2637000" cy="2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600" spc="-1" strike="noStrike">
                    <a:solidFill>
                      <a:srgbClr val="000000"/>
                    </a:solidFill>
                    <a:latin typeface="Courier New"/>
                  </a:rPr>
                  <a:t>ThreeDimensionalShap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71160" y="4962600"/>
              <a:ext cx="1093680" cy="458640"/>
              <a:chOff x="371160" y="4962600"/>
              <a:chExt cx="1093680" cy="458640"/>
            </a:xfrm>
          </p:grpSpPr>
          <p:sp>
            <p:nvSpPr>
              <p:cNvPr id="188" name=""/>
              <p:cNvSpPr/>
              <p:nvPr/>
            </p:nvSpPr>
            <p:spPr>
              <a:xfrm>
                <a:off x="371160" y="4962600"/>
                <a:ext cx="109368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0"/>
                    </a:moveTo>
                    <a:lnTo>
                      <a:pt x="1997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77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71160" y="4962600"/>
                <a:ext cx="109368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0"/>
                    </a:moveTo>
                    <a:lnTo>
                      <a:pt x="1997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77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369720" y="5100480"/>
              <a:ext cx="10951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614240" y="4962600"/>
              <a:ext cx="1095480" cy="458640"/>
              <a:chOff x="1614240" y="4962600"/>
              <a:chExt cx="1095480" cy="458640"/>
            </a:xfrm>
          </p:grpSpPr>
          <p:sp>
            <p:nvSpPr>
              <p:cNvPr id="192" name=""/>
              <p:cNvSpPr/>
              <p:nvPr/>
            </p:nvSpPr>
            <p:spPr>
              <a:xfrm>
                <a:off x="1614240" y="4962600"/>
                <a:ext cx="109548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0"/>
                    </a:moveTo>
                    <a:lnTo>
                      <a:pt x="1997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77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614240" y="4962600"/>
                <a:ext cx="109548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0"/>
                    </a:moveTo>
                    <a:lnTo>
                      <a:pt x="1997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77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1612440" y="5100480"/>
              <a:ext cx="109728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Squ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2858760" y="4962600"/>
              <a:ext cx="1093680" cy="458640"/>
              <a:chOff x="2858760" y="4962600"/>
              <a:chExt cx="1093680" cy="458640"/>
            </a:xfrm>
          </p:grpSpPr>
          <p:sp>
            <p:nvSpPr>
              <p:cNvPr id="196" name=""/>
              <p:cNvSpPr/>
              <p:nvPr/>
            </p:nvSpPr>
            <p:spPr>
              <a:xfrm>
                <a:off x="2858760" y="4962600"/>
                <a:ext cx="109368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0"/>
                    </a:moveTo>
                    <a:lnTo>
                      <a:pt x="1997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77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58760" y="4962600"/>
                <a:ext cx="109368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0"/>
                    </a:moveTo>
                    <a:lnTo>
                      <a:pt x="1997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77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2857320" y="5100480"/>
              <a:ext cx="10951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Tri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4909680" y="4962600"/>
              <a:ext cx="1094040" cy="458640"/>
              <a:chOff x="4909680" y="4962600"/>
              <a:chExt cx="1094040" cy="458640"/>
            </a:xfrm>
          </p:grpSpPr>
          <p:sp>
            <p:nvSpPr>
              <p:cNvPr id="200" name=""/>
              <p:cNvSpPr/>
              <p:nvPr/>
            </p:nvSpPr>
            <p:spPr>
              <a:xfrm>
                <a:off x="4909680" y="4962600"/>
                <a:ext cx="109404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0"/>
                    </a:moveTo>
                    <a:lnTo>
                      <a:pt x="1997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77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909680" y="4962600"/>
                <a:ext cx="1094040" cy="458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7" y="0"/>
                    </a:moveTo>
                    <a:lnTo>
                      <a:pt x="19977" y="19929"/>
                    </a:lnTo>
                    <a:lnTo>
                      <a:pt x="0" y="19929"/>
                    </a:lnTo>
                    <a:lnTo>
                      <a:pt x="0" y="0"/>
                    </a:lnTo>
                    <a:lnTo>
                      <a:pt x="19977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4908240" y="5100480"/>
              <a:ext cx="109548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Sp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151320" y="4962600"/>
              <a:ext cx="1095480" cy="458640"/>
              <a:chOff x="6151320" y="4962600"/>
              <a:chExt cx="1095480" cy="45864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6152760" y="4962600"/>
                <a:ext cx="1094040" cy="458640"/>
                <a:chOff x="6152760" y="4962600"/>
                <a:chExt cx="1094040" cy="458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152760" y="4962600"/>
                  <a:ext cx="1094040" cy="458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7" y="0"/>
                      </a:moveTo>
                      <a:lnTo>
                        <a:pt x="19977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77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152760" y="4962600"/>
                  <a:ext cx="1094040" cy="458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7" y="0"/>
                      </a:moveTo>
                      <a:lnTo>
                        <a:pt x="19977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77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6151320" y="5100480"/>
                <a:ext cx="1095480" cy="2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600" spc="-1" strike="noStrike">
                    <a:solidFill>
                      <a:srgbClr val="000000"/>
                    </a:solidFill>
                    <a:latin typeface="Courier New"/>
                  </a:rPr>
                  <a:t>Cub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7395840" y="4962600"/>
              <a:ext cx="1443240" cy="458640"/>
              <a:chOff x="7395840" y="4962600"/>
              <a:chExt cx="1443240" cy="4586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7397640" y="4962600"/>
                <a:ext cx="1441440" cy="458640"/>
                <a:chOff x="7397640" y="4962600"/>
                <a:chExt cx="1441440" cy="4586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7397640" y="4962600"/>
                  <a:ext cx="1441440" cy="458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3" y="0"/>
                      </a:moveTo>
                      <a:lnTo>
                        <a:pt x="19983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83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252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397640" y="4962600"/>
                  <a:ext cx="1441440" cy="4586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3" y="0"/>
                      </a:moveTo>
                      <a:lnTo>
                        <a:pt x="19983" y="19929"/>
                      </a:lnTo>
                      <a:lnTo>
                        <a:pt x="0" y="19929"/>
                      </a:lnTo>
                      <a:lnTo>
                        <a:pt x="0" y="0"/>
                      </a:lnTo>
                      <a:lnTo>
                        <a:pt x="19983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2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>
                <a:off x="7395840" y="5100480"/>
                <a:ext cx="1443240" cy="2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600" spc="-1" strike="noStrike">
                    <a:solidFill>
                      <a:srgbClr val="000000"/>
                    </a:solidFill>
                    <a:latin typeface="Courier New"/>
                  </a:rPr>
                  <a:t>Tetrahedr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106440" y="2516040"/>
              <a:ext cx="2585880" cy="854280"/>
              <a:chOff x="3106440" y="2516040"/>
              <a:chExt cx="2585880" cy="854280"/>
            </a:xfrm>
          </p:grpSpPr>
          <p:sp>
            <p:nvSpPr>
              <p:cNvPr id="214" name=""/>
              <p:cNvSpPr/>
              <p:nvPr/>
            </p:nvSpPr>
            <p:spPr>
              <a:xfrm>
                <a:off x="3106440" y="2516040"/>
                <a:ext cx="646200" cy="854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2"/>
                    </a:moveTo>
                    <a:lnTo>
                      <a:pt x="19962" y="0"/>
                    </a:lnTo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45400" y="2516040"/>
                <a:ext cx="646920" cy="854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2" y="19962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917280" y="3828960"/>
              <a:ext cx="2487600" cy="1133640"/>
              <a:chOff x="917280" y="3828960"/>
              <a:chExt cx="2487600" cy="1133640"/>
            </a:xfrm>
          </p:grpSpPr>
          <p:sp>
            <p:nvSpPr>
              <p:cNvPr id="217" name=""/>
              <p:cNvSpPr/>
              <p:nvPr/>
            </p:nvSpPr>
            <p:spPr>
              <a:xfrm>
                <a:off x="2160000" y="3828960"/>
                <a:ext cx="1080" cy="1133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917280" y="3828960"/>
                <a:ext cx="852120" cy="1133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19971" y="0"/>
                    </a:lnTo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553120" y="3828960"/>
                <a:ext cx="851760" cy="1133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1" y="19971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5470200" y="3828960"/>
              <a:ext cx="2486160" cy="1133640"/>
              <a:chOff x="5470200" y="3828960"/>
              <a:chExt cx="2486160" cy="1133640"/>
            </a:xfrm>
          </p:grpSpPr>
          <p:sp>
            <p:nvSpPr>
              <p:cNvPr id="221" name=""/>
              <p:cNvSpPr/>
              <p:nvPr/>
            </p:nvSpPr>
            <p:spPr>
              <a:xfrm>
                <a:off x="6711840" y="3828960"/>
                <a:ext cx="1080" cy="1133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470200" y="3828960"/>
                <a:ext cx="851040" cy="1133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19971" y="0"/>
                    </a:lnTo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104960" y="3828960"/>
                <a:ext cx="851400" cy="1133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1" y="19971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693720" y="1144440"/>
            <a:ext cx="378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. 9.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heritance hierarchy for Shap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5828-4098-4F68-98BA-8A60B63E4A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   Base Classes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wi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 TwoDimensionalShape : public 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woDimensionalSha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from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ccessible di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ill inher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e through inherited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ed with original member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inher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CF7E1-128B-4DB7-8A6F-518E3D515D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otected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mediate level of protection betwe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accessible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clas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s of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y use member n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FB07F-2C55-43E5-A1E2-B46212C5B7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4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lationship between Base Classes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class and derived class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Point/circle inheritance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y coordinate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y coordinate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3104-EA55-4C62-B22D-2C9F76542A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4: point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 represents an x-y coordinate pai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output Poi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190760" y="3657600"/>
            <a:ext cx="4115160" cy="838080"/>
            <a:chOff x="4190760" y="3657600"/>
            <a:chExt cx="4115160" cy="838080"/>
          </a:xfrm>
        </p:grpSpPr>
        <p:sp>
          <p:nvSpPr>
            <p:cNvPr id="234" name=""/>
            <p:cNvSpPr/>
            <p:nvPr/>
          </p:nvSpPr>
          <p:spPr>
            <a:xfrm>
              <a:off x="5638680" y="36576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coordinates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190760" y="3809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2C4E8-3EAE-4F08-AA56-200A8BC99E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5: poin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::Poi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oi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F1036-8E98-4A43-806B-E34E4ABC24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1B408-E149-4647-A5BC-0C9E085D7B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[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8A547-17FF-4BF0-B171-1AD6BCC40C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6: pointtes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ing class Poi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 po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Poi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point coordinates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point.getX(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Y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point.getY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.set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.se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new point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new location of point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857320" y="1828800"/>
            <a:ext cx="4115160" cy="838080"/>
            <a:chOff x="2857320" y="1828800"/>
            <a:chExt cx="4115160" cy="838080"/>
          </a:xfrm>
        </p:grpSpPr>
        <p:sp>
          <p:nvSpPr>
            <p:cNvPr id="245" name=""/>
            <p:cNvSpPr/>
            <p:nvPr/>
          </p:nvSpPr>
          <p:spPr>
            <a:xfrm>
              <a:off x="4305240" y="182880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857320" y="1981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895480" y="3311640"/>
            <a:ext cx="4114800" cy="838080"/>
            <a:chOff x="2895480" y="3311640"/>
            <a:chExt cx="4114800" cy="838080"/>
          </a:xfrm>
        </p:grpSpPr>
        <p:sp>
          <p:nvSpPr>
            <p:cNvPr id="248" name=""/>
            <p:cNvSpPr/>
            <p:nvPr/>
          </p:nvSpPr>
          <p:spPr>
            <a:xfrm>
              <a:off x="4343400" y="33116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set functions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895480" y="3463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057400" y="4267080"/>
            <a:ext cx="4114800" cy="838440"/>
            <a:chOff x="2057400" y="4267080"/>
            <a:chExt cx="4114800" cy="838440"/>
          </a:xfrm>
        </p:grpSpPr>
        <p:sp>
          <p:nvSpPr>
            <p:cNvPr id="251" name=""/>
            <p:cNvSpPr/>
            <p:nvPr/>
          </p:nvSpPr>
          <p:spPr>
            <a:xfrm>
              <a:off x="3505320" y="42670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display new coordina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057400" y="4419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82680-8960-4244-BBA6-4A396BB1D6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990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83808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coordinate is 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coordinate is 1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ew location of point is [10, 1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ADFA2-0AC4-4A20-A633-C509338C0C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 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reus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new class from existing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orb existing class’s data and behavi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hance with new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 class inherits from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specialized group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haviors inherited from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ustom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al behavi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9806-7F7D-4DDC-9AFF-1A09D92668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7: circl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contains x-y coordinate pair and radiu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514600" y="2473200"/>
            <a:ext cx="4114800" cy="838440"/>
            <a:chOff x="2514600" y="2473200"/>
            <a:chExt cx="4114800" cy="838440"/>
          </a:xfrm>
        </p:grpSpPr>
        <p:sp>
          <p:nvSpPr>
            <p:cNvPr id="259" name=""/>
            <p:cNvSpPr/>
            <p:nvPr/>
          </p:nvSpPr>
          <p:spPr>
            <a:xfrm>
              <a:off x="3962520" y="2473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ode simila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514600" y="262584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D0205-C840-47FD-93E8-8773DF6346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-coordinate of Circle's ce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-coordinate of Circle's ce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's radius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irc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904760" y="304920"/>
            <a:ext cx="4115160" cy="838080"/>
            <a:chOff x="1904760" y="304920"/>
            <a:chExt cx="4115160" cy="838080"/>
          </a:xfrm>
        </p:grpSpPr>
        <p:sp>
          <p:nvSpPr>
            <p:cNvPr id="264" name=""/>
            <p:cNvSpPr/>
            <p:nvPr/>
          </p:nvSpPr>
          <p:spPr>
            <a:xfrm>
              <a:off x="3352680" y="3049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ordinates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1904760" y="457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1139400"/>
            <a:ext cx="4572360" cy="889200"/>
            <a:chOff x="1447560" y="1139400"/>
            <a:chExt cx="4572360" cy="889200"/>
          </a:xfrm>
        </p:grpSpPr>
        <p:sp>
          <p:nvSpPr>
            <p:cNvPr id="267" name=""/>
            <p:cNvSpPr/>
            <p:nvPr/>
          </p:nvSpPr>
          <p:spPr>
            <a:xfrm>
              <a:off x="3352680" y="14479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code simila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1447560" y="1139400"/>
              <a:ext cx="190476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B9541-39A0-4294-BA07-511239FA2A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8: circl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::Circ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Radius(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ircl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97546-3C83-45ED-BD86-E35180C6FB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84A1-65A3-4AFA-BE3F-3430823A97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adius = ( radius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895480" y="1066680"/>
            <a:ext cx="4114800" cy="1037880"/>
            <a:chOff x="2895480" y="1066680"/>
            <a:chExt cx="4114800" cy="1037880"/>
          </a:xfrm>
        </p:grpSpPr>
        <p:sp>
          <p:nvSpPr>
            <p:cNvPr id="276" name=""/>
            <p:cNvSpPr/>
            <p:nvPr/>
          </p:nvSpPr>
          <p:spPr>
            <a:xfrm>
              <a:off x="4343400" y="1523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sure non-negative value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2895480" y="106668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C7C07-FC64-40A7-9A91-A554AFD8FE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.cpp 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radius *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enter = 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]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Radius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92699-3DEC-49BC-AC71-3BB22FE1DD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9: circletes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ing class Circ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ircl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 circ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Circl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point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X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Y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Radius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857320" y="2819520"/>
            <a:ext cx="4115160" cy="838080"/>
            <a:chOff x="2857320" y="2819520"/>
            <a:chExt cx="4115160" cy="838080"/>
          </a:xfrm>
        </p:grpSpPr>
        <p:sp>
          <p:nvSpPr>
            <p:cNvPr id="283" name=""/>
            <p:cNvSpPr/>
            <p:nvPr/>
          </p:nvSpPr>
          <p:spPr>
            <a:xfrm>
              <a:off x="4305240" y="28195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857320" y="2971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AB6D3-C1FA-4BA5-B039-5B22C118A1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x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y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Radiu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new radius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new point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new location and radius of circle ar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floating-point values with 2 digits of prec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's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iamete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's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rcumferenc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Circumfere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's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ea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Are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514600" y="415440"/>
            <a:ext cx="3962520" cy="1114560"/>
            <a:chOff x="2514600" y="415440"/>
            <a:chExt cx="3962520" cy="1114560"/>
          </a:xfrm>
        </p:grpSpPr>
        <p:sp>
          <p:nvSpPr>
            <p:cNvPr id="288" name=""/>
            <p:cNvSpPr/>
            <p:nvPr/>
          </p:nvSpPr>
          <p:spPr>
            <a:xfrm>
              <a:off x="3809880" y="9493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set functions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2514600" y="41544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209320" y="1599840"/>
            <a:ext cx="4267800" cy="824400"/>
            <a:chOff x="2209320" y="1599840"/>
            <a:chExt cx="4267800" cy="824400"/>
          </a:xfrm>
        </p:grpSpPr>
        <p:sp>
          <p:nvSpPr>
            <p:cNvPr id="291" name=""/>
            <p:cNvSpPr/>
            <p:nvPr/>
          </p:nvSpPr>
          <p:spPr>
            <a:xfrm>
              <a:off x="3809880" y="16002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display new coordina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2209320" y="1599840"/>
              <a:ext cx="1600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41945-CF7C-4FEF-8CE5-A5868CB2BB9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coordinate is 3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coordinate is 4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adius is 2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ew location and radius of circle a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nter = [2, 2]; Radius = 4.2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 is 8.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umference is 26.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is 56.7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49673-8290-48CE-BFD8-E0BE5E26036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2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0: circle2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2 class contains x-y coordinate pair and radiu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2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2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2's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209680" y="838080"/>
            <a:ext cx="4114800" cy="838440"/>
            <a:chOff x="2209680" y="838080"/>
            <a:chExt cx="4114800" cy="838440"/>
          </a:xfrm>
        </p:grpSpPr>
        <p:sp>
          <p:nvSpPr>
            <p:cNvPr id="298" name=""/>
            <p:cNvSpPr/>
            <p:nvPr/>
          </p:nvSpPr>
          <p:spPr>
            <a:xfrm>
              <a:off x="3657600" y="838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209680" y="990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133360" y="4648320"/>
            <a:ext cx="4115160" cy="838080"/>
            <a:chOff x="2133360" y="4648320"/>
            <a:chExt cx="4115160" cy="838080"/>
          </a:xfrm>
        </p:grpSpPr>
        <p:sp>
          <p:nvSpPr>
            <p:cNvPr id="301" name=""/>
            <p:cNvSpPr/>
            <p:nvPr/>
          </p:nvSpPr>
          <p:spPr>
            <a:xfrm>
              <a:off x="3581280" y="46483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133360" y="4800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120" y="1904760"/>
            <a:ext cx="3962880" cy="870840"/>
            <a:chOff x="1752120" y="1904760"/>
            <a:chExt cx="3962880" cy="870840"/>
          </a:xfrm>
        </p:grpSpPr>
        <p:sp>
          <p:nvSpPr>
            <p:cNvPr id="304" name=""/>
            <p:cNvSpPr/>
            <p:nvPr/>
          </p:nvSpPr>
          <p:spPr>
            <a:xfrm>
              <a:off x="3048120" y="24382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on indicates inherit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1752120" y="1904760"/>
              <a:ext cx="12956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209320" y="1904760"/>
            <a:ext cx="3886560" cy="1114200"/>
            <a:chOff x="2209320" y="1904760"/>
            <a:chExt cx="3886560" cy="1114200"/>
          </a:xfrm>
        </p:grpSpPr>
        <p:sp>
          <p:nvSpPr>
            <p:cNvPr id="307" name=""/>
            <p:cNvSpPr/>
            <p:nvPr/>
          </p:nvSpPr>
          <p:spPr>
            <a:xfrm>
              <a:off x="3429000" y="2438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dicates type of inherit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2209320" y="190476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01CEE-C09B-4E5D-8C48-19A3BBA9D49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 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rect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ed explicitly (one level up hierarch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rect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ed two or more levels up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 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s from one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s from multiple base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classes possibly un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C28B-742E-48D5-9022-5A9B0684C7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2.h 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2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ircle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37160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1: circle2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2 class member-function defin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6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2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2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8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2::Circle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2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x = xVal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3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y = yVal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Radius( radiusValue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ircle2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7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828800" y="3311640"/>
            <a:ext cx="4114800" cy="1067400"/>
            <a:chOff x="1828800" y="3311640"/>
            <a:chExt cx="4114800" cy="1067400"/>
          </a:xfrm>
        </p:grpSpPr>
        <p:sp>
          <p:nvSpPr>
            <p:cNvPr id="313" name=""/>
            <p:cNvSpPr/>
            <p:nvPr/>
          </p:nvSpPr>
          <p:spPr>
            <a:xfrm>
              <a:off x="3276720" y="331164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access 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ults in syntax err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1828800" y="3463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5A512-F723-4F22-B415-BE8F1E69EAA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2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2::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adius = ( radius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2::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2::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764E8-B662-4A7E-94EE-AC1CB6C57A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2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2::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2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radius *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2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2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cout &lt;&lt; "Center = [" &lt;&lt; x &lt;&lt; ", " &lt;&lt; y &lt;&lt; ']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Radius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3048120" y="2806560"/>
            <a:ext cx="4495680" cy="1079640"/>
            <a:chOff x="3048120" y="2806560"/>
            <a:chExt cx="4495680" cy="1079640"/>
          </a:xfrm>
        </p:grpSpPr>
        <p:sp>
          <p:nvSpPr>
            <p:cNvPr id="320" name=""/>
            <p:cNvSpPr/>
            <p:nvPr/>
          </p:nvSpPr>
          <p:spPr>
            <a:xfrm>
              <a:off x="4876920" y="280656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access 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ults in syntax err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3048120" y="2959200"/>
              <a:ext cx="1828800" cy="9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190760" y="2959200"/>
              <a:ext cx="685800" cy="9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FE78-017C-4BEB-B538-61F1D85ACC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26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09\CircleTest\circle2.cpp(12) : error C2248: 'x' : cannot access private member declared in class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09\circletest\point.h(20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e declaration of 'x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09\CircleTest\circle2.cpp(13) : error C2248: 'y' : cannot access private member declared in class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09\circletest\point.h(21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e declaration of 'y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09\CircleTest\circle2.cpp(56) : error C2248: 'x' : cannot access private member declared in class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09\circletest\point.h(20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e declaration of 'x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09\CircleTest\circle2.cpp(56) : error C2248: 'y' : cannot access private member declared in class 'Point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:\cpphtp4\examples\ch09\circletest\point.h(21) 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e declaration of 'y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038480" y="837720"/>
            <a:ext cx="4229280" cy="3957120"/>
            <a:chOff x="4038480" y="837720"/>
            <a:chExt cx="4229280" cy="3957120"/>
          </a:xfrm>
        </p:grpSpPr>
        <p:sp>
          <p:nvSpPr>
            <p:cNvPr id="326" name=""/>
            <p:cNvSpPr/>
            <p:nvPr/>
          </p:nvSpPr>
          <p:spPr>
            <a:xfrm>
              <a:off x="5600880" y="372744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access 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ults in syntax err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4914720" y="837720"/>
              <a:ext cx="685800" cy="30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4572000" y="1828440"/>
              <a:ext cx="1028880" cy="20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4038480" y="2971800"/>
              <a:ext cx="156240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4038480" y="3879720"/>
              <a:ext cx="1562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D60A8-7B75-4A3C-9A1D-BE5A455E7AB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2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2: point2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2 class definition represents an x-y coordinate pai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2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2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: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Point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523520" y="3416400"/>
            <a:ext cx="4115160" cy="1067400"/>
            <a:chOff x="1523520" y="3416400"/>
            <a:chExt cx="4115160" cy="1067400"/>
          </a:xfrm>
        </p:grpSpPr>
        <p:sp>
          <p:nvSpPr>
            <p:cNvPr id="334" name=""/>
            <p:cNvSpPr/>
            <p:nvPr/>
          </p:nvSpPr>
          <p:spPr>
            <a:xfrm>
              <a:off x="2971440" y="34164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coordinates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, accessible to derived class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523520" y="3568680"/>
              <a:ext cx="14475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945BE-FA92-43D9-A2BD-128CA823262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2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3: point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2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2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2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2::Point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oint2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2::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9872B-CDFF-46E3-9650-621F3AC6F7D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2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2::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2::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2::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F1343-CAB3-467C-B504-7C6CE7A3914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2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2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2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[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52133-D558-46F4-988E-9D4E95C0917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3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4: circle3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3 class contains x-y coordinate pair and radiu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3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3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2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2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3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2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3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output Circle3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3's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904760" y="838080"/>
            <a:ext cx="4115160" cy="838440"/>
            <a:chOff x="1904760" y="838080"/>
            <a:chExt cx="4115160" cy="838440"/>
          </a:xfrm>
        </p:grpSpPr>
        <p:sp>
          <p:nvSpPr>
            <p:cNvPr id="345" name=""/>
            <p:cNvSpPr/>
            <p:nvPr/>
          </p:nvSpPr>
          <p:spPr>
            <a:xfrm>
              <a:off x="3352680" y="838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1904760" y="990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133360" y="4648320"/>
            <a:ext cx="4115160" cy="838080"/>
            <a:chOff x="2133360" y="4648320"/>
            <a:chExt cx="4115160" cy="838080"/>
          </a:xfrm>
        </p:grpSpPr>
        <p:sp>
          <p:nvSpPr>
            <p:cNvPr id="348" name=""/>
            <p:cNvSpPr/>
            <p:nvPr/>
          </p:nvSpPr>
          <p:spPr>
            <a:xfrm>
              <a:off x="3581280" y="46483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133360" y="4800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81815-0C83-4BFE-88F3-B981C40498A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3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ircle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DF47D-3E7C-47F0-8443-55005ED8C7B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 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object of derived class also object of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-class objects not objects of derived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All cars vehicles, but not all vehicl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ccess non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s of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can effect change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-clas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 inherited non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 to 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rely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C843-41E0-4776-B207-60A8CD57A9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3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5: circle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3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3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3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3::Circle3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Radius(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ircle3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3::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adius = ( radius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828800" y="1828800"/>
            <a:ext cx="4114800" cy="1079640"/>
            <a:chOff x="1828800" y="1828800"/>
            <a:chExt cx="4114800" cy="1079640"/>
          </a:xfrm>
        </p:grpSpPr>
        <p:sp>
          <p:nvSpPr>
            <p:cNvPr id="355" name=""/>
            <p:cNvSpPr/>
            <p:nvPr/>
          </p:nvSpPr>
          <p:spPr>
            <a:xfrm>
              <a:off x="3276720" y="18288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ify inherited data memb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decla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1828800" y="1981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1828800" y="1981080"/>
              <a:ext cx="1447920" cy="92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676160" y="1600200"/>
            <a:ext cx="4115160" cy="838080"/>
            <a:chOff x="1676160" y="1600200"/>
            <a:chExt cx="4115160" cy="838080"/>
          </a:xfrm>
        </p:grpSpPr>
        <p:sp>
          <p:nvSpPr>
            <p:cNvPr id="359" name=""/>
            <p:cNvSpPr/>
            <p:nvPr/>
          </p:nvSpPr>
          <p:spPr>
            <a:xfrm>
              <a:off x="3124080" y="16002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first implicitly calls base class’s default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676160" y="1752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FF2F3-4B31-4B65-9B8A-4E2A53F8F85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3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3::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3::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3::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E731F-BE9B-4EE3-93A7-2B95109C37C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3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3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radius *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3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3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enter = 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]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Radius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971800" y="1289160"/>
            <a:ext cx="4952880" cy="1079280"/>
            <a:chOff x="2971800" y="1289160"/>
            <a:chExt cx="4952880" cy="1079280"/>
          </a:xfrm>
        </p:grpSpPr>
        <p:sp>
          <p:nvSpPr>
            <p:cNvPr id="366" name=""/>
            <p:cNvSpPr/>
            <p:nvPr/>
          </p:nvSpPr>
          <p:spPr>
            <a:xfrm>
              <a:off x="5257800" y="128916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ccess inherited data memb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decla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2971800" y="1441440"/>
              <a:ext cx="2286000" cy="9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4190760" y="1441440"/>
              <a:ext cx="1066680" cy="9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95CB9-F932-4D6F-8819-6E5BA7F41D7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6: circletest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ing class Circle3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3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3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3 circ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Circle3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point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X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Y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Radius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4724280" y="3484440"/>
            <a:ext cx="4114800" cy="1163880"/>
            <a:chOff x="4724280" y="3484440"/>
            <a:chExt cx="4114800" cy="1163880"/>
          </a:xfrm>
        </p:grpSpPr>
        <p:sp>
          <p:nvSpPr>
            <p:cNvPr id="372" name=""/>
            <p:cNvSpPr/>
            <p:nvPr/>
          </p:nvSpPr>
          <p:spPr>
            <a:xfrm>
              <a:off x="6172200" y="34844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inherited get functions to access inheri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4724280" y="363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4876920" y="3637080"/>
              <a:ext cx="129528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857320" y="2798640"/>
            <a:ext cx="4115160" cy="838440"/>
            <a:chOff x="2857320" y="2798640"/>
            <a:chExt cx="4115160" cy="838440"/>
          </a:xfrm>
        </p:grpSpPr>
        <p:sp>
          <p:nvSpPr>
            <p:cNvPr id="376" name=""/>
            <p:cNvSpPr/>
            <p:nvPr/>
          </p:nvSpPr>
          <p:spPr>
            <a:xfrm>
              <a:off x="4305240" y="279864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857320" y="2951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4876920" y="4038480"/>
            <a:ext cx="3962160" cy="838440"/>
            <a:chOff x="4876920" y="4038480"/>
            <a:chExt cx="3962160" cy="838440"/>
          </a:xfrm>
        </p:grpSpPr>
        <p:sp>
          <p:nvSpPr>
            <p:cNvPr id="379" name=""/>
            <p:cNvSpPr/>
            <p:nvPr/>
          </p:nvSpPr>
          <p:spPr>
            <a:xfrm>
              <a:off x="6172200" y="4038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get function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4876920" y="419112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7418B-8B0F-4A19-8D92-EB3D498565D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x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y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Radiu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radius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new point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new location and radius of circle ar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floating-point values with 2 digits of prec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3's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iamete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3's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rcumferenc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Circumfere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3's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ea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Are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361960" y="304560"/>
            <a:ext cx="4724640" cy="1055880"/>
            <a:chOff x="2361960" y="304560"/>
            <a:chExt cx="4724640" cy="1055880"/>
          </a:xfrm>
        </p:grpSpPr>
        <p:sp>
          <p:nvSpPr>
            <p:cNvPr id="384" name=""/>
            <p:cNvSpPr/>
            <p:nvPr/>
          </p:nvSpPr>
          <p:spPr>
            <a:xfrm>
              <a:off x="4419720" y="5364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inherited set functions to modify inheri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flipV="1">
              <a:off x="2361960" y="304560"/>
              <a:ext cx="20574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2361960" y="536400"/>
              <a:ext cx="2057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123720" y="730080"/>
            <a:ext cx="3962880" cy="1087560"/>
            <a:chOff x="3123720" y="730080"/>
            <a:chExt cx="3962880" cy="1087560"/>
          </a:xfrm>
        </p:grpSpPr>
        <p:sp>
          <p:nvSpPr>
            <p:cNvPr id="388" name=""/>
            <p:cNvSpPr/>
            <p:nvPr/>
          </p:nvSpPr>
          <p:spPr>
            <a:xfrm>
              <a:off x="4419720" y="993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et function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3123720" y="730080"/>
              <a:ext cx="1295640" cy="4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EE01D-C0BA-486E-8D92-A712493171D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coordinate is 3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coordinate is 4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adius is 2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ew location and radius of circle a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nter = [2, 2]; Radius = 4.2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 is 8.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umference is 26.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is 56.7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E96C1-6E8F-4125-BF3C-51EFF53D986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4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lationship between Base Classes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es can modify values di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ight increase i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set/get function call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validity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can assign illegal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member functions more likely dependent on base class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class implementation changes may result in derived class mod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ile (brittle)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04F0C-67E7-4A8D-BF0E-052DABAA4A9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3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7: point3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3 class definition represents an x-y coordinate pai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3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3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3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3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Point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447920" y="3429000"/>
            <a:ext cx="4114800" cy="837720"/>
            <a:chOff x="1447920" y="3429000"/>
            <a:chExt cx="4114800" cy="837720"/>
          </a:xfrm>
        </p:grpSpPr>
        <p:sp>
          <p:nvSpPr>
            <p:cNvPr id="397" name=""/>
            <p:cNvSpPr/>
            <p:nvPr/>
          </p:nvSpPr>
          <p:spPr>
            <a:xfrm>
              <a:off x="2895840" y="3429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etter software-engineering practice: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v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hen possi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1447920" y="358128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D020F-8750-48FD-AA33-BEF2CE41C05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3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8: point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3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3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3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3::Point3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x( xValue ), y(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ty bod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oint3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::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276360" y="1600200"/>
            <a:ext cx="4115160" cy="838080"/>
            <a:chOff x="3276360" y="1600200"/>
            <a:chExt cx="4115160" cy="838080"/>
          </a:xfrm>
        </p:grpSpPr>
        <p:sp>
          <p:nvSpPr>
            <p:cNvPr id="402" name=""/>
            <p:cNvSpPr/>
            <p:nvPr/>
          </p:nvSpPr>
          <p:spPr>
            <a:xfrm>
              <a:off x="4724280" y="16002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initializers specify valu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3276360" y="1752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70309-B67D-4865-B8B7-5544EAEA80D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3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::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::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::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0A940-2D1B-45AF-A95F-BC145A2C9A8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 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cus on commonalities among objects in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-a” vs. “has-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-a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object treated as base clas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Ca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icle properties/behaviors also car properties/behavi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-a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contains one or more objects of other classes a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Ca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eering whe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59B84-CC7B-47F5-AC55-5295603C80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3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3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[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X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Y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514600" y="1066320"/>
            <a:ext cx="4952880" cy="1357920"/>
            <a:chOff x="2514600" y="1066320"/>
            <a:chExt cx="4952880" cy="1357920"/>
          </a:xfrm>
        </p:grpSpPr>
        <p:sp>
          <p:nvSpPr>
            <p:cNvPr id="409" name=""/>
            <p:cNvSpPr/>
            <p:nvPr/>
          </p:nvSpPr>
          <p:spPr>
            <a:xfrm>
              <a:off x="4800600" y="16002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2514600" y="1066320"/>
              <a:ext cx="2286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106632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36385-2DEF-421E-975A-25BE2B415A4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4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19: circle4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4 class contains x-y coordinate pair and radiu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4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4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3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3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4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4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4's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828800" y="914400"/>
            <a:ext cx="4114800" cy="837720"/>
            <a:chOff x="1828800" y="914400"/>
            <a:chExt cx="4114800" cy="837720"/>
          </a:xfrm>
        </p:grpSpPr>
        <p:sp>
          <p:nvSpPr>
            <p:cNvPr id="415" name=""/>
            <p:cNvSpPr/>
            <p:nvPr/>
          </p:nvSpPr>
          <p:spPr>
            <a:xfrm>
              <a:off x="3276720" y="914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1828800" y="106668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133360" y="4648320"/>
            <a:ext cx="4115160" cy="838080"/>
            <a:chOff x="2133360" y="4648320"/>
            <a:chExt cx="4115160" cy="838080"/>
          </a:xfrm>
        </p:grpSpPr>
        <p:sp>
          <p:nvSpPr>
            <p:cNvPr id="418" name=""/>
            <p:cNvSpPr/>
            <p:nvPr/>
          </p:nvSpPr>
          <p:spPr>
            <a:xfrm>
              <a:off x="3581280" y="46483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133360" y="4800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1DD9C-C597-4D9D-B9D4-A7C833F79B7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4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ircle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698A5-D324-45A7-9519-A89DB942CB9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4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0: circle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4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4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Circle4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4::Circle4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Point3( xValue, yValue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base-class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Radius(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ircle4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::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adius = ( radius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286000" y="1523880"/>
            <a:ext cx="4114800" cy="838440"/>
            <a:chOff x="2286000" y="1523880"/>
            <a:chExt cx="4114800" cy="838440"/>
          </a:xfrm>
        </p:grpSpPr>
        <p:sp>
          <p:nvSpPr>
            <p:cNvPr id="425" name=""/>
            <p:cNvSpPr/>
            <p:nvPr/>
          </p:nvSpPr>
          <p:spPr>
            <a:xfrm>
              <a:off x="3733920" y="15238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-class initializer syntax passes arguments to 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2286000" y="1676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05756-6987-4BDC-B7CC-0A1A5D1B293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4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::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::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::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514600" y="1523880"/>
            <a:ext cx="4114800" cy="838440"/>
            <a:chOff x="2514600" y="1523880"/>
            <a:chExt cx="4114800" cy="838440"/>
          </a:xfrm>
        </p:grpSpPr>
        <p:sp>
          <p:nvSpPr>
            <p:cNvPr id="430" name=""/>
            <p:cNvSpPr/>
            <p:nvPr/>
          </p:nvSpPr>
          <p:spPr>
            <a:xfrm>
              <a:off x="3962520" y="15238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ather than directly accessing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514600" y="1676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60F84-32EC-4DA3-8BE2-F33C2C72546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4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Radius() *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4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enter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3::print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 Point3's print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Radius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743200" y="1066320"/>
            <a:ext cx="4038480" cy="1753200"/>
            <a:chOff x="2743200" y="1066320"/>
            <a:chExt cx="4038480" cy="1753200"/>
          </a:xfrm>
        </p:grpSpPr>
        <p:sp>
          <p:nvSpPr>
            <p:cNvPr id="435" name=""/>
            <p:cNvSpPr/>
            <p:nvPr/>
          </p:nvSpPr>
          <p:spPr>
            <a:xfrm>
              <a:off x="4114800" y="1521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ather than directly accessing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3733920" y="1066320"/>
              <a:ext cx="380880" cy="60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2743200" y="1066320"/>
              <a:ext cx="1371600" cy="60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3276720" y="1673280"/>
              <a:ext cx="838080" cy="11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895480" y="990720"/>
            <a:ext cx="4114800" cy="838080"/>
            <a:chOff x="2895480" y="990720"/>
            <a:chExt cx="4114800" cy="838080"/>
          </a:xfrm>
        </p:grpSpPr>
        <p:sp>
          <p:nvSpPr>
            <p:cNvPr id="440" name=""/>
            <p:cNvSpPr/>
            <p:nvPr/>
          </p:nvSpPr>
          <p:spPr>
            <a:xfrm>
              <a:off x="4343400" y="990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defin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2895480" y="1143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286000" y="1828800"/>
            <a:ext cx="4114800" cy="1067400"/>
            <a:chOff x="2286000" y="1828800"/>
            <a:chExt cx="4114800" cy="1067400"/>
          </a:xfrm>
        </p:grpSpPr>
        <p:sp>
          <p:nvSpPr>
            <p:cNvPr id="443" name=""/>
            <p:cNvSpPr/>
            <p:nvPr/>
          </p:nvSpPr>
          <p:spPr>
            <a:xfrm>
              <a:off x="3733920" y="18288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base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using binary scope-resolution operato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286000" y="1981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FE92B-3A64-4039-9A9F-B8EECFE041C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1: circletest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ing class Circle4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4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ircle4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4 circl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Circle4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point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X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Y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Radius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895120" y="2819520"/>
            <a:ext cx="4115160" cy="838080"/>
            <a:chOff x="2895120" y="2819520"/>
            <a:chExt cx="4115160" cy="838080"/>
          </a:xfrm>
        </p:grpSpPr>
        <p:sp>
          <p:nvSpPr>
            <p:cNvPr id="448" name=""/>
            <p:cNvSpPr/>
            <p:nvPr/>
          </p:nvSpPr>
          <p:spPr>
            <a:xfrm>
              <a:off x="4343040" y="281952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2895120" y="2971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724280" y="3484440"/>
            <a:ext cx="4114800" cy="1163880"/>
            <a:chOff x="4724280" y="3484440"/>
            <a:chExt cx="4114800" cy="1163880"/>
          </a:xfrm>
        </p:grpSpPr>
        <p:sp>
          <p:nvSpPr>
            <p:cNvPr id="451" name=""/>
            <p:cNvSpPr/>
            <p:nvPr/>
          </p:nvSpPr>
          <p:spPr>
            <a:xfrm>
              <a:off x="6172200" y="34844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inherited get functions to access inheri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4724280" y="363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4876920" y="3637080"/>
              <a:ext cx="129528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4876920" y="4038480"/>
            <a:ext cx="3962160" cy="838440"/>
            <a:chOff x="4876920" y="4038480"/>
            <a:chExt cx="3962160" cy="838440"/>
          </a:xfrm>
        </p:grpSpPr>
        <p:sp>
          <p:nvSpPr>
            <p:cNvPr id="455" name=""/>
            <p:cNvSpPr/>
            <p:nvPr/>
          </p:nvSpPr>
          <p:spPr>
            <a:xfrm>
              <a:off x="6172200" y="4038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get function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4876920" y="419112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DB955-7D5A-47F0-BD7E-4F44ABE0F7F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x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y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setRadiu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radius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new circl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new location and radius of circle ar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floating-point values with 2 digits of prec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4's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iamete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4's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rcumferenc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Circumfere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ircle4's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ea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ircle.getAre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361960" y="304560"/>
            <a:ext cx="4724640" cy="1055880"/>
            <a:chOff x="2361960" y="304560"/>
            <a:chExt cx="4724640" cy="1055880"/>
          </a:xfrm>
        </p:grpSpPr>
        <p:sp>
          <p:nvSpPr>
            <p:cNvPr id="460" name=""/>
            <p:cNvSpPr/>
            <p:nvPr/>
          </p:nvSpPr>
          <p:spPr>
            <a:xfrm>
              <a:off x="4419720" y="5364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inherited set functions to modify inheri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 flipV="1">
              <a:off x="2361960" y="304560"/>
              <a:ext cx="20574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 flipV="1">
              <a:off x="2361960" y="536400"/>
              <a:ext cx="2057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123720" y="730080"/>
            <a:ext cx="3962880" cy="1087560"/>
            <a:chOff x="3123720" y="730080"/>
            <a:chExt cx="3962880" cy="1087560"/>
          </a:xfrm>
        </p:grpSpPr>
        <p:sp>
          <p:nvSpPr>
            <p:cNvPr id="464" name=""/>
            <p:cNvSpPr/>
            <p:nvPr/>
          </p:nvSpPr>
          <p:spPr>
            <a:xfrm>
              <a:off x="4419720" y="993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et function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diu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3123720" y="730080"/>
              <a:ext cx="1295640" cy="4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123C6-2C54-4F78-A5F3-971F5CE4BE3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test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coordinate is 3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coordinate is 4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adius is 2.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ew location and radius of circle a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nter = [2, 2]; Radius = 4.2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 is 8.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umference is 26.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is 56.7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F95F7-07E0-4B60-8A82-F37D6933E8D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5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Three-Level Inheritance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level point/circle/cylinder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y coordinate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y coordinate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y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y coordinate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750A6-850C-4750-BFC0-1519F509BDE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   Base Classes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classes and derived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of one class “is an” object of anoth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Rectangle is quadrilate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from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adr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adrilater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erive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lass typically represents larger set of objects than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clas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s, trucks, boats, bicycle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er, more-specific subset of veh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4A905-7E18-46F1-930A-3F6D3CAA19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2: cylinder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 class inherits from class Circle4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YLINDER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YLINDER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4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4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Heigh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Heigh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ylinder's heigh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Cylinder's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olu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Cylinder's 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yli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ylin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057400" y="838080"/>
            <a:ext cx="4114800" cy="838440"/>
            <a:chOff x="2057400" y="838080"/>
            <a:chExt cx="4114800" cy="838440"/>
          </a:xfrm>
        </p:grpSpPr>
        <p:sp>
          <p:nvSpPr>
            <p:cNvPr id="473" name=""/>
            <p:cNvSpPr/>
            <p:nvPr/>
          </p:nvSpPr>
          <p:spPr>
            <a:xfrm>
              <a:off x="3505320" y="838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i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057400" y="990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133360" y="4267080"/>
            <a:ext cx="4115160" cy="838080"/>
            <a:chOff x="2133360" y="4267080"/>
            <a:chExt cx="4115160" cy="838080"/>
          </a:xfrm>
        </p:grpSpPr>
        <p:sp>
          <p:nvSpPr>
            <p:cNvPr id="476" name=""/>
            <p:cNvSpPr/>
            <p:nvPr/>
          </p:nvSpPr>
          <p:spPr>
            <a:xfrm>
              <a:off x="3581280" y="4267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eigh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2133360" y="44193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B9088-8F5F-4CE4-B892-8E1A8C32DD6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h 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8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990720"/>
            <a:ext cx="7010280" cy="3962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3: cylinder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 class inherits from class Circle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6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ylinder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ylinder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8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ylinder::Cylin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Value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: Circle4( xValue, yValue, radiusValu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Height( heightValue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ylinder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7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895480" y="2739960"/>
            <a:ext cx="4114800" cy="838440"/>
            <a:chOff x="2895480" y="2739960"/>
            <a:chExt cx="4114800" cy="838440"/>
          </a:xfrm>
        </p:grpSpPr>
        <p:sp>
          <p:nvSpPr>
            <p:cNvPr id="482" name=""/>
            <p:cNvSpPr/>
            <p:nvPr/>
          </p:nvSpPr>
          <p:spPr>
            <a:xfrm>
              <a:off x="4343400" y="27399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-class initializer syntax passes arguments to 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2895480" y="2892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13CA6-D24A-43C2-885E-6A95C80E1B4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setHeigh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eight = ( height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height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Cylinder's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getHeigh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define Circle4 function getArea to calculate Cylinder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Circle4::getArea() +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getCircumference() * getHe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657240" y="2743200"/>
            <a:ext cx="4115160" cy="1067400"/>
            <a:chOff x="3657240" y="2743200"/>
            <a:chExt cx="4115160" cy="1067400"/>
          </a:xfrm>
        </p:grpSpPr>
        <p:sp>
          <p:nvSpPr>
            <p:cNvPr id="487" name=""/>
            <p:cNvSpPr/>
            <p:nvPr/>
          </p:nvSpPr>
          <p:spPr>
            <a:xfrm>
              <a:off x="5105160" y="27432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define bas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i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urface are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657240" y="2895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666880" y="3048120"/>
            <a:ext cx="4114800" cy="1067400"/>
            <a:chOff x="2666880" y="3048120"/>
            <a:chExt cx="4114800" cy="1067400"/>
          </a:xfrm>
        </p:grpSpPr>
        <p:sp>
          <p:nvSpPr>
            <p:cNvPr id="490" name=""/>
            <p:cNvSpPr/>
            <p:nvPr/>
          </p:nvSpPr>
          <p:spPr>
            <a:xfrm>
              <a:off x="4114800" y="30481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base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using binary scope-resolution operato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666880" y="320004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ED93A-0AF3-48BA-8D61-699B3A2B635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Cylinder 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getVolu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4::getArea() * getHe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ylind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ylinder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4::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Height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He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3200400" y="1295280"/>
            <a:ext cx="4114800" cy="838080"/>
            <a:chOff x="3200400" y="1295280"/>
            <a:chExt cx="4114800" cy="838080"/>
          </a:xfrm>
        </p:grpSpPr>
        <p:sp>
          <p:nvSpPr>
            <p:cNvPr id="495" name=""/>
            <p:cNvSpPr/>
            <p:nvPr/>
          </p:nvSpPr>
          <p:spPr>
            <a:xfrm>
              <a:off x="4648320" y="1295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defin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3200400" y="14475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362320" y="1593720"/>
            <a:ext cx="4114800" cy="1067400"/>
            <a:chOff x="2362320" y="1593720"/>
            <a:chExt cx="4114800" cy="1067400"/>
          </a:xfrm>
        </p:grpSpPr>
        <p:sp>
          <p:nvSpPr>
            <p:cNvPr id="498" name=""/>
            <p:cNvSpPr/>
            <p:nvPr/>
          </p:nvSpPr>
          <p:spPr>
            <a:xfrm>
              <a:off x="3810240" y="15937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base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using binary scope-resolution operato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2320" y="1746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209320" y="216000"/>
            <a:ext cx="4800960" cy="1067400"/>
            <a:chOff x="2209320" y="216000"/>
            <a:chExt cx="4800960" cy="1067400"/>
          </a:xfrm>
        </p:grpSpPr>
        <p:sp>
          <p:nvSpPr>
            <p:cNvPr id="501" name=""/>
            <p:cNvSpPr/>
            <p:nvPr/>
          </p:nvSpPr>
          <p:spPr>
            <a:xfrm>
              <a:off x="4343400" y="2160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base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using binary scope-resolution operato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209320" y="368280"/>
              <a:ext cx="213372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9075C-7AFA-49F4-841E-E137DBA3B0E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4: cylindertest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ing class Cylind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ylinder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ylinder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stantiate Cylind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 cylin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.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point coordina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ylinder.getX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Y coordinat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ylinder.get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Radius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ylinder.getRadiu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Height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ylinder.getHeigh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876560" y="3809880"/>
            <a:ext cx="4115160" cy="990720"/>
            <a:chOff x="4876560" y="3809880"/>
            <a:chExt cx="4115160" cy="990720"/>
          </a:xfrm>
        </p:grpSpPr>
        <p:sp>
          <p:nvSpPr>
            <p:cNvPr id="506" name=""/>
            <p:cNvSpPr/>
            <p:nvPr/>
          </p:nvSpPr>
          <p:spPr>
            <a:xfrm>
              <a:off x="6324480" y="38098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indirectly inheri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876560" y="3962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5029200" y="3962520"/>
              <a:ext cx="12952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4911840" y="4267080"/>
            <a:ext cx="4079880" cy="838440"/>
            <a:chOff x="4911840" y="4267080"/>
            <a:chExt cx="4079880" cy="838440"/>
          </a:xfrm>
        </p:grpSpPr>
        <p:sp>
          <p:nvSpPr>
            <p:cNvPr id="510" name=""/>
            <p:cNvSpPr/>
            <p:nvPr/>
          </p:nvSpPr>
          <p:spPr>
            <a:xfrm>
              <a:off x="6324480" y="4267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directly inheri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4911840" y="4419720"/>
              <a:ext cx="14126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063760" y="4419720"/>
            <a:ext cx="3927960" cy="838080"/>
            <a:chOff x="5063760" y="4419720"/>
            <a:chExt cx="3927960" cy="838080"/>
          </a:xfrm>
        </p:grpSpPr>
        <p:sp>
          <p:nvSpPr>
            <p:cNvPr id="513" name=""/>
            <p:cNvSpPr/>
            <p:nvPr/>
          </p:nvSpPr>
          <p:spPr>
            <a:xfrm>
              <a:off x="6324480" y="44197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i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5063760" y="4648320"/>
              <a:ext cx="12603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A07D9-F798-4A6A-B7F9-AF26AEDFE86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.set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new x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.setY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new y-coordin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.setRadius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radius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.setHeigh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height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new cylinde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new location and radius of circle ar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ylinder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floating-point values with 2 digits of preci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ylinder's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Diamete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ylinder.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ylinder's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ircumferenc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cylinder.getCircumferen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ylinder's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ea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ylinder.getArea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cylinder's volu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olu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ylinder.getVolu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2514600" y="342720"/>
            <a:ext cx="4495680" cy="581040"/>
            <a:chOff x="2514600" y="342720"/>
            <a:chExt cx="4495680" cy="581040"/>
          </a:xfrm>
        </p:grpSpPr>
        <p:sp>
          <p:nvSpPr>
            <p:cNvPr id="518" name=""/>
            <p:cNvSpPr/>
            <p:nvPr/>
          </p:nvSpPr>
          <p:spPr>
            <a:xfrm>
              <a:off x="4343400" y="343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indirectly inheri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2514600" y="342720"/>
              <a:ext cx="1828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2514600" y="49536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3276360" y="761760"/>
            <a:ext cx="3733920" cy="581040"/>
            <a:chOff x="3276360" y="761760"/>
            <a:chExt cx="3733920" cy="581040"/>
          </a:xfrm>
        </p:grpSpPr>
        <p:sp>
          <p:nvSpPr>
            <p:cNvPr id="522" name=""/>
            <p:cNvSpPr/>
            <p:nvPr/>
          </p:nvSpPr>
          <p:spPr>
            <a:xfrm>
              <a:off x="4343400" y="762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directly inherit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flipV="1">
              <a:off x="3276360" y="761760"/>
              <a:ext cx="1066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082680" y="914400"/>
            <a:ext cx="3927600" cy="732960"/>
            <a:chOff x="3082680" y="914400"/>
            <a:chExt cx="3927600" cy="732960"/>
          </a:xfrm>
        </p:grpSpPr>
        <p:sp>
          <p:nvSpPr>
            <p:cNvPr id="525" name=""/>
            <p:cNvSpPr/>
            <p:nvPr/>
          </p:nvSpPr>
          <p:spPr>
            <a:xfrm>
              <a:off x="434340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i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3082680" y="914400"/>
              <a:ext cx="12603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379240" y="1809720"/>
            <a:ext cx="3927600" cy="732960"/>
            <a:chOff x="2379240" y="1809720"/>
            <a:chExt cx="3927600" cy="732960"/>
          </a:xfrm>
        </p:grpSpPr>
        <p:sp>
          <p:nvSpPr>
            <p:cNvPr id="528" name=""/>
            <p:cNvSpPr/>
            <p:nvPr/>
          </p:nvSpPr>
          <p:spPr>
            <a:xfrm>
              <a:off x="3639960" y="1962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redefin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>
              <a:off x="2379240" y="1809720"/>
              <a:ext cx="12603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723920" y="4647960"/>
            <a:ext cx="3927600" cy="732960"/>
            <a:chOff x="4723920" y="4647960"/>
            <a:chExt cx="3927600" cy="732960"/>
          </a:xfrm>
        </p:grpSpPr>
        <p:sp>
          <p:nvSpPr>
            <p:cNvPr id="531" name=""/>
            <p:cNvSpPr/>
            <p:nvPr/>
          </p:nvSpPr>
          <p:spPr>
            <a:xfrm>
              <a:off x="5984640" y="48002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redefin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Are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flipV="1">
              <a:off x="4723920" y="4647960"/>
              <a:ext cx="126036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E271B-DCD7-4B14-9E62-F1D3C2784BC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lindertest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371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1295280"/>
            <a:ext cx="701028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coordinate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coordinate is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adius is 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 is 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ew location and radius of circl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enter = [2, 2]; Radius = 4.25; Height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 is 8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umference is 26.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is 380.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is 567.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3CB19-07D2-48A4-A0C0-AAD491ADF0D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6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structors and Destructors in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tiating derived-clas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in of constructor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constructor invokes base class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citly or explici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of inheritance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constructor called in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onstructor body to finish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le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tructor called 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tructor body finishes execution 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ing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base-class constructor initializes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ed by derive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6BC5-314D-497F-93A1-9AE9BBD77FF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6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structors and Destructors in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oying derived-clas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in of destructor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e order of constructor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uctor of derived-class called 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uctor of next base class up hierarchy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e up hierarchy until final base rea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final base-class destructor, object removed from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EDE62-176B-4990-8A06-DA615E3D3A0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6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structors and Destructors in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-class constructors, destructors, assignm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inherited by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 class constructors, assignment operators ca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ment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C409-B31A-40DE-BE98-336642EA2CC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   Base Classes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057400"/>
          <a:ext cx="7010640" cy="389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010640" cy="38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D1245-4B46-4E70-9A19-4DF9354A11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4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5: point4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4 class definition represents an x-y coordinate pai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4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OINT4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4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4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Point4()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output Point3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 part of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Point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4114440" y="1054080"/>
            <a:ext cx="4305600" cy="1231920"/>
            <a:chOff x="4114440" y="1054080"/>
            <a:chExt cx="4305600" cy="1231920"/>
          </a:xfrm>
        </p:grpSpPr>
        <p:sp>
          <p:nvSpPr>
            <p:cNvPr id="545" name=""/>
            <p:cNvSpPr/>
            <p:nvPr/>
          </p:nvSpPr>
          <p:spPr>
            <a:xfrm>
              <a:off x="5753160" y="10540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and destructor output messages to demonstrate function call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4305240" y="12063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4114440" y="1206360"/>
              <a:ext cx="163836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E5CBC-54CE-441E-8104-8108C9B9127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4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6: point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4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4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4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4::Point4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x( xValue ), y(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4 constructo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oint4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4::~Point4()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4 destructo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()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895480" y="2133720"/>
            <a:ext cx="4114800" cy="838080"/>
            <a:chOff x="2895480" y="2133720"/>
            <a:chExt cx="4114800" cy="838080"/>
          </a:xfrm>
        </p:grpSpPr>
        <p:sp>
          <p:nvSpPr>
            <p:cNvPr id="551" name=""/>
            <p:cNvSpPr/>
            <p:nvPr/>
          </p:nvSpPr>
          <p:spPr>
            <a:xfrm>
              <a:off x="4343400" y="2133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message to demonstrate constructor function call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2895480" y="2286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895480" y="4114800"/>
            <a:ext cx="4114800" cy="838080"/>
            <a:chOff x="2895480" y="4114800"/>
            <a:chExt cx="4114800" cy="838080"/>
          </a:xfrm>
        </p:grpSpPr>
        <p:sp>
          <p:nvSpPr>
            <p:cNvPr id="554" name=""/>
            <p:cNvSpPr/>
            <p:nvPr/>
          </p:nvSpPr>
          <p:spPr>
            <a:xfrm>
              <a:off x="4343400" y="41148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message to demonstrate destructor function call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2895480" y="426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5F776-BDBE-4C55-B7AE-A3C57534C2D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4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Point4 destructor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4::setX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= x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x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4::getX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y in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4::set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yValu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need for valid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5AACC-9B1E-48AD-B945-FA5D999713E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4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y from coordinate pai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4::getY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oint4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4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[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X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Y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FFD57-46F1-44D2-8630-3C97881894E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5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7: circle5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5 class contains x-y coordinate pair and radiu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5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IRCLE5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4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oint4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5 :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4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5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Circle5()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5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495680" y="1892160"/>
            <a:ext cx="4114800" cy="1384560"/>
            <a:chOff x="4495680" y="1892160"/>
            <a:chExt cx="4114800" cy="1384560"/>
          </a:xfrm>
        </p:grpSpPr>
        <p:sp>
          <p:nvSpPr>
            <p:cNvPr id="563" name=""/>
            <p:cNvSpPr/>
            <p:nvPr/>
          </p:nvSpPr>
          <p:spPr>
            <a:xfrm>
              <a:off x="5943600" y="189216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and destructor output messages to demonstrate function call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4495680" y="2044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4648320" y="2044800"/>
              <a:ext cx="1295280" cy="12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2226E-A16A-4E33-9600-3B94C44AADC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5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ircle5's 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ircle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3B2E0-3AF6-4A89-A083-3F25772E618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5.cpp 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8: circle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5 class member-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5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5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5::Circle5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Valu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Point4( xValue, yValue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base-class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Radius(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5 constructo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ircle5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895480" y="2552760"/>
            <a:ext cx="4114800" cy="838080"/>
            <a:chOff x="2895480" y="2552760"/>
            <a:chExt cx="4114800" cy="838080"/>
          </a:xfrm>
        </p:grpSpPr>
        <p:sp>
          <p:nvSpPr>
            <p:cNvPr id="571" name=""/>
            <p:cNvSpPr/>
            <p:nvPr/>
          </p:nvSpPr>
          <p:spPr>
            <a:xfrm>
              <a:off x="4343400" y="25527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message to demonstrate constructor function call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2895480" y="270504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4E81D-D87B-4423-8B44-E59757CCC2A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5.cpp 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5::~Circle5()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5 destructo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();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ircle5 destructor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5::setRadiu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Valu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adius = ( radiusValu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radiusValu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adiu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5::getRadius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diu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Radi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895480" y="1066320"/>
            <a:ext cx="4114800" cy="977040"/>
            <a:chOff x="2895480" y="1066320"/>
            <a:chExt cx="4114800" cy="977040"/>
          </a:xfrm>
        </p:grpSpPr>
        <p:sp>
          <p:nvSpPr>
            <p:cNvPr id="576" name=""/>
            <p:cNvSpPr/>
            <p:nvPr/>
          </p:nvSpPr>
          <p:spPr>
            <a:xfrm>
              <a:off x="4343400" y="1219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message to demonstrate destructor function call ord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895480" y="1066320"/>
              <a:ext cx="1447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40BAE-9E27-4093-9465-BD4A4293517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5.cpp 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5::getDiamete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Diame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5::getCircumferenc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Diamete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Circum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5::getArea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getRadius() *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Are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3DAA1-BF2E-401A-91F5-6152E8F2AEC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le5.cpp 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057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ircle5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ircle5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enter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oint4::print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 Point4's print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; Radius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getRadius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95089-CAF2-4319-881B-9EA8C6F8163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   Base Classes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ance relationships: tree-like hierarchy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class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y data/behaviors to other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 data/behaviors from other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6B4F-2DED-4BA7-946B-47B992FADC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9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 9.29: fig09_2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order in which base-class and derived-clas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s are call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ircle5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ircle5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new scope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oint4 poin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cope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5 circle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rcle5 circle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514600" y="2327400"/>
            <a:ext cx="4114800" cy="838080"/>
            <a:chOff x="2514600" y="2327400"/>
            <a:chExt cx="4114800" cy="838080"/>
          </a:xfrm>
        </p:grpSpPr>
        <p:sp>
          <p:nvSpPr>
            <p:cNvPr id="585" name=""/>
            <p:cNvSpPr/>
            <p:nvPr/>
          </p:nvSpPr>
          <p:spPr>
            <a:xfrm>
              <a:off x="3962520" y="2327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goes in and out of scope immediate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14600" y="2479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2514600" y="3484440"/>
            <a:ext cx="4114800" cy="1544760"/>
            <a:chOff x="2514600" y="3484440"/>
            <a:chExt cx="4114800" cy="1544760"/>
          </a:xfrm>
        </p:grpSpPr>
        <p:sp>
          <p:nvSpPr>
            <p:cNvPr id="588" name=""/>
            <p:cNvSpPr/>
            <p:nvPr/>
          </p:nvSpPr>
          <p:spPr>
            <a:xfrm>
              <a:off x="3962520" y="348444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tantiate tw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 to demonstrate order of derived-class and base-class constructor/destructo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2514600" y="363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514600" y="3637080"/>
              <a:ext cx="1447920" cy="13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ECDC2-E9EB-45CE-BD19-24F2D097C51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9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9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1066680"/>
            <a:ext cx="7010280" cy="3124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4 constructor: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4 destructor: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4 constructor: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5 constructor: Center = [72, 29]; Radius = 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4 constructor: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5 constructor: Center = [5, 5]; Radius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5 destructor: Center = [5, 5]; Radius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4 destructor: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5 destructor: Center = [72, 29]; Radius = 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4 destructor: [72, 29]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2895120" y="492120"/>
            <a:ext cx="4115160" cy="1079640"/>
            <a:chOff x="2895120" y="492120"/>
            <a:chExt cx="4115160" cy="1079640"/>
          </a:xfrm>
        </p:grpSpPr>
        <p:sp>
          <p:nvSpPr>
            <p:cNvPr id="595" name=""/>
            <p:cNvSpPr/>
            <p:nvPr/>
          </p:nvSpPr>
          <p:spPr>
            <a:xfrm>
              <a:off x="4343040" y="49212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called for object in block; destructor called immediately as execution leaves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2895120" y="644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2895120" y="644400"/>
              <a:ext cx="1447560" cy="92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895120" y="1143000"/>
            <a:ext cx="4115160" cy="1067400"/>
            <a:chOff x="2895120" y="1143000"/>
            <a:chExt cx="4115160" cy="1067400"/>
          </a:xfrm>
        </p:grpSpPr>
        <p:sp>
          <p:nvSpPr>
            <p:cNvPr id="599" name=""/>
            <p:cNvSpPr/>
            <p:nvPr/>
          </p:nvSpPr>
          <p:spPr>
            <a:xfrm>
              <a:off x="4343040" y="11430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executes first when instantiating derived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2895120" y="1295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2895120" y="1295280"/>
            <a:ext cx="4115160" cy="1310760"/>
            <a:chOff x="2895120" y="1295280"/>
            <a:chExt cx="4115160" cy="1310760"/>
          </a:xfrm>
        </p:grpSpPr>
        <p:sp>
          <p:nvSpPr>
            <p:cNvPr id="602" name=""/>
            <p:cNvSpPr/>
            <p:nvPr/>
          </p:nvSpPr>
          <p:spPr>
            <a:xfrm>
              <a:off x="4343040" y="129528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rived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body executes after base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constructor finishes execu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2895120" y="1447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895120" y="1752480"/>
            <a:ext cx="4115160" cy="1067400"/>
            <a:chOff x="2895120" y="1752480"/>
            <a:chExt cx="4115160" cy="1067400"/>
          </a:xfrm>
        </p:grpSpPr>
        <p:sp>
          <p:nvSpPr>
            <p:cNvPr id="605" name=""/>
            <p:cNvSpPr/>
            <p:nvPr/>
          </p:nvSpPr>
          <p:spPr>
            <a:xfrm>
              <a:off x="4343040" y="175248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executes first when instantiating derived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2895120" y="19047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895120" y="1905120"/>
            <a:ext cx="4115160" cy="1310760"/>
            <a:chOff x="2895120" y="1905120"/>
            <a:chExt cx="4115160" cy="1310760"/>
          </a:xfrm>
        </p:grpSpPr>
        <p:sp>
          <p:nvSpPr>
            <p:cNvPr id="608" name=""/>
            <p:cNvSpPr/>
            <p:nvPr/>
          </p:nvSpPr>
          <p:spPr>
            <a:xfrm>
              <a:off x="4343040" y="190512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rived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body executes after base-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constructor finishes execu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2895120" y="2057400"/>
              <a:ext cx="14475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895480" y="2362320"/>
            <a:ext cx="4114800" cy="1143000"/>
            <a:chOff x="2895480" y="2362320"/>
            <a:chExt cx="4114800" cy="1143000"/>
          </a:xfrm>
        </p:grpSpPr>
        <p:sp>
          <p:nvSpPr>
            <p:cNvPr id="611" name=""/>
            <p:cNvSpPr/>
            <p:nvPr/>
          </p:nvSpPr>
          <p:spPr>
            <a:xfrm>
              <a:off x="4343400" y="2362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called in reverse order of construct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2895480" y="2514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2895480" y="2514600"/>
              <a:ext cx="1447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895480" y="2819520"/>
            <a:ext cx="4114800" cy="1143000"/>
            <a:chOff x="2895480" y="2819520"/>
            <a:chExt cx="4114800" cy="1143000"/>
          </a:xfrm>
        </p:grpSpPr>
        <p:sp>
          <p:nvSpPr>
            <p:cNvPr id="615" name=""/>
            <p:cNvSpPr/>
            <p:nvPr/>
          </p:nvSpPr>
          <p:spPr>
            <a:xfrm>
              <a:off x="43434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called in reverse order of construct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89548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2895480" y="2971800"/>
              <a:ext cx="1447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CD62B-6CFC-4A16-9394-DFC858A3326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7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“Uses A” and “Knows A” Relationship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uses another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non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pointer, reference or object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s a” (associ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aware of another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 pointer handle or reference han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nowledge net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394D-98E9-4FEB-8086-700F1B79156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8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ublic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otected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ivat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76320" y="1523880"/>
          <a:ext cx="8762760" cy="47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523880"/>
                    <a:ext cx="8762760" cy="47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9BD2-F0F0-4EA8-B6A7-7056832EEDA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9.9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oftware Engineering with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izing existing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 from existing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additiona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efine base-clas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irect access to base class’s sourc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to objec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ependent software vendors (ISV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proprietary code for sale/lic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ailable in object-code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 derive new clas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accessing ISV proprietary sourc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B2DF-1E20-4927-ACFD-6CF19CB29F0E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457200" y="1676520"/>
            <a:ext cx="7315200" cy="4316040"/>
            <a:chOff x="457200" y="1676520"/>
            <a:chExt cx="7315200" cy="4316040"/>
          </a:xfrm>
        </p:grpSpPr>
        <p:sp>
          <p:nvSpPr>
            <p:cNvPr id="106" name=""/>
            <p:cNvSpPr/>
            <p:nvPr/>
          </p:nvSpPr>
          <p:spPr>
            <a:xfrm>
              <a:off x="3457440" y="1676520"/>
              <a:ext cx="200052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7" y="0"/>
                  </a:moveTo>
                  <a:lnTo>
                    <a:pt x="19987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87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75360" y="2754720"/>
              <a:ext cx="112716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7" y="0"/>
                  </a:moveTo>
                  <a:lnTo>
                    <a:pt x="19977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77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11440" y="2754720"/>
              <a:ext cx="112860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7" y="0"/>
                  </a:moveTo>
                  <a:lnTo>
                    <a:pt x="19977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77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06680" y="3697560"/>
              <a:ext cx="112716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7" y="0"/>
                  </a:moveTo>
                  <a:lnTo>
                    <a:pt x="19977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77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60680" y="4640400"/>
              <a:ext cx="112716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7" y="0"/>
                  </a:moveTo>
                  <a:lnTo>
                    <a:pt x="19977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77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4640400"/>
              <a:ext cx="174456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5" y="0"/>
                  </a:moveTo>
                  <a:lnTo>
                    <a:pt x="19985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85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0720" y="5583600"/>
              <a:ext cx="271764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1" y="0"/>
                  </a:moveTo>
                  <a:lnTo>
                    <a:pt x="19991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91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6580080" y="2641680"/>
              <a:ext cx="1192320" cy="506520"/>
              <a:chOff x="6580080" y="2641680"/>
              <a:chExt cx="1192320" cy="506520"/>
            </a:xfrm>
          </p:grpSpPr>
          <p:sp>
            <p:nvSpPr>
              <p:cNvPr id="114" name=""/>
              <p:cNvSpPr/>
              <p:nvPr/>
            </p:nvSpPr>
            <p:spPr>
              <a:xfrm>
                <a:off x="6580080" y="2641680"/>
                <a:ext cx="1192320" cy="49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7125" y="0"/>
                    </a:moveTo>
                    <a:lnTo>
                      <a:pt x="19982" y="5318"/>
                    </a:lnTo>
                    <a:lnTo>
                      <a:pt x="19982" y="19955"/>
                    </a:lnTo>
                    <a:lnTo>
                      <a:pt x="0" y="19955"/>
                    </a:lnTo>
                    <a:lnTo>
                      <a:pt x="0" y="18636"/>
                    </a:lnTo>
                    <a:lnTo>
                      <a:pt x="0" y="0"/>
                    </a:lnTo>
                    <a:lnTo>
                      <a:pt x="17125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602480" y="2641680"/>
                <a:ext cx="169560" cy="131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75" y="19829"/>
                    </a:moveTo>
                    <a:lnTo>
                      <a:pt x="0" y="19829"/>
                    </a:ln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685560" y="2721240"/>
                <a:ext cx="9813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Times New Roman"/>
                  </a:rPr>
                  <a:t>Single inheri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3457440" y="1743480"/>
              <a:ext cx="200052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CommunityMe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10000" y="2848320"/>
              <a:ext cx="11300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94120" y="2754720"/>
              <a:ext cx="112572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7" y="0"/>
                  </a:moveTo>
                  <a:lnTo>
                    <a:pt x="19977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77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2680" y="2848320"/>
              <a:ext cx="11271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Stu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" y="4734000"/>
              <a:ext cx="174456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Administ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58880" y="4734000"/>
              <a:ext cx="112896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Tea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20600" y="5677200"/>
              <a:ext cx="27194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AdministratorTea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03440" y="3791160"/>
              <a:ext cx="11304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Sta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16200" y="3697560"/>
              <a:ext cx="1127160" cy="31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7" y="0"/>
                  </a:moveTo>
                  <a:lnTo>
                    <a:pt x="19977" y="19929"/>
                  </a:lnTo>
                  <a:lnTo>
                    <a:pt x="0" y="19929"/>
                  </a:lnTo>
                  <a:lnTo>
                    <a:pt x="0" y="0"/>
                  </a:lnTo>
                  <a:lnTo>
                    <a:pt x="19977" y="0"/>
                  </a:lnTo>
                  <a:close/>
                </a:path>
              </a:pathLst>
            </a:custGeom>
            <a:solidFill>
              <a:srgbClr val="99cc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16200" y="3791160"/>
              <a:ext cx="11271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Facul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227400" y="1990800"/>
              <a:ext cx="2460600" cy="763920"/>
              <a:chOff x="3227400" y="1990800"/>
              <a:chExt cx="2460600" cy="763920"/>
            </a:xfrm>
          </p:grpSpPr>
          <p:sp>
            <p:nvSpPr>
              <p:cNvPr id="128" name=""/>
              <p:cNvSpPr/>
              <p:nvPr/>
            </p:nvSpPr>
            <p:spPr>
              <a:xfrm>
                <a:off x="4456440" y="1990800"/>
                <a:ext cx="1080" cy="76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227400" y="1990800"/>
                <a:ext cx="666360" cy="76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1"/>
                    </a:moveTo>
                    <a:lnTo>
                      <a:pt x="19962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022000" y="1990800"/>
                <a:ext cx="666000" cy="76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2" y="19971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2581200" y="3069000"/>
              <a:ext cx="1189080" cy="628560"/>
              <a:chOff x="2581200" y="3069000"/>
              <a:chExt cx="1189080" cy="628560"/>
            </a:xfrm>
          </p:grpSpPr>
          <p:sp>
            <p:nvSpPr>
              <p:cNvPr id="132" name=""/>
              <p:cNvSpPr/>
              <p:nvPr/>
            </p:nvSpPr>
            <p:spPr>
              <a:xfrm>
                <a:off x="3411360" y="3069000"/>
                <a:ext cx="358920" cy="628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29" y="19964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581200" y="3069000"/>
                <a:ext cx="358560" cy="628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19929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1792440" y="4011840"/>
              <a:ext cx="1187280" cy="628560"/>
              <a:chOff x="1792440" y="4011840"/>
              <a:chExt cx="1187280" cy="628560"/>
            </a:xfrm>
          </p:grpSpPr>
          <p:sp>
            <p:nvSpPr>
              <p:cNvPr id="135" name=""/>
              <p:cNvSpPr/>
              <p:nvPr/>
            </p:nvSpPr>
            <p:spPr>
              <a:xfrm>
                <a:off x="2621880" y="4011840"/>
                <a:ext cx="357840" cy="628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29" y="19964"/>
                    </a:move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92440" y="4011840"/>
                <a:ext cx="357840" cy="628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19929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1785960" y="4954680"/>
              <a:ext cx="1189080" cy="628920"/>
              <a:chOff x="1785960" y="4954680"/>
              <a:chExt cx="1189080" cy="628920"/>
            </a:xfrm>
          </p:grpSpPr>
          <p:sp>
            <p:nvSpPr>
              <p:cNvPr id="138" name=""/>
              <p:cNvSpPr/>
              <p:nvPr/>
            </p:nvSpPr>
            <p:spPr>
              <a:xfrm>
                <a:off x="2616120" y="4954680"/>
                <a:ext cx="358920" cy="628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29" y="0"/>
                    </a:moveTo>
                    <a:lnTo>
                      <a:pt x="0" y="19964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85960" y="4954680"/>
                <a:ext cx="358560" cy="628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29" y="19964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5172120" y="2848320"/>
              <a:ext cx="11304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Alumn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4827600" y="3581640"/>
              <a:ext cx="1192320" cy="506520"/>
              <a:chOff x="4827600" y="3581640"/>
              <a:chExt cx="1192320" cy="506520"/>
            </a:xfrm>
          </p:grpSpPr>
          <p:sp>
            <p:nvSpPr>
              <p:cNvPr id="142" name=""/>
              <p:cNvSpPr/>
              <p:nvPr/>
            </p:nvSpPr>
            <p:spPr>
              <a:xfrm>
                <a:off x="4827600" y="3581640"/>
                <a:ext cx="1192320" cy="49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7125" y="0"/>
                    </a:moveTo>
                    <a:lnTo>
                      <a:pt x="19982" y="5318"/>
                    </a:lnTo>
                    <a:lnTo>
                      <a:pt x="19982" y="19955"/>
                    </a:lnTo>
                    <a:lnTo>
                      <a:pt x="0" y="19955"/>
                    </a:lnTo>
                    <a:lnTo>
                      <a:pt x="0" y="18636"/>
                    </a:lnTo>
                    <a:lnTo>
                      <a:pt x="0" y="0"/>
                    </a:lnTo>
                    <a:lnTo>
                      <a:pt x="17125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850000" y="3581640"/>
                <a:ext cx="169560" cy="131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75" y="19829"/>
                    </a:moveTo>
                    <a:lnTo>
                      <a:pt x="0" y="19829"/>
                    </a:ln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33080" y="3661200"/>
                <a:ext cx="9813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Times New Roman"/>
                  </a:rPr>
                  <a:t>Single inheri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989520" y="4572360"/>
              <a:ext cx="1191960" cy="505800"/>
              <a:chOff x="3989520" y="4572360"/>
              <a:chExt cx="1191960" cy="505800"/>
            </a:xfrm>
          </p:grpSpPr>
          <p:sp>
            <p:nvSpPr>
              <p:cNvPr id="146" name=""/>
              <p:cNvSpPr/>
              <p:nvPr/>
            </p:nvSpPr>
            <p:spPr>
              <a:xfrm>
                <a:off x="3989520" y="4572360"/>
                <a:ext cx="1191960" cy="493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7125" y="0"/>
                    </a:moveTo>
                    <a:lnTo>
                      <a:pt x="19982" y="5318"/>
                    </a:lnTo>
                    <a:lnTo>
                      <a:pt x="19982" y="19955"/>
                    </a:lnTo>
                    <a:lnTo>
                      <a:pt x="0" y="19955"/>
                    </a:lnTo>
                    <a:lnTo>
                      <a:pt x="0" y="18636"/>
                    </a:lnTo>
                    <a:lnTo>
                      <a:pt x="0" y="0"/>
                    </a:lnTo>
                    <a:lnTo>
                      <a:pt x="17125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011560" y="4572360"/>
                <a:ext cx="169560" cy="131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75" y="19829"/>
                    </a:moveTo>
                    <a:lnTo>
                      <a:pt x="0" y="19829"/>
                    </a:ln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095000" y="4651560"/>
                <a:ext cx="98100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600" spc="-1" strike="noStrike">
                    <a:solidFill>
                      <a:srgbClr val="000000"/>
                    </a:solidFill>
                    <a:latin typeface="Times New Roman"/>
                  </a:rPr>
                  <a:t>Single inheri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3989520" y="5486760"/>
              <a:ext cx="1191960" cy="505800"/>
              <a:chOff x="3989520" y="5486760"/>
              <a:chExt cx="1191960" cy="505800"/>
            </a:xfrm>
          </p:grpSpPr>
          <p:sp>
            <p:nvSpPr>
              <p:cNvPr id="150" name=""/>
              <p:cNvSpPr/>
              <p:nvPr/>
            </p:nvSpPr>
            <p:spPr>
              <a:xfrm>
                <a:off x="3989520" y="5486760"/>
                <a:ext cx="1191960" cy="493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7125" y="0"/>
                    </a:moveTo>
                    <a:lnTo>
                      <a:pt x="19982" y="5318"/>
                    </a:lnTo>
                    <a:lnTo>
                      <a:pt x="19982" y="19955"/>
                    </a:lnTo>
                    <a:lnTo>
                      <a:pt x="0" y="19955"/>
                    </a:lnTo>
                    <a:lnTo>
                      <a:pt x="0" y="18636"/>
                    </a:lnTo>
                    <a:lnTo>
                      <a:pt x="0" y="0"/>
                    </a:lnTo>
                    <a:lnTo>
                      <a:pt x="17125" y="0"/>
                    </a:lnTo>
                    <a:close/>
                  </a:path>
                </a:pathLst>
              </a:custGeom>
              <a:solidFill>
                <a:srgbClr val="99ccff"/>
              </a:solidFill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11560" y="5486760"/>
                <a:ext cx="169560" cy="131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75" y="19829"/>
                    </a:moveTo>
                    <a:lnTo>
                      <a:pt x="0" y="19829"/>
                    </a:ln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095000" y="5565960"/>
                <a:ext cx="98100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Multiple </a:t>
                </a:r>
                <a:r>
                  <a:rPr b="0" sz="1600" spc="-1" strike="noStrike">
                    <a:solidFill>
                      <a:srgbClr val="000000"/>
                    </a:solidFill>
                    <a:latin typeface="Times New Roman"/>
                  </a:rPr>
                  <a:t>inheri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696960" y="1157400"/>
            <a:ext cx="59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. 9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heritance hierarchy for universit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munityMemb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A279-017A-467A-BC70-0B4A8CEEA9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20:19:09Z</dcterms:created>
  <dc:creator>Audrey Lee</dc:creator>
  <dc:description/>
  <dc:language>en-US</dc:language>
  <cp:lastModifiedBy>Pearson Education</cp:lastModifiedBy>
  <dcterms:modified xsi:type="dcterms:W3CDTF">2002-08-12T15:10:31Z</dcterms:modified>
  <cp:revision>97</cp:revision>
  <dc:subject/>
  <dc:title>PowerPoint Presentation</dc:title>
</cp:coreProperties>
</file>