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DC308-9DF7-49DC-8A5A-4FD116082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D7191-8144-46AA-B622-C68FC84B5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BF4A0-8548-463D-98B1-A4EC45190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58DCC-8DD7-4928-B5CC-EB06BA49A7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F3093-9445-486F-97F6-BF4176B48A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A6C5C-F9C4-4946-853E-2FB2255792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95AD3-4721-4FA8-8E3A-B39BB505AE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D07E9-8338-4BF0-A620-0976E3F08C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B75FA-5031-4BDA-A1F9-24B86D69A3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F5ADF-2B92-4579-A403-30DCD3CEA9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E4185-9380-4262-832C-506AABFEC4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7B5C6-AC04-4C13-8CC9-DD278FF2E1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E00BB-5784-42CF-889E-304E1B27FF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988C9-6231-4DCE-A89A-6777453487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C63B2-1F2B-453C-BA8C-E3F2D32C5E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443C2-0ADD-4B34-8926-09B0E0FECD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B9358-AA0F-43EA-9B3C-A369E89EC4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761C2-A022-4F17-B15D-B814A9A6C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8B4C-5C60-4CAF-B747-D88AFAC54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1F5CC-24A8-47C0-B24E-D4A179DBF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AF399-F319-4377-B3AB-E267B0440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D28A3-2215-458D-8351-DFF92FE46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7C412-4844-4040-850A-39D9DED1D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E94D6-D976-4801-AEC6-15E3F0AB6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E4F9-D0AD-492B-967F-E55DA3E8F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DAEF-CD00-4335-BBCD-069549C71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8 - Operator Overload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695600"/>
            <a:ext cx="91440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30240" bIns="4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347840"/>
            <a:ext cx="807732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30240" bIns="4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damentals of Operator Overload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strictions on Operator Overload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perator Functions as Class Members vs. as friend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verloading Stream-Insertion and Stream-Extraction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verloading Unary Operato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verloading Binary Operato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se Study: Array Clas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onverting between Typ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se Study: A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Clas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verloading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++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-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se Study: A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at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8.1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andard Library Classes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8C047-5512-4A82-BF48-E50540DB24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5  Overloading Stream-Insertion and Stream-Extraction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ready overloaded to process each built-in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also process a user-defined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honeNu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ds a telephon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 out formatted number automatic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123) 456-78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90B84-1E06-469C-87E2-B89C493D5E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3: fig08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ing the stream-insertion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eam-extraction operato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honeNumber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oneNumber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( ostream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oneNumber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( istream&amp;, PhoneNumber &amp;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eaCod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3-digit area code and n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xchang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3-digit exchange and n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n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4-digit line and n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Phone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523520" y="2819520"/>
            <a:ext cx="5105880" cy="2295000"/>
            <a:chOff x="1523520" y="2819520"/>
            <a:chExt cx="5105880" cy="2295000"/>
          </a:xfrm>
        </p:grpSpPr>
        <p:sp>
          <p:nvSpPr>
            <p:cNvPr id="115" name=""/>
            <p:cNvSpPr/>
            <p:nvPr/>
          </p:nvSpPr>
          <p:spPr>
            <a:xfrm>
              <a:off x="3186000" y="2819520"/>
              <a:ext cx="3443400" cy="2295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function prototypes for overloaded operato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gt;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y must be non-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, since the object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hone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ppears on the right of the op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n &lt;&lt; object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 &gt;&gt;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523520" y="2971800"/>
              <a:ext cx="1662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45B93-2568-4545-B291-D3E5790E5C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stream-insertion operator; cannot be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member function if we would like to invoke it with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ut &lt;&lt; somePhoneNumber;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( ostream &amp;outpu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oneNumber &amp;num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(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.areaCode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) "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num.exchang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-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num.line;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out &lt;&lt; a &lt;&lt; b &lt;&lt; c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&lt;&lt;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stream-extraction operator; cannot be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member function if we would like to invoke it with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n &gt;&gt; somePhoneNumber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( istream &amp;input, PhoneNumber &amp;num 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.ignore(); 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kip (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 &gt;&g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gt;&gt; num.areaCod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 area cod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.ignor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kip ) and 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 &gt;&g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gt;&gt; num.exchang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 exchange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.ignore();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kip dash (-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 &gt;&g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&gt;&gt; num.line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 line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in &gt;&gt; a &gt;&gt; b &gt;&gt; c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419360" y="1296720"/>
            <a:ext cx="4648320" cy="1438200"/>
            <a:chOff x="4419360" y="1296720"/>
            <a:chExt cx="4648320" cy="1438200"/>
          </a:xfrm>
        </p:grpSpPr>
        <p:sp>
          <p:nvSpPr>
            <p:cNvPr id="120" name=""/>
            <p:cNvSpPr/>
            <p:nvPr/>
          </p:nvSpPr>
          <p:spPr>
            <a:xfrm>
              <a:off x="5562720" y="1297080"/>
              <a:ext cx="3504960" cy="1437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expression: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 &lt;&lt; phone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 interpreted as the function call: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perator&lt;&lt;(cout, phone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ut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n alias for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cou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4419360" y="129672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133360" y="2362320"/>
            <a:ext cx="6820200" cy="2406960"/>
            <a:chOff x="2133360" y="2362320"/>
            <a:chExt cx="6820200" cy="2406960"/>
          </a:xfrm>
        </p:grpSpPr>
        <p:sp>
          <p:nvSpPr>
            <p:cNvPr id="123" name=""/>
            <p:cNvSpPr/>
            <p:nvPr/>
          </p:nvSpPr>
          <p:spPr>
            <a:xfrm>
              <a:off x="5067360" y="2971800"/>
              <a:ext cx="388620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allows objects to be cascaded.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 &lt;&lt; phone1 &lt;&lt; phone2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irst calls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perator&lt;&lt;(cout, phone1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d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ext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 &lt;&lt; phone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xecu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2133360" y="2362320"/>
              <a:ext cx="29336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880" y="3276720"/>
            <a:ext cx="4114800" cy="838080"/>
            <a:chOff x="1523880" y="3276720"/>
            <a:chExt cx="4114800" cy="838080"/>
          </a:xfrm>
        </p:grpSpPr>
        <p:sp>
          <p:nvSpPr>
            <p:cNvPr id="126" name=""/>
            <p:cNvSpPr/>
            <p:nvPr/>
          </p:nvSpPr>
          <p:spPr>
            <a:xfrm>
              <a:off x="2971800" y="32767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gnore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kips specified number of characters from input (1 by default)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523880" y="3429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438280" y="4495320"/>
            <a:ext cx="4114800" cy="1511280"/>
            <a:chOff x="2438280" y="4495320"/>
            <a:chExt cx="4114800" cy="1511280"/>
          </a:xfrm>
        </p:grpSpPr>
        <p:sp>
          <p:nvSpPr>
            <p:cNvPr id="129" name=""/>
            <p:cNvSpPr/>
            <p:nvPr/>
          </p:nvSpPr>
          <p:spPr>
            <a:xfrm>
              <a:off x="3886200" y="469584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ream manipul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stricts number of characters read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w(4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llows 3 characters to be read, leaving room for the null character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2438280" y="4495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FE81A-7A80-4D9E-980F-BA744BD414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&gt;&gt;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honeNumber phone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reate object phon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nter phone number in the form (123) 456-7890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in &gt;&gt; phone invokes operator&gt;&gt; by implicitly issu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non-member function call operator&gt;&gt;( cin, phon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phone;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he phone number entered wa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ut &lt;&lt; phone invokes operator&lt;&lt; by implicitly issu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non-member function call operator&lt;&lt;( cout, phon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phone &lt;&lt; endl;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029200"/>
            <a:ext cx="701028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phone number in the form (123) 456-7890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800) 555-12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phone number entered was: (800) 555-12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51D3E-52F5-4FBF-B0AD-0BA15AA2AA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6  Overloading Unary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unar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, no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member function, one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ment must be class object or reference to class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ember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only acce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73EE-C2EE-4F42-AEA9-6041E87EAE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6  Overloading Unary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 (8.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!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test for empty 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, needs no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!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com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.operator!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bool operator!() cons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n-member function, needs one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com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erator!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friend bool operator!( const String &amp; 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00F6A-304B-49BD-A2E0-0DF14BF1D0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  Overloading Binary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binar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, one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member function, two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argument must be class object or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, needs one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t String &amp;operator+=( const String &amp;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 += 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.operator+=( z 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D1356-ED44-4000-95FE-7C43B4E886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  Overloading Binary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n-member function, needs two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end const String &amp;operator+=(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&amp;, const String &amp;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 += 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+=( y, z 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A3B9C-D78F-4E9E-84CD-E061ED7458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8  Case Study: Array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in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range chec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be compared meaningfully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array assignment (array nam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er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input/output entire arrays at o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element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Implement a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nge chec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assig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that know their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ting/inputting entire array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&gt;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comparison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!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FF227-248F-4FD7-BDE8-115BCD3428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8  Case Study: Array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y constr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whenever copy of object nee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ing by value (return value or parame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ing an object with a copy of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 newArray( oldArray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Arr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py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ld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type for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( const Array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ake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, pass by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es to make copy by calling copy constructo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inite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7150F-DB5E-4DBA-8291-B7AFAE2852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perators with objects (operator overlo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earer than function calls for certain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 sensitive to cont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am insertion, bitwise left-sh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s arithmetic on multiple types (integers, float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discuss when to use operator over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F31A7-1DCD-4087-A507-58E04C892B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1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4: array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 class for storing arrays of intege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( ostream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( istream &amp;, Array &amp;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Array();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structor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iz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ssignment operator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quality operator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895480" y="3111480"/>
            <a:ext cx="4114800" cy="1536840"/>
            <a:chOff x="2895480" y="3111480"/>
            <a:chExt cx="4114800" cy="1536840"/>
          </a:xfrm>
        </p:grpSpPr>
        <p:sp>
          <p:nvSpPr>
            <p:cNvPr id="149" name=""/>
            <p:cNvSpPr/>
            <p:nvPr/>
          </p:nvSpPr>
          <p:spPr>
            <a:xfrm>
              <a:off x="4343400" y="31114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st operators overloaded as member functions (excep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gt;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which must be non-member functions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895480" y="3505320"/>
              <a:ext cx="14479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3123720" y="3111480"/>
              <a:ext cx="121932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666520" y="3885840"/>
            <a:ext cx="4877280" cy="766440"/>
            <a:chOff x="2666520" y="3885840"/>
            <a:chExt cx="4877280" cy="766440"/>
          </a:xfrm>
        </p:grpSpPr>
        <p:sp>
          <p:nvSpPr>
            <p:cNvPr id="153" name=""/>
            <p:cNvSpPr/>
            <p:nvPr/>
          </p:nvSpPr>
          <p:spPr>
            <a:xfrm>
              <a:off x="3962520" y="4314960"/>
              <a:ext cx="3581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totype for copy constr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2666520" y="3885840"/>
              <a:ext cx="12956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B49E8-6653-4C1B-B7A0-A929455950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1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equality operator; returns opposite of == operator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!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righ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! (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right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s Array::operator=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operator!=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bscript operator for non-const objects returns l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bscript operator for const objects returns r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inter to first element of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514240" y="1066320"/>
            <a:ext cx="3886560" cy="1296360"/>
            <a:chOff x="2514240" y="1066320"/>
            <a:chExt cx="3886560" cy="1296360"/>
          </a:xfrm>
        </p:grpSpPr>
        <p:sp>
          <p:nvSpPr>
            <p:cNvPr id="158" name=""/>
            <p:cNvSpPr/>
            <p:nvPr/>
          </p:nvSpPr>
          <p:spPr>
            <a:xfrm>
              <a:off x="3733920" y="12952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!=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 simply returns opposit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==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. Thus, only need to defin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==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2514240" y="106632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2CEFF-667B-43D7-902F-BE473C22CA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1.cpp (1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 8.5: array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 definitions for class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ew&gt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++ standard "new"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xit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1.h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 for class Array (default size 10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::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validate array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ize = ( arraySize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arraySize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[ size ]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pace for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E6D69-1B65-4358-B662-0B7C177B27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1.cpp (2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ize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tr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rray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constructor for class Arr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st receive a reference to prevent infinite recur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::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arrayToCop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size( arrayToCopy.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[ size ]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pace for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ize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tr[ i ] = arrayToCopy.ptr[ i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into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Array cop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 for class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::~Array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laim array 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133360" y="1523880"/>
            <a:ext cx="4953240" cy="838440"/>
            <a:chOff x="2133360" y="1523880"/>
            <a:chExt cx="4953240" cy="838440"/>
          </a:xfrm>
        </p:grpSpPr>
        <p:sp>
          <p:nvSpPr>
            <p:cNvPr id="165" name=""/>
            <p:cNvSpPr/>
            <p:nvPr/>
          </p:nvSpPr>
          <p:spPr>
            <a:xfrm>
              <a:off x="3581280" y="1523880"/>
              <a:ext cx="3505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e must declare a new integer array so the objects do not point to the same mem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2133360" y="1905120"/>
              <a:ext cx="1447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978DB-4EDE-4380-A563-4178BEB15F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1.cpp (3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ize of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::getSiz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assignment opera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 return avoids: ( a1 = a2 ) = a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Array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righ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&amp;right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 for self-assig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for arrays of different sizes, deallocate origin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eft-side array, then allocate new left-side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ize != right.siz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ptr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laim 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size = right.size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size this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size ]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pace for array cop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ner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 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ize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ptr[ i ] = right.ptr[ i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array into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er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57400" y="1676520"/>
            <a:ext cx="4419720" cy="838080"/>
            <a:chOff x="2057400" y="1676520"/>
            <a:chExt cx="4419720" cy="838080"/>
          </a:xfrm>
        </p:grpSpPr>
        <p:sp>
          <p:nvSpPr>
            <p:cNvPr id="170" name=""/>
            <p:cNvSpPr/>
            <p:nvPr/>
          </p:nvSpPr>
          <p:spPr>
            <a:xfrm>
              <a:off x="3505320" y="167652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ant to avoid self-assign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057400" y="1828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EB2F3-2D1A-480C-B487-CB4D2E8A95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1.cpp (4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enables x = y = z, for examp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operator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if two arrays are equal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true, otherwise return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righ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ize != right.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s of different siz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ize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ptr[ i ] != right.ptr[ i 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eturn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s are not equ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arrays are equ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=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8E210-3F60-47A2-A37C-9A42DC4F15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1.cpp (5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subscript operator for non-const Array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ference return creates an l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Array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bscrip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heck for subscript out of range err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ubscript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subscript &gt;= siz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rror: Subscript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ubscrip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ut of rang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rminate program; subscript out of 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[ subscript ]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ference retur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[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276360" y="838080"/>
            <a:ext cx="4648320" cy="1128960"/>
            <a:chOff x="3276360" y="838080"/>
            <a:chExt cx="4648320" cy="1128960"/>
          </a:xfrm>
        </p:grpSpPr>
        <p:sp>
          <p:nvSpPr>
            <p:cNvPr id="177" name=""/>
            <p:cNvSpPr/>
            <p:nvPr/>
          </p:nvSpPr>
          <p:spPr>
            <a:xfrm>
              <a:off x="4343400" y="1143000"/>
              <a:ext cx="3581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gers1[5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ll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gers1.operator[]( 5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3276360" y="838080"/>
              <a:ext cx="10666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057400" y="2438280"/>
            <a:ext cx="4800600" cy="580680"/>
            <a:chOff x="2057400" y="2438280"/>
            <a:chExt cx="4800600" cy="580680"/>
          </a:xfrm>
        </p:grpSpPr>
        <p:sp>
          <p:nvSpPr>
            <p:cNvPr id="180" name=""/>
            <p:cNvSpPr/>
            <p:nvPr/>
          </p:nvSpPr>
          <p:spPr>
            <a:xfrm>
              <a:off x="3505320" y="2438280"/>
              <a:ext cx="3352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xit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head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cstdlib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ends the progra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2057400" y="2438280"/>
              <a:ext cx="1447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9C8FD-54E4-4657-AB64-DD355796E8E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1.cpp (6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subscript operator for const Array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 reference return creates an r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Array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bscrip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heck for subscript out of range err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ubscript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subscript &gt;= siz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rror: Subscrip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ubscrip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ut of ran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rminate program; subscript out of 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[ subscript ]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 reference retur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operator[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input operator for class Arr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s values for entire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( istream &amp;input, Array &amp;a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.size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input &gt;&gt; a.ptr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in &gt;&gt; x &gt;&gt;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CD2E4-DA91-4D25-A070-66C9D20DB5B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ay1.cpp (7 of 7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output operator for class Arra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( ostream &amp;outpu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 &amp;a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private ptr-based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.size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.ptr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( i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4 numbers per row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outp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last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outp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out &lt;&lt; x &lt;&lt;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&lt;&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1FC12-7E45-4733-8AFF-101C0F65A29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6: fig08_0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 class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rray1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 integers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ven-element Arra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 integers2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10-element Array by defa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 integers1 size and contents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ize of array integers1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s1.getSize()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ray after initializa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 integers2 size and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 of array integers2 i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s2.get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ray after initializa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E42D4-8BCB-4568-8546-DEAE0258ADE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2  Fundamentals of Operator Overloa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ilt in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or user-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use existing operators with user-defined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create new op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 function for th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 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llowed by symb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erator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the addition operat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F2B73-840A-4E94-B0AA-21BA5D19CA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put and print integers1 and integers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put 17 integer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integers1 &gt;&gt; integers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input, the arrays contain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1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2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overloaded inequality (!=)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valuating: integers1 != integers2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gers1 != integers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1 and integers2 are not equal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array integers3 using integers1 as an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r; print size and contents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rray integers3( integers1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s cop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 of array integers3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s3.get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rray after initializa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0FA2D-9E33-46CD-97FF-5D31137621B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overloaded assignment (=)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ssigning integers2 to integers1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1 = integers2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te target is small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1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2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overloaded equality (==)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valuating: integers1 == integers2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gers1 == integers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1 and integers2 are equal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overloaded subscript operator to create r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tegers1[5]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overloaded subscript operator to create l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Assigning 1000 to integers1[5]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1:\n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integers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ttempt to use out-of-range subscript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ttempt to assign 1000 to integers1[15]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integers1[ 15 ] = 1000;  // ERROR: out of range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3E98C-A997-4AAD-9944-93C3076BF15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181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 of array integers1 is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after initializa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0           0        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0        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 of array integers2 is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after initializa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0           0        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0           0        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17 integer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 6 7 8 9 10 11 12 13 14 15 16 1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put, the arrays contai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2           3          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6          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2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  13          14         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CBA8B-4AC4-491A-8AC9-87649217B83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uating: integers1 != integers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 and integers2 are not equ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 of array integers3 is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after initializa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2           3          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6          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integers2 to integers1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  13          14         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2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  13          14         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uating: integers1 == integers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 and integers2 are equ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[5] is 1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B8B68-CEE6-4E84-96A0-FA7BA8AC0B0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1000 to integers1[5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1000          14         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empt to assign 1000 to integers1[15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: Subscript 15 out of 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3BE0E-3BE9-43C5-833F-6610B17FD0F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9  Converting between 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ditionally, cast integers to floats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need to convert between user-defined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t operator (conversion oper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vert fro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 to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to built-in typ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b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 not specify return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icitly returns type to which you are conve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32C89-F7C7-42AB-B117-6A6D9F97ADF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9  Converting between 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:operator char *() 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ts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 temporar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har *)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.operator char*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:operator int() 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:operator OtherClass() 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81194-27B2-478C-B7EE-65A08873485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9  Converting between 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ting can prevent need for over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be cas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s; // s is a 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iler implicitly conver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 not have to overloa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can only do 1 ca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681A3-0F7B-431C-9FFF-246068B6B6D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0  Case Study: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ring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ng creation, manipu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standard library (more Chapter 1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constr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-argument con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urns objects of other types into class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s1(“hi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y single-argument constructor is a conversion con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4C36B-19CF-4319-B724-913969C8C23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h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7: string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ing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RING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RING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i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( ostream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( istream &amp;, String &amp;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version/default 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constructor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String();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assignment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cate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!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 String empty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s1 == s2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s1 &lt; s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514600" y="2590920"/>
            <a:ext cx="4114800" cy="838080"/>
            <a:chOff x="2514600" y="2590920"/>
            <a:chExt cx="4114800" cy="838080"/>
          </a:xfrm>
        </p:grpSpPr>
        <p:sp>
          <p:nvSpPr>
            <p:cNvPr id="209" name=""/>
            <p:cNvSpPr/>
            <p:nvPr/>
          </p:nvSpPr>
          <p:spPr>
            <a:xfrm>
              <a:off x="3962520" y="2590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version constructor to mak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rom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 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2514600" y="2743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276360" y="3733920"/>
            <a:ext cx="4419360" cy="2284200"/>
            <a:chOff x="3276360" y="3733920"/>
            <a:chExt cx="4419360" cy="2284200"/>
          </a:xfrm>
        </p:grpSpPr>
        <p:sp>
          <p:nvSpPr>
            <p:cNvPr id="212" name=""/>
            <p:cNvSpPr/>
            <p:nvPr/>
          </p:nvSpPr>
          <p:spPr>
            <a:xfrm>
              <a:off x="4831560" y="3733920"/>
              <a:ext cx="2864160" cy="2284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 += s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terpreted 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.operator+=(s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 also concatenate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 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cause the compiler will cas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 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gument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However, it can only do 1 level of cast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3276360" y="3886200"/>
              <a:ext cx="15548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9925F-593D-4827-9C36-A2EA1F3F3F8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2  Fundamentals of Operator Overloa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operators on a clas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 must be overloaded for that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p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ment operator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berwise assignment between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ress operator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ddress of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can be overloa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provides concise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bject2 = object1.add(object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bject2 = object2 + object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55F4-B98F-4ADE-813B-803BD48E7D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h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095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s1 != s2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!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 righ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!(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right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!=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s1 &gt; s2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righ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ight &lt;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&gt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s1 &lt;= s2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righ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!( right &lt;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operator &lt;=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s1 &gt;= s2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righ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!(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 right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&gt;=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D0FC8-75F8-4DD1-B0F2-E17BB3B2B14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h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ubscript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ubscript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a sub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Length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string leng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ing lengt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Ptr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ointer to start of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trin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tility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209680" y="1295280"/>
            <a:ext cx="4114800" cy="1220040"/>
            <a:chOff x="2209680" y="1295280"/>
            <a:chExt cx="4114800" cy="1220040"/>
          </a:xfrm>
        </p:grpSpPr>
        <p:sp>
          <p:nvSpPr>
            <p:cNvPr id="219" name=""/>
            <p:cNvSpPr/>
            <p:nvPr/>
          </p:nvSpPr>
          <p:spPr>
            <a:xfrm>
              <a:off x="3657600" y="14479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verload the function call oper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return a substring. This operator can have any amount of operand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2209680" y="1295280"/>
              <a:ext cx="1447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971800" y="152280"/>
            <a:ext cx="4114800" cy="824040"/>
            <a:chOff x="2971800" y="152280"/>
            <a:chExt cx="4114800" cy="824040"/>
          </a:xfrm>
        </p:grpSpPr>
        <p:sp>
          <p:nvSpPr>
            <p:cNvPr id="222" name=""/>
            <p:cNvSpPr/>
            <p:nvPr/>
          </p:nvSpPr>
          <p:spPr>
            <a:xfrm>
              <a:off x="4419720" y="152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wo overloaded subscript operators,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971800" y="304920"/>
              <a:ext cx="1447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4417D-3192-4729-89E8-2D1AFA19DB5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cpp (1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8: string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 definitions for class Strin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ew&gt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++ standard "new"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cpy and strcat proto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xit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.h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ing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version constructor converts char * to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::Strin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 *s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length( strlen( s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version constructo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String( s )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utility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String conversion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A694F-DFEF-4E59-9D0E-9F11360739A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cpp (2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::Strin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cop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length( copy.length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py constructo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opy.sPtr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String( copy.sPtr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utility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tring cop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::~String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structo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Pt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sPtr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claim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~String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= operator; avoids self assig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String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righ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perator= called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&amp;right !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avoid self assig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sPtr;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vents memory lea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ength = right.length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ew String leng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tring( right.sPtr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all utility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CD1F2-6B9C-4067-BB9A-1FF54093880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cpp (3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ttempted assignment of a String to itself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ascaded assign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catenate right operand to this object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ore in this objec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String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righ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ize_t newLength = length + right.length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ew leng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temp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newLength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mem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cpy( tempPtr, sPtr );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s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cpy( tempPtr + length, right.sPtr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right.s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sPtr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laim old 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Ptr = tempPtr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new array to s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ength = newLength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new length to leng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ascaded cal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+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2D8EB-4B1E-41A2-AED7-AC43F982628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cpp (4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 this String empty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!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!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 this String equal to right String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righ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cmp( sPtr, right.sPtr )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=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 this String less than right String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righ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cmp( sPtr, right.sPtr )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operator&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74A59-D0CE-4E4E-AB85-C69D0282F11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cpp (5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77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eference to character in String as l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String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bscrip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for subscript out of 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subscript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subscript &gt;= length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rror: Subscript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ubscrip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out of ran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rminate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Ptr[ subscript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s l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[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reference to character in String as r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String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bscript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for subscript out of 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ubscript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subscript &gt;= length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rror: Subscrip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ubscrip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ut of rang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xi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rminate pr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Ptr[ subscript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s r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[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7E594-1B90-46CB-A71A-6B9B11D8694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cpp (6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a substring beginning at index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f length subLeng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tring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de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bLength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f index is out of range or substring length &lt; 0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an empty String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dex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index &gt;= length || subLengt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verted to a String object automatica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termine length of sub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( subLength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|| ( index + subLength &gt; length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en = length - inde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len = subLeng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llocate temporary array for substring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rminating null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temp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len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py substring into char array and terminate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ncpy( tempPtr, &amp;sPtr[ index ], len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mpPtr[ len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73B5A-BD80-43AF-BD98-A92B097C0DA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cpp (7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reate temporary String object containing the sub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tempString( tempPt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temp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lete temporary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mpString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copy of the temporary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tring leng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::getLength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Len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tility function called by constructors and operator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3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::setStrin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length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locate mem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cpy( sPtr, string2 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py literal to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Str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C57E7-C373-454D-96C2-458405EC612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ing1.cpp (8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output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( ostream &amp;outpu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&amp;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 &lt;&lt; s.s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asca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&lt;&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input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( istream &amp;input, String &amp;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mp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buffer to store in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 &gt;&g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gt;&gt; tem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 = temp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String class assignment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asca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&gt;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73372-2D36-415B-A94C-158452E92B2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8.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Restrictions on Operator Overloa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 operators act on built-in data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, cannot change integer ad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cedence of operator (order of evalu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arentheses to force order-of-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ociativity (left-to-right or right-to-lef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opera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unitary, only acts on one ope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create new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s must be overloaded explici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oes not overloa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3533-F302-4297-A048-9CC9BECECD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9: fig08_0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ing class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app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birth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overloaded equality and relational oper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1 is \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; s2 is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; s3 is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3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"'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results of comparing s2 and s1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== s1 yield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==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!= s1 yield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!=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&gt;  s1 yield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&gt;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 : "fals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E8AED-6D7D-4EA7-BD91-353CB9BAC73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&lt;  s1 yield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&lt; s1 ?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s2 &gt;= s1 yield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&gt;=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&lt;= s1 yield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&lt;=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overloaded String empty (!)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esting !s3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s3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3 is empty; assigning s1 to s3;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3 = s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overloaded assig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3 is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3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overloaded String concatenation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1 += s2 yields s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1 += s2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overloaded concate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conversion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1 += \" to you\" yields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1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to you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conversion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1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D1BE3-7F33-4A4D-A686-8DA72F4CE69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overloaded function call operator () for sub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ubstring of s1 starting at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tion 0 for 14 characters, s1(0, 14), is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substring "to-end-of-String" o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he substring of s1 starting at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tion 15, s1(15, 0),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is "to end of string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cop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*s4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*s4Ptr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*s4Pt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assignment (=) operator with self-assig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ssigning *s4Ptr to *s4Pt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s4Ptr = *s4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overloaded assig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*s4Ptr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*s4Ptr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4Ptr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7DCD9-6A45-4EA8-9E7D-A32E6FA28DD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using subscript operator to create lvalue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H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B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1 after s1[0] = 'H' and s1[6] = 'B'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test subscript out of range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ttempt to assign 'd' to s1[30] yields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s1[ 30 ] = 'd';     // ERROR: subscript out of range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0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F9291-CC47-4749-8246-37A6A0B953C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happ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 birth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is "happy"; s2 is " birthday"; s3 is "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sults of comparing s2 and s1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== s1 yields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!= s1 yields tr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gt;  s1 yields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lt;  s1 yields tr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gt;= s1 yields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lt;= s1 yields tr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!s3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3 is empty; assigning s1 to s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=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3 is "happy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+= s2 yields s1 = happy birth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+= " to you" yiel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 = happy birthday to you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819160" y="3886200"/>
            <a:ext cx="4115160" cy="1310760"/>
            <a:chOff x="2819160" y="3886200"/>
            <a:chExt cx="4115160" cy="1310760"/>
          </a:xfrm>
        </p:grpSpPr>
        <p:sp>
          <p:nvSpPr>
            <p:cNvPr id="251" name=""/>
            <p:cNvSpPr/>
            <p:nvPr/>
          </p:nvSpPr>
          <p:spPr>
            <a:xfrm>
              <a:off x="4267080" y="388620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constructor and destructor are called for the temporar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converted from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 * “to you”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819160" y="40384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9F0BE-3E07-4994-94A3-1CF46209D04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happy birth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happy birth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bstring of s1 starting 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on 0 for 14 characters, s1(0, 14), i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appy birth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bstring of s1 starting 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on 15, s1(15, 0), is: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happy birthday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s4Ptr = happy birthday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*s4Ptr to *s4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=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empted assignment of a String to itsel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s4Ptr = happy birthday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881E8-F0C5-436E-AB34-FAB29575AE8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after s1[0] = 'H' and s1[6] = 'B' is: Happy Birthday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empt to assign 'd' to s1[30] yield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: Subscript 30 out of 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5F327-220D-47FC-919A-BAE49CAE54E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1  Overload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++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--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/decrement operators can be over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 1 to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type (member func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e &amp;operator++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d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.operator++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type (non-memb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Date &amp;operator++( Date &amp;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d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erator++( d1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C204F-4E08-4851-9FEA-E416F0F073D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1  Overload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++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--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istinguish pre/post inc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t increment has a dummy parame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type (member func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e operator++( in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+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.operator++( 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type (non-memb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Date operator++( Data &amp;, in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+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erator++( d1, 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er parameter does not have a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even in function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9357-C6A7-4F2C-8EE6-66F730C7F46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1  Overload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++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--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inc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by referenc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e 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value (can be as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tinc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by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temporary object with old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value (cannot be on left side of assign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ment operator analog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29D3F-50C5-4C45-8911-2DB904C2B16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8.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Restrictions on Operator Overloa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4920" y="4343400"/>
          <a:ext cx="8076960" cy="99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343400"/>
                    <a:ext cx="807696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-533520" y="1219320"/>
          <a:ext cx="9677520" cy="2287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533520" y="1219320"/>
                    <a:ext cx="9677520" cy="22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DE1F-4506-4517-B002-824F1C0688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2  Case Study: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at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increment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 day, month and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to test for leap yea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to determine if day is last of mon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7EB04-4824-4BDB-A72A-D1F024CC403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10: date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e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ostrea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( ostream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D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the 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();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increment operat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ostincrement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days, modify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apYea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 this a leap year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ndOfMont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is this end of month?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514600" y="2743200"/>
            <a:ext cx="4114800" cy="838080"/>
            <a:chOff x="2514600" y="2743200"/>
            <a:chExt cx="4114800" cy="838080"/>
          </a:xfrm>
        </p:grpSpPr>
        <p:sp>
          <p:nvSpPr>
            <p:cNvPr id="268" name=""/>
            <p:cNvSpPr/>
            <p:nvPr/>
          </p:nvSpPr>
          <p:spPr>
            <a:xfrm>
              <a:off x="3962520" y="2743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difference between pre and post incr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514600" y="2895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9C960-495E-4ACE-A5DC-B7B55C997A7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e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 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ys[]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 of days per mon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lpIncrement(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tility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92C12-1440-479F-8F08-5D2A3C3B2B6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cpp 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11: date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e class member function defini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date1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static member at file scop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ne class-wide cop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::days[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::D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Date( m, d, y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at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onth, day and 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::setD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m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d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onth = ( mm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mm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mm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ear = ( yy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yy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yy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24DDE-C498-470C-B69D-01428BFD521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cpp 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for a leap 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onth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leapYear( year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y = ( dd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dd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dd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ay = ( dd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dd &lt;= days[ month ] ) ? dd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preincrement operator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&amp;Date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()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elpIncrement();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ference return to create an l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++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postincrement operator; note that the dumm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ger parameter does not have a parameter name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Date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temp =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old current state of 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elpIncrement();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unincremented, saved, temporary object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mp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lue return; not a reference retur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++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666880" y="3429000"/>
            <a:ext cx="4114800" cy="2527560"/>
            <a:chOff x="2666880" y="3429000"/>
            <a:chExt cx="4114800" cy="2527560"/>
          </a:xfrm>
        </p:grpSpPr>
        <p:sp>
          <p:nvSpPr>
            <p:cNvPr id="277" name=""/>
            <p:cNvSpPr/>
            <p:nvPr/>
          </p:nvSpPr>
          <p:spPr>
            <a:xfrm>
              <a:off x="4114800" y="3429000"/>
              <a:ext cx="2666880" cy="2527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stincrement updates object and returns a copy of the original. Do not return a reference to temp, because it is a local variable that will be destroyed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so note that the integer parameter does not have a 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2666880" y="3581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11FB1-D0E2-4C41-A017-24EAB41F62B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cpp 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specified number of days to 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&amp;Date::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=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itionalDay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dditionalDays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helpIncre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ables casca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perator+=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the year is a leap year, return tru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therwise, return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::leapYea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Year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estYea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testYea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testYea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leap 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t a leap 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leap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DBF16-956A-4407-A23E-748F8981714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cpp 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the day is the last day of the mon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::endOfMont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Day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onth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leapYear( year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Day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ast day of Feb. in leap 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Day == days[ month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endOfMon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help increment the 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::helpIncreme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ay is not end of mon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!endOfMonth( day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+d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ay is end of month and month &lt; 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ont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+mon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558AA-E499-42B9-AEAB-C6718B78C29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cpp (5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ast day of 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++ye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on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da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helpIncr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verloaded output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ream &amp;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operat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( ostream &amp;outpu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&amp;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month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nua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Februar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arc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pri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Jun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ul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ugus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ptem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cto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ovem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cembe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 &lt;&lt; monthName[ d.month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&lt;&lt; d.da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.ye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asca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operator&lt;&l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63358-1E37-4BFE-8F92-54D91DB2F31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12: fig08_1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e class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e1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d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s to January 1, 19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d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9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d3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0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alid 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1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2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3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d2 += 7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( d2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3.setDa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9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  d3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++d3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++d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d4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75D87-0D62-408E-9749-DD46652D654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esting the preincrement operator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d4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d4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;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++d4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++d4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d4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d4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Testing the postincrement operator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d4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d4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4++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d4++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 d4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4 &lt;&lt; endl;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52F54-9EED-451B-9E73-9A5828F5169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  Operator Functions As Class Members Vs. As Friend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eyword to implicitly get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s left operand for binary operators (li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ftmost object must be of same class as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parameters for both oper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object of different class than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cce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ed w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ft operand of binary operator of sam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operand of unitary operator of sam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D29A-08A8-420D-848B-26C5C5AFBE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91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1 is January 1, 19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is December 27, 199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January 1, 19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+= 7 is January 3, 199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February 28, 199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3 is February 29, 199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reincrement operator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July 13, 200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4 is July 14, 200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July 14, 200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ostincrement operator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July 14, 200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++ is July 14, 200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July 15, 200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D09BE-B934-401F-82FC-AEE4F756448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andard Library Classes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tring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vecto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built into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vailable for anyone to 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ou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ally resizable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ou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CE455-1149-4ED2-8D94-6CB9623A190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andard Library Classes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tring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vecto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amespa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initializ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s1(“hi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relational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 != &gt;= &gt; &lt;= 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ment operator 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catenation (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57AA0-FA75-4066-96DC-F93F84CD7D8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andard Library Classes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tring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vecto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string 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bst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substr(0, 14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s at location 0, gets 14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substr(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tring beginning at location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one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range checking (if subscript inval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at(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 at subscript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bounds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end program if invalid (learn more in Chapter 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6D966-A3AB-47EC-A75E-AD57723CF8BB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13: fig08_1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library string class test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tring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tring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app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birthda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s3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overloaded equality and relational operato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1 is \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; s2 is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; s3 is \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3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"'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results of comparing s2 and s1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== s1 yield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==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!= s1 yield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!=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EA7E6-F03A-4F1A-B561-2BE68F66BE6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&gt;  s1 yield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&gt;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&lt;  s1 yield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&lt;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&gt;= s1 yield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&gt;=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&lt;= s1 yield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s2 &lt;= s1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r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ls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string member function empt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esting s3.empty()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3.empty()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3 is empty; assigning s1 to s3;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3 = s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s1 to s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3 is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3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overloaded string concatenation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1 += s2 yields s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1 += s2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overloaded concate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E2468-2134-4696-B895-648E918CD5C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overloaded string concatenation operat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ith C-style str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1 += \" to you\" yields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1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to you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string member function subs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ubstring of s1 starting at location 0 fo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4 characters, s1.substr(0, 14), is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1.subst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substr "to-end-of-string" op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ubstring of s1 starting at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tion 15, s1.substr(15), is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1.subst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cop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ing *s4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*s4Ptr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*s4Pt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assignment (=) operator with self-assig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ssigning *s4Ptr to *s4Pt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s4Ptr = *s4Ptr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*s4Ptr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*s4Pt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E7340-B143-4E85-942F-E906FF73202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4Ptr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using subscript operator to create l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H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B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1 after s1[0] = 'H' and s1[6] = 'B'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st subscript out of range with string member function "at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ttempt to assign 'd' to s1.at( 30 ) yields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s1.at( 30 ) = 'd';     // ERROR: subscript out of 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22CC9-ADB6-44E9-A101-8BD2DA3C9CA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is "happy"; s2 is " birthday"; s3 is "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sults of comparing s2 and s1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== s1 yields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!= s1 yields tr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gt;  s1 yields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lt;  s1 yields tr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gt;= s1 yields fa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lt;= s1 yields tr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s3.empty()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3 is empty; assigning s1 to s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3 is "happy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+= s2 yields s1 = happy birth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+= " to you" yiel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happy birthday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bstring of s1 starting at location 0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 characters, s1.substr(0, 14), i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appy birth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2FE64-6603-4E3B-942E-E6AF64E5B90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200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bstring of s1 starting 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on 15, s1.substr(15), i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s4Ptr = happy birthday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*s4Ptr to *s4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s4Ptr = happy birthday to you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after s1[0] = 'H' and s1[6] = 'B' is: Happy Birthday to yo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empt to assign 'd' to s1.at( 30 ) yield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bnormal program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F52D2-9D16-466C-94E9-181F52365DE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  Operator Functions As Class Members Vs. As Friend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ft operand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eam 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h a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class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ly, 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eed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tream 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us, both must be non-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7EC14-F6F0-4AFE-9975-8616E8F6B1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andard Library Classes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tring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vecto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vector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namespa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 any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tor&lt; int &gt; myArray(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Array.size(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specific element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Array[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equality, equality, 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14B7-ECFD-4E4F-B282-1DE666528B9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8.14: fig08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standard library class vecto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ector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vecto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Vecto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Vector( 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egers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7-element vector&lt; int &g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egers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0-element vector&lt; int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97658-50D1-49D6-90D3-AFBB911091C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integers1 size and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ize of vector integers1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s1.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after initializa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Vector( integers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integers2 size and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 of vector integers2 i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s2.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after initializa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Vector( integers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 and print integers1 and integers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put 17 integer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Vector( integers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putVector( integers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input, the vectors contain: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1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Vector( integers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2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Vector( integers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overloaded inequality (!=)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valuating: integers1 != integers2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44EA1-8CC3-4B0E-93EC-0B113DC98A96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gers1 != integers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1 and integers2 are not equal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vector integers3 using integers1 as an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r; print size and contents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integers3( integers1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 of vector integers3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integers3.siz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ector after initializa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Vector( integers3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overloaded assignment (=) operator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ssigning integers2 to integers1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1 = integers2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ntegers1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Vector( integers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2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Vector( integers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D67DB-5E55-4E6E-B40C-64078399B156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overloaded equality (==)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Evaluating: integers1 == integers2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egers1 == integers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1 and integers2 are equal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overloaded subscript operator to create r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integers1[5]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egers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overloaded subscript operator to create l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ssigning 1000 to integers1[5]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gers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gers1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utputVector( integers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tempt to use out of range subscrip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ttempt to assign 1000 to integers1.at( 15 )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integers1.at( 15 ) = 1000;  // ERROR: out of 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DE4D2-5E16-4F9D-9FF0-21AC6AF1BFDE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vector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utputVecto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&amp;arra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nt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rray.size()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rray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( i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0 )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4 numbers per row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outputVe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 vector cont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Vector( vector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&amp;arra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rray.size()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array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nputVe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0E679-6514-4D0B-80B4-14D0620625B4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 of vector integers1 is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after initializa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0           0        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0        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 of vector integers2 is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after initializa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0           0        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0           0        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17 integer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2 3 4 5 6 7 8 9 10 11 12 13 14 15 16 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put, the vectors contai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2           3          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6          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2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  13          14         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uating: integers1 != integers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 and integers2 are not equ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0EF7F-437A-4E4D-9F2D-F84D816FFC62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8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477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 of vector integers3 is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 after initializa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2           3          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6          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integers2 to integers1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  13          14         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2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  13          14         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uating: integers1 == integers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 and integers2 are equ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[5] is 1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1000 to integers1[5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1000          14          1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empt to assign 1000 to integers1.at( 15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bnormal program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1F675-CD68-408D-901D-E9DE32F8349E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  Operator Functions As Class Members Vs. As Friend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tative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wa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be commutativ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both 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+ 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and 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+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we have two different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operator can only be member function when its class is on le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ugeIntClass + Long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memb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other way, need a non-member overload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 int + HugeInt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E3D48-20A6-4DBF-B98B-7D8BBECB46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19:55:00Z</dcterms:created>
  <dc:creator>kalid</dc:creator>
  <dc:description/>
  <dc:language>en-US</dc:language>
  <cp:lastModifiedBy>Pearson Education</cp:lastModifiedBy>
  <dcterms:modified xsi:type="dcterms:W3CDTF">2002-08-08T15:25:32Z</dcterms:modified>
  <cp:revision>621</cp:revision>
  <dc:subject/>
  <dc:title>Chapter 8 - Operator Overloading</dc:title>
</cp:coreProperties>
</file>