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BB14-5E46-4A6D-83C0-CD4C30E4C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8C2C-D97E-4F51-9A65-6F51E9454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819E-3287-4581-BDE2-C9ECFFA8E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BFBB-EC12-45A4-AD8B-04B9AD62C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768F-63E0-4CCE-BBD1-20EF11086B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8692-23F6-4C2A-AF74-31E9340BAC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7A81-CA82-416B-8BAD-365A345D6C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C150-F3BB-48B6-8473-470CD2B1CE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85D2-5B50-49C2-ACE6-EDF5783511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944F-4A8E-4047-8B77-2A466EF188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1E62-AA3F-4EF0-8A9A-6F9B294A90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A03D-DA3D-45FD-811E-DE56D9609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1C56-4146-4D8C-BCD2-D00D0E8C5C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A265-6F99-4E5E-A59D-34DD878079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5457B-9D8B-4F28-94C4-34E0236990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F75A-AE67-4F60-AA36-CB71B07622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BDD9-CA22-48D6-8459-5EBEDF22AA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8ACF-0C24-47F1-AC4D-D2E36EBB1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0D92-1083-41E2-9AE9-5260D16FE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E89C-06CB-4398-8E59-153FB2B5A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6FF6-4844-43D8-8424-81BD05B4E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C8A9-62D8-4B03-9536-BE8B89A4B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95D3-EEE8-49E1-968E-B0E4C6C40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8003-D191-407B-9C54-ACFACC481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3CE5-E3DB-4A2C-98B6-D26044BD4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11A3-C858-4041-96EA-7DE54E0A0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7: Classes Part I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95280"/>
            <a:ext cx="807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1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2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Constant) Object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Member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3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osition: Objects as Members of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4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rie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Function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rie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lass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5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oint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6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ynamic Memory Management with Operator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let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7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lass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ta Abstraction and Information Hid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.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Array Abstract Data Ty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.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String Abstract Data Ty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8.3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ample: Queue Abstract Data Typ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9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ainer Classes and It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10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xy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F0DE-2CC6-4D9B-B1E9-5281E7783F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2840" y="2057400"/>
            <a:ext cx="4343760" cy="1406520"/>
            <a:chOff x="2742840" y="2057400"/>
            <a:chExt cx="4343760" cy="1406520"/>
          </a:xfrm>
        </p:grpSpPr>
        <p:sp>
          <p:nvSpPr>
            <p:cNvPr id="114" name=""/>
            <p:cNvSpPr/>
            <p:nvPr/>
          </p:nvSpPr>
          <p:spPr>
            <a:xfrm>
              <a:off x="4419720" y="26258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do not modify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71800" y="277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742840" y="2057400"/>
              <a:ext cx="16765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047B-D99D-4173-9E35-B9D312F66D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 lack of const 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352320" y="574560"/>
            <a:ext cx="4343760" cy="1406520"/>
            <a:chOff x="3352320" y="574560"/>
            <a:chExt cx="4343760" cy="1406520"/>
          </a:xfrm>
        </p:grpSpPr>
        <p:sp>
          <p:nvSpPr>
            <p:cNvPr id="120" name=""/>
            <p:cNvSpPr/>
            <p:nvPr/>
          </p:nvSpPr>
          <p:spPr>
            <a:xfrm>
              <a:off x="502920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do not modify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5812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3352320" y="574560"/>
              <a:ext cx="16765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05ED-2EF1-433D-A863-B4899B708C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3: fig07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access a const object 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 member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Time class definition from tim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5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wakeUp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n-consta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no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a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352680" y="1600200"/>
            <a:ext cx="4114800" cy="838080"/>
            <a:chOff x="3352680" y="1600200"/>
            <a:chExt cx="4114800" cy="838080"/>
          </a:xfrm>
        </p:grpSpPr>
        <p:sp>
          <p:nvSpPr>
            <p:cNvPr id="126" name=""/>
            <p:cNvSpPr/>
            <p:nvPr/>
          </p:nvSpPr>
          <p:spPr>
            <a:xfrm>
              <a:off x="480060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o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35268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52120" y="2590920"/>
            <a:ext cx="3886560" cy="1052640"/>
            <a:chOff x="1752120" y="2590920"/>
            <a:chExt cx="3886560" cy="1052640"/>
          </a:xfrm>
        </p:grpSpPr>
        <p:sp>
          <p:nvSpPr>
            <p:cNvPr id="129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at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can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752120" y="259092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3AA0-16A7-4327-848B-195D63E064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OBJECT      MEMBER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akeUp.setHou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n-const   non-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noon.setHour( 12 );    // const       non-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akeUp.getHour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  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on.getMinute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     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oon.printUnivers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     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noon.printStandard();  // const       non-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50532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1\fig07_01.cpp(16) : error C2662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setHour' : cannot convert 'this' pointer from 'const class Time'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1\fig07_01.cpp(23) : error C2662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printStandard' : cannot convert 'this' pointer from 'const cla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version loses qualif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990360"/>
            <a:ext cx="4572000" cy="2667240"/>
            <a:chOff x="2514600" y="990360"/>
            <a:chExt cx="4572000" cy="2667240"/>
          </a:xfrm>
        </p:grpSpPr>
        <p:sp>
          <p:nvSpPr>
            <p:cNvPr id="135" name=""/>
            <p:cNvSpPr/>
            <p:nvPr/>
          </p:nvSpPr>
          <p:spPr>
            <a:xfrm>
              <a:off x="441972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invoke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results in compiler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971800" y="1600200"/>
              <a:ext cx="14479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514600" y="990360"/>
              <a:ext cx="1905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66880" y="2476440"/>
            <a:ext cx="4572000" cy="2019240"/>
            <a:chOff x="2666880" y="2476440"/>
            <a:chExt cx="4572000" cy="2019240"/>
          </a:xfrm>
        </p:grpSpPr>
        <p:sp>
          <p:nvSpPr>
            <p:cNvPr id="139" name=""/>
            <p:cNvSpPr/>
            <p:nvPr/>
          </p:nvSpPr>
          <p:spPr>
            <a:xfrm>
              <a:off x="4572000" y="293364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invoke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results in compiler error even if function does not modify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504960" y="3086280"/>
              <a:ext cx="1066680" cy="14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666880" y="2476440"/>
              <a:ext cx="1905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510E-DFEE-4410-A99B-BE1E65B38D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initializer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ing with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us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us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embers that are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CC68-5E19-4CFD-8576-6DF065AA51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4: fig07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member initializer to initialize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ant of a built-in data typ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crem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 += increm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add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prints count and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239D-1AFF-4645-BD9E-0605F75ED5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::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count( c ),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itializer for non-const member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increment( i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quired initializer for const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creme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count and increm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increme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cr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90560" y="761760"/>
            <a:ext cx="4115160" cy="961920"/>
            <a:chOff x="2590560" y="761760"/>
            <a:chExt cx="4115160" cy="961920"/>
          </a:xfrm>
        </p:grpSpPr>
        <p:sp>
          <p:nvSpPr>
            <p:cNvPr id="149" name=""/>
            <p:cNvSpPr/>
            <p:nvPr/>
          </p:nvSpPr>
          <p:spPr>
            <a:xfrm>
              <a:off x="4038480" y="1143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crement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590560" y="761760"/>
              <a:ext cx="1447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62120" y="1143000"/>
            <a:ext cx="4114800" cy="838080"/>
            <a:chOff x="762120" y="1143000"/>
            <a:chExt cx="4114800" cy="838080"/>
          </a:xfrm>
        </p:grpSpPr>
        <p:sp>
          <p:nvSpPr>
            <p:cNvPr id="152" name=""/>
            <p:cNvSpPr/>
            <p:nvPr/>
          </p:nvSpPr>
          <p:spPr>
            <a:xfrm>
              <a:off x="2210040" y="1143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list separated from parameter list by col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6212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905120" y="1447920"/>
            <a:ext cx="3886200" cy="824040"/>
            <a:chOff x="1905120" y="1447920"/>
            <a:chExt cx="3886200" cy="824040"/>
          </a:xfrm>
        </p:grpSpPr>
        <p:sp>
          <p:nvSpPr>
            <p:cNvPr id="155" name=""/>
            <p:cNvSpPr/>
            <p:nvPr/>
          </p:nvSpPr>
          <p:spPr>
            <a:xfrm>
              <a:off x="3124080" y="14479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syntax can be used for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905120" y="1600200"/>
              <a:ext cx="1218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09680" y="1755720"/>
            <a:ext cx="3886200" cy="824040"/>
            <a:chOff x="2209680" y="1755720"/>
            <a:chExt cx="3886200" cy="824040"/>
          </a:xfrm>
        </p:grpSpPr>
        <p:sp>
          <p:nvSpPr>
            <p:cNvPr id="158" name=""/>
            <p:cNvSpPr/>
            <p:nvPr/>
          </p:nvSpPr>
          <p:spPr>
            <a:xfrm>
              <a:off x="3428640" y="17557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syntax must be us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09680" y="1908000"/>
              <a:ext cx="1218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52480" y="2336760"/>
            <a:ext cx="4114800" cy="1841040"/>
            <a:chOff x="1752480" y="2336760"/>
            <a:chExt cx="4114800" cy="1841040"/>
          </a:xfrm>
        </p:grpSpPr>
        <p:sp>
          <p:nvSpPr>
            <p:cNvPr id="161" name=""/>
            <p:cNvSpPr/>
            <p:nvPr/>
          </p:nvSpPr>
          <p:spPr>
            <a:xfrm>
              <a:off x="3200400" y="286704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consists of data member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followed by parentheses containing initial valu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1752480" y="2336760"/>
              <a:ext cx="144792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76D4-FA61-4CB7-8632-3B5ACFD6A5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 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increment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addIncr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cr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733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incrementing: count = 1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crement 1: count = 1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crement 2: count = 2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increment 3: count = 2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1FB4-4389-48DB-980F-624C665BC2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5: fig07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initialize a constant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built-in data type with an assignm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ncreme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nt += increment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dd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s count and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5210-3B6A-4034-B683-D4B70B4606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::Incr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ant member 'increment' is not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= c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ed because count is not consta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increment = i;  // ERROR: Cannot modify a const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crement constructor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count and increme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increment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cr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90560" y="761760"/>
            <a:ext cx="4115160" cy="961920"/>
            <a:chOff x="2590560" y="761760"/>
            <a:chExt cx="4115160" cy="961920"/>
          </a:xfrm>
        </p:grpSpPr>
        <p:sp>
          <p:nvSpPr>
            <p:cNvPr id="171" name=""/>
            <p:cNvSpPr/>
            <p:nvPr/>
          </p:nvSpPr>
          <p:spPr>
            <a:xfrm>
              <a:off x="4038480" y="11430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crement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761760"/>
              <a:ext cx="1447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057400" y="1600200"/>
            <a:ext cx="4114800" cy="838080"/>
            <a:chOff x="2057400" y="1600200"/>
            <a:chExt cx="4114800" cy="838080"/>
          </a:xfrm>
        </p:grpSpPr>
        <p:sp>
          <p:nvSpPr>
            <p:cNvPr id="174" name=""/>
            <p:cNvSpPr/>
            <p:nvPr/>
          </p:nvSpPr>
          <p:spPr>
            <a:xfrm>
              <a:off x="3505320" y="1600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0574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8F0D-B74F-405A-9B55-CC7DE80918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based programming (OB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pters 6-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and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pters 9 and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2442-D58E-4748-AA83-4E327C367D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 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efore incrementing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addIncreme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fter incr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73392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3\Fig07_03.cpp(30) : error C2758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increment' : must be initialized in constructor base/memb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itializer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03\Fig07_03.cpp(24) 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ee declaration of 'increme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7\Fig07_03\Fig07_03.cpp(32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l-value specifies const 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971800" y="2895480"/>
            <a:ext cx="4114800" cy="1067400"/>
            <a:chOff x="2971800" y="2895480"/>
            <a:chExt cx="4114800" cy="1067400"/>
          </a:xfrm>
        </p:grpSpPr>
        <p:sp>
          <p:nvSpPr>
            <p:cNvPr id="180" name=""/>
            <p:cNvSpPr/>
            <p:nvPr/>
          </p:nvSpPr>
          <p:spPr>
            <a:xfrm>
              <a:off x="4419720" y="2895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 using member initializer syntax to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97180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38480" y="4038480"/>
            <a:ext cx="4114800" cy="838440"/>
            <a:chOff x="4038480" y="4038480"/>
            <a:chExt cx="4114800" cy="838440"/>
          </a:xfrm>
        </p:grpSpPr>
        <p:sp>
          <p:nvSpPr>
            <p:cNvPr id="183" name=""/>
            <p:cNvSpPr/>
            <p:nvPr/>
          </p:nvSpPr>
          <p:spPr>
            <a:xfrm>
              <a:off x="548640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038480" y="419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DCEA-AADF-4309-ACF0-3B5E6FA1D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: Objects as Members of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has objects of other classes a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bjects constructed in order decl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 order of constructor’s member initializer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ed before enclosing class objects (host objec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BB69-0447-449E-BF6B-0583458422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h 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6: date1.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dat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DAT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date in month/day/ye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Dat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vided to confirm destruction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1-12 (January-December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-31 based on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ny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 to test proper day for month and 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eckD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057400" y="1523880"/>
            <a:ext cx="4114800" cy="1067400"/>
            <a:chOff x="2057400" y="1523880"/>
            <a:chExt cx="4114800" cy="1067400"/>
          </a:xfrm>
        </p:grpSpPr>
        <p:sp>
          <p:nvSpPr>
            <p:cNvPr id="190" name=""/>
            <p:cNvSpPr/>
            <p:nvPr/>
          </p:nvSpPr>
          <p:spPr>
            <a:xfrm>
              <a:off x="3505320" y="1523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no constructor with parameter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Recall compiler provides default copy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057400" y="167652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AA2FC-6F71-4206-9367-2AE14CAF0F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7: dat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D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ate class definition from dat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confirms proper value for month; call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checkDay to confirm proper value for 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n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n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idate the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nth = m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month set to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on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onth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n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valid. Set to month 1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ear = yr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validate y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y = checkDay( dy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idate the 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91F6-2329-434B-B602-F5A751B7D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Date object to show when its con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 object constructor for dat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ate object in form month/day/ye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month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/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/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ea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Date object to show when its de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~Date()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 object destructor for dat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();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Date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361960" y="761760"/>
            <a:ext cx="4115160" cy="1038240"/>
            <a:chOff x="2361960" y="761760"/>
            <a:chExt cx="4115160" cy="1038240"/>
          </a:xfrm>
        </p:grpSpPr>
        <p:sp>
          <p:nvSpPr>
            <p:cNvPr id="197" name=""/>
            <p:cNvSpPr/>
            <p:nvPr/>
          </p:nvSpPr>
          <p:spPr>
            <a:xfrm>
              <a:off x="3809880" y="12193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361960" y="761760"/>
              <a:ext cx="1447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81080" y="1066680"/>
            <a:ext cx="4114800" cy="1067400"/>
            <a:chOff x="1981080" y="1066680"/>
            <a:chExt cx="4114800" cy="1067400"/>
          </a:xfrm>
        </p:grpSpPr>
        <p:sp>
          <p:nvSpPr>
            <p:cNvPr id="200" name=""/>
            <p:cNvSpPr/>
            <p:nvPr/>
          </p:nvSpPr>
          <p:spPr>
            <a:xfrm>
              <a:off x="34290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arguments; each member function contains implicit handle to object on which it opera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9810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514600" y="3143160"/>
            <a:ext cx="3962520" cy="743040"/>
            <a:chOff x="2514600" y="3143160"/>
            <a:chExt cx="3962520" cy="743040"/>
          </a:xfrm>
        </p:grpSpPr>
        <p:sp>
          <p:nvSpPr>
            <p:cNvPr id="203" name=""/>
            <p:cNvSpPr/>
            <p:nvPr/>
          </p:nvSpPr>
          <p:spPr>
            <a:xfrm>
              <a:off x="3809880" y="31431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de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514600" y="3295800"/>
              <a:ext cx="12952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366A-4B80-4F32-934C-7179206838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1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tility function to confirm proper day value based 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nth and year; handles leap years, to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checkD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 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sPerMonth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whether testDay is valid for specified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estDay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testDay &lt;= daysPerMonth[ month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ebruary 29 check for leap yea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testDay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 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( 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yea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est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nvalid. Set to day 1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ave object in consistent state if ba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heck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194B-1917-4C79-9ACE-8E0CFFBC87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8: employe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employee1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ate class definition from dat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(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Employee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vided to confirm destruction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birthDa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osition: memb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hireDa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osition: member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343400" y="3809880"/>
            <a:ext cx="4114800" cy="1067400"/>
            <a:chOff x="4343400" y="3809880"/>
            <a:chExt cx="4114800" cy="1067400"/>
          </a:xfrm>
        </p:grpSpPr>
        <p:sp>
          <p:nvSpPr>
            <p:cNvPr id="210" name=""/>
            <p:cNvSpPr/>
            <p:nvPr/>
          </p:nvSpPr>
          <p:spPr>
            <a:xfrm>
              <a:off x="5791320" y="3809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composition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ont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as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343400" y="39621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00FE-32AE-4A64-B81A-95771868C7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8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29528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9: employee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Employ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// strcpy and strle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6B47-EB2E-42F9-ABA9-54549C67B2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uses member initializer list to pass initializ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ues to constructors of member objects birthDate and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reDate [Note: This invokes the so-called "default copy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" which the C++ compiler provides implicitly.]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,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ateOfBir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&amp;dateOfHire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birthDate( dateOfBirth ),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birthDate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hireDate( dateOfHire )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hireDate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first into firstName and be sure that it f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strlen( fir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firstName, first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py last into lastName and be sure that it fi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strlen( la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ength = ( lengt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lengt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lastName, last, lengt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[ length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Employee object to show when con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object constructor: "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endl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48120" y="1752120"/>
            <a:ext cx="3962160" cy="1539720"/>
            <a:chOff x="3048120" y="1752120"/>
            <a:chExt cx="3962160" cy="1539720"/>
          </a:xfrm>
        </p:grpSpPr>
        <p:sp>
          <p:nvSpPr>
            <p:cNvPr id="218" name=""/>
            <p:cNvSpPr/>
            <p:nvPr/>
          </p:nvSpPr>
          <p:spPr>
            <a:xfrm>
              <a:off x="4343400" y="19810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initializer syntax to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compiler uses default copy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048120" y="1752120"/>
              <a:ext cx="1295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819160" y="4267080"/>
            <a:ext cx="4191120" cy="762120"/>
            <a:chOff x="2819160" y="4267080"/>
            <a:chExt cx="4191120" cy="762120"/>
          </a:xfrm>
        </p:grpSpPr>
        <p:sp>
          <p:nvSpPr>
            <p:cNvPr id="221" name=""/>
            <p:cNvSpPr/>
            <p:nvPr/>
          </p:nvSpPr>
          <p:spPr>
            <a:xfrm>
              <a:off x="4343400" y="4267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819160" y="44197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A2C7-1A14-46A8-B70C-9459991E6F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Employe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fir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ir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ireDat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Birth dat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irthDate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Employee object to show when its destructor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~Employee()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object destructor: "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,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Name &lt;&lt; endl;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Employee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95480" y="2895480"/>
            <a:ext cx="3962520" cy="743040"/>
            <a:chOff x="2895480" y="2895480"/>
            <a:chExt cx="3962520" cy="743040"/>
          </a:xfrm>
        </p:grpSpPr>
        <p:sp>
          <p:nvSpPr>
            <p:cNvPr id="226" name=""/>
            <p:cNvSpPr/>
            <p:nvPr/>
          </p:nvSpPr>
          <p:spPr>
            <a:xfrm>
              <a:off x="4190760" y="2895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to show timing of de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895480" y="3048120"/>
              <a:ext cx="12952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7861-FFBD-4C98-8091-8E3F587105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allow modification of necessary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object not modif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error if attempt to mod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Time noon( 12, 0, 0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to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3B9D-C78C-462B-8153-F311BB2174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0: fig07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composition--an object with member objec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bir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4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hi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8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 manag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b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n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birth, hi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anag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est Date constructor with invalid value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lastDayOff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month and d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276360" y="2057400"/>
            <a:ext cx="4115160" cy="838080"/>
            <a:chOff x="3276360" y="2057400"/>
            <a:chExt cx="4115160" cy="838080"/>
          </a:xfrm>
        </p:grpSpPr>
        <p:sp>
          <p:nvSpPr>
            <p:cNvPr id="231" name=""/>
            <p:cNvSpPr/>
            <p:nvPr/>
          </p:nvSpPr>
          <p:spPr>
            <a:xfrm>
              <a:off x="4724280" y="2057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to pas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276360" y="2209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C4E4-7F2B-42B9-B56D-B4DCF657A5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constructor for date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constructor for date 3/12/19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object constructor: Bob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ones, B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ired: 3/12/1988  Birth date: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 Date constructor with invalid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nth 14 invalid. Set to month 1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5 invalid. Set to day 1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constructor for date 1/1/1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1/1/1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object destructor: Jones, Bo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3/12/19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3/12/198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 object destructor for date 7/24/194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657600" y="609120"/>
            <a:ext cx="3962520" cy="1296360"/>
            <a:chOff x="3657600" y="609120"/>
            <a:chExt cx="3962520" cy="1296360"/>
          </a:xfrm>
        </p:grpSpPr>
        <p:sp>
          <p:nvSpPr>
            <p:cNvPr id="236" name=""/>
            <p:cNvSpPr/>
            <p:nvPr/>
          </p:nvSpPr>
          <p:spPr>
            <a:xfrm>
              <a:off x="4952880" y="8380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wo addition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constructed; no output since default copy constructor us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3657600" y="609120"/>
              <a:ext cx="1295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657240" y="2286000"/>
            <a:ext cx="4115160" cy="1310760"/>
            <a:chOff x="3657240" y="2286000"/>
            <a:chExt cx="4115160" cy="1310760"/>
          </a:xfrm>
        </p:grpSpPr>
        <p:sp>
          <p:nvSpPr>
            <p:cNvPr id="239" name=""/>
            <p:cNvSpPr/>
            <p:nvPr/>
          </p:nvSpPr>
          <p:spPr>
            <a:xfrm>
              <a:off x="5105160" y="22860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host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uns before destructors for member objec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657240" y="243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962160" y="2438280"/>
            <a:ext cx="4115160" cy="838440"/>
            <a:chOff x="3962160" y="2438280"/>
            <a:chExt cx="4115160" cy="838440"/>
          </a:xfrm>
        </p:grpSpPr>
        <p:sp>
          <p:nvSpPr>
            <p:cNvPr id="242" name=""/>
            <p:cNvSpPr/>
            <p:nvPr/>
          </p:nvSpPr>
          <p:spPr>
            <a:xfrm>
              <a:off x="5410080" y="24382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member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962160" y="2590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962160" y="2705040"/>
            <a:ext cx="4115160" cy="838440"/>
            <a:chOff x="3962160" y="2705040"/>
            <a:chExt cx="4115160" cy="838440"/>
          </a:xfrm>
        </p:grpSpPr>
        <p:sp>
          <p:nvSpPr>
            <p:cNvPr id="245" name=""/>
            <p:cNvSpPr/>
            <p:nvPr/>
          </p:nvSpPr>
          <p:spPr>
            <a:xfrm>
              <a:off x="5410080" y="27050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‘s member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962160" y="2857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962160" y="2946240"/>
            <a:ext cx="4115160" cy="838440"/>
            <a:chOff x="3962160" y="2946240"/>
            <a:chExt cx="4115160" cy="838440"/>
          </a:xfrm>
        </p:grpSpPr>
        <p:sp>
          <p:nvSpPr>
            <p:cNvPr id="248" name=""/>
            <p:cNvSpPr/>
            <p:nvPr/>
          </p:nvSpPr>
          <p:spPr>
            <a:xfrm>
              <a:off x="5410080" y="29462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i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962160" y="3098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962160" y="3124080"/>
            <a:ext cx="4115160" cy="838440"/>
            <a:chOff x="3962160" y="3124080"/>
            <a:chExt cx="4115160" cy="838440"/>
          </a:xfrm>
        </p:grpSpPr>
        <p:sp>
          <p:nvSpPr>
            <p:cNvPr id="251" name=""/>
            <p:cNvSpPr/>
            <p:nvPr/>
          </p:nvSpPr>
          <p:spPr>
            <a:xfrm>
              <a:off x="5410080" y="3124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irt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962160" y="3276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777B-643A-444B-BEA3-54FA1DC12C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4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Function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class’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 to access non-public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 function prototype with 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ember functions of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Tw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of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declaration of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ClassTw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8885-F87C-4848-BB79-0D171BADE3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4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Function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ie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iendship granted, not t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explicitly declar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necessari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transi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necessari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A4FD-2C63-4FDC-BE91-D7E5C6D8D6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1: fig07_11.cpp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riends can access private members of a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riend 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Count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riend 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x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u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904760" y="1295280"/>
            <a:ext cx="4115160" cy="838440"/>
            <a:chOff x="1904760" y="1295280"/>
            <a:chExt cx="4115160" cy="838440"/>
          </a:xfrm>
        </p:grpSpPr>
        <p:sp>
          <p:nvSpPr>
            <p:cNvPr id="260" name=""/>
            <p:cNvSpPr/>
            <p:nvPr/>
          </p:nvSpPr>
          <p:spPr>
            <a:xfrm>
              <a:off x="3352680" y="12952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cede function prototype with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90476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AACB-93C1-432E-9291-59B3E1C398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x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etX can modify private data of Coun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cause setX is declared as a friend of Cou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X( Count &amp;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.x = va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gal: setX is a friend of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X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28800" y="2438280"/>
            <a:ext cx="4114800" cy="838440"/>
            <a:chOff x="1828800" y="2438280"/>
            <a:chExt cx="4114800" cy="838440"/>
          </a:xfrm>
        </p:grpSpPr>
        <p:sp>
          <p:nvSpPr>
            <p:cNvPr id="265" name=""/>
            <p:cNvSpPr/>
            <p:nvPr/>
          </p:nvSpPr>
          <p:spPr>
            <a:xfrm>
              <a:off x="327672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since C-style, standalon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82880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14400" y="2895480"/>
            <a:ext cx="4114800" cy="1067400"/>
            <a:chOff x="914400" y="2895480"/>
            <a:chExt cx="4114800" cy="1067400"/>
          </a:xfrm>
        </p:grpSpPr>
        <p:sp>
          <p:nvSpPr>
            <p:cNvPr id="268" name=""/>
            <p:cNvSpPr/>
            <p:nvPr/>
          </p:nvSpPr>
          <p:spPr>
            <a:xfrm>
              <a:off x="2362320" y="2895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can access and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91440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2CE6-6C93-4EE1-8EB0-9E2782D4FF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1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counter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u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er.x after instanti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X( count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x with a fri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unter.x after call to setX friend func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call to setX friend function: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514600" y="914400"/>
            <a:ext cx="4114800" cy="838080"/>
            <a:chOff x="2514600" y="914400"/>
            <a:chExt cx="4114800" cy="838080"/>
          </a:xfrm>
        </p:grpSpPr>
        <p:sp>
          <p:nvSpPr>
            <p:cNvPr id="274" name=""/>
            <p:cNvSpPr/>
            <p:nvPr/>
          </p:nvSpPr>
          <p:spPr>
            <a:xfrm>
              <a:off x="3962520" y="914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to access and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514600" y="1066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1704-C217-435E-B49F-B10BF1DCED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2: fig07_12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friend/non-member functions cannot acc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vate data of a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(note that there is no friendship declara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x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x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oun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57F7-D532-41FB-9CB2-DD8C1029EB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x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ata me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ries to modify private data of Count,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ut cannot because function is not a friend of Count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nnotSetX( Count &amp;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.x = val;  // ERROR: cannot access private member in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annotSetX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523880" y="2819520"/>
            <a:ext cx="4114800" cy="1067400"/>
            <a:chOff x="1523880" y="2819520"/>
            <a:chExt cx="4114800" cy="1067400"/>
          </a:xfrm>
        </p:grpSpPr>
        <p:sp>
          <p:nvSpPr>
            <p:cNvPr id="281" name=""/>
            <p:cNvSpPr/>
            <p:nvPr/>
          </p:nvSpPr>
          <p:spPr>
            <a:xfrm>
              <a:off x="2971800" y="2819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from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52388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E5F0-8875-4472-83CE-DB2224BAF8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2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counter;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un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annotSetX( counter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notSetX is not a frie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701028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7\Fig07_12\Fig07_12.cpp(39) : error C2248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x' : cannot access private member declared in 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7\Fig07_12\Fig07_12.cpp(31) 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see declaration of 'x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428640" y="3047760"/>
            <a:ext cx="3886560" cy="1378800"/>
            <a:chOff x="3428640" y="3047760"/>
            <a:chExt cx="3886560" cy="1378800"/>
          </a:xfrm>
        </p:grpSpPr>
        <p:sp>
          <p:nvSpPr>
            <p:cNvPr id="287" name=""/>
            <p:cNvSpPr/>
            <p:nvPr/>
          </p:nvSpPr>
          <p:spPr>
            <a:xfrm>
              <a:off x="4648320" y="33591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from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428640" y="3047760"/>
              <a:ext cx="121932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7FC4-0B4C-4289-859E-4F8FA8E106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must als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modify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both prototyp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parameter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beginning left b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D764-D2FD-402A-96E1-C7D23D9A96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object to access ow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part of object itsel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 argument to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depends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ther member function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non-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7560-1AD3-4F0E-87F6-F32A5EE64D9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3: fig07_13.cpp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this pointer to refer to object me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e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::Tes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x( value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x to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bod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es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A774-180F-437D-8F3E-8CBFFDDF5D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x using implicit and explicit this pointer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rentheses around *this requi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::print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mplicitly use this pointer to access member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        x = " &lt;&lt; x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plicitly use this pointer to access member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\n  this-&gt;x = "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x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xplicitly use dereferenced this pointer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dot operator to access member x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\n(*this).x = " &lt;&lt; (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 testObjec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estObject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76360" y="665280"/>
            <a:ext cx="4115160" cy="838080"/>
            <a:chOff x="3276360" y="665280"/>
            <a:chExt cx="4115160" cy="838080"/>
          </a:xfrm>
        </p:grpSpPr>
        <p:sp>
          <p:nvSpPr>
            <p:cNvPr id="296" name=""/>
            <p:cNvSpPr/>
            <p:nvPr/>
          </p:nvSpPr>
          <p:spPr>
            <a:xfrm>
              <a:off x="4724280" y="665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licitly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; only specify name of data memb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276360" y="8175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57600" y="1330200"/>
            <a:ext cx="4114800" cy="838440"/>
            <a:chOff x="3657600" y="1330200"/>
            <a:chExt cx="4114800" cy="838440"/>
          </a:xfrm>
        </p:grpSpPr>
        <p:sp>
          <p:nvSpPr>
            <p:cNvPr id="299" name=""/>
            <p:cNvSpPr/>
            <p:nvPr/>
          </p:nvSpPr>
          <p:spPr>
            <a:xfrm>
              <a:off x="5105520" y="133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with arrow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657600" y="14828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57600" y="2168640"/>
            <a:ext cx="4114800" cy="838080"/>
            <a:chOff x="3657600" y="2168640"/>
            <a:chExt cx="4114800" cy="838080"/>
          </a:xfrm>
        </p:grpSpPr>
        <p:sp>
          <p:nvSpPr>
            <p:cNvPr id="302" name=""/>
            <p:cNvSpPr/>
            <p:nvPr/>
          </p:nvSpPr>
          <p:spPr>
            <a:xfrm>
              <a:off x="5105520" y="21686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licitly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; de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first, then use dot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657600" y="232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91FE-570E-48BC-B374-5DAA4902ADB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3.cpp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33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57200"/>
            <a:ext cx="70102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*this).x =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A0CD-9372-4908-BF71-5BE7D39555F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functions invoked in same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reference pointer to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1CBB-9527-4D62-9B33-13EE191AAEE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4: time6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scading member function call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6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6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6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nctions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&amp;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nctions (normally declared cons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590560" y="2327400"/>
            <a:ext cx="4115160" cy="1067400"/>
            <a:chOff x="2590560" y="2327400"/>
            <a:chExt cx="4115160" cy="1067400"/>
          </a:xfrm>
        </p:grpSpPr>
        <p:sp>
          <p:nvSpPr>
            <p:cNvPr id="312" name=""/>
            <p:cNvSpPr/>
            <p:nvPr/>
          </p:nvSpPr>
          <p:spPr>
            <a:xfrm>
              <a:off x="4038480" y="2327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s retur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590560" y="2479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DB56-B62F-474D-82A8-FBB8A07CA1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functions (normally declared cons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E536-47D8-46FB-A8DF-66B9541914C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5: time6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6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FFF4-6231-4075-B3A4-D370466308B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values of hour, minute, and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( h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Minute( 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econd( s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057400" y="990720"/>
            <a:ext cx="4114800" cy="838080"/>
            <a:chOff x="2057400" y="990720"/>
            <a:chExt cx="4114800" cy="838080"/>
          </a:xfrm>
        </p:grpSpPr>
        <p:sp>
          <p:nvSpPr>
            <p:cNvPr id="321" name=""/>
            <p:cNvSpPr/>
            <p:nvPr/>
          </p:nvSpPr>
          <p:spPr>
            <a:xfrm>
              <a:off x="350532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05740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057400" y="2971800"/>
            <a:ext cx="4114800" cy="838080"/>
            <a:chOff x="2057400" y="2971800"/>
            <a:chExt cx="4114800" cy="838080"/>
          </a:xfrm>
        </p:grpSpPr>
        <p:sp>
          <p:nvSpPr>
            <p:cNvPr id="324" name=""/>
            <p:cNvSpPr/>
            <p:nvPr/>
          </p:nvSpPr>
          <p:spPr>
            <a:xfrm>
              <a:off x="3505320" y="2971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05740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F404-53E0-4C4A-A25D-90787613586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&amp;Time::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hi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ables casca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81080" y="533520"/>
            <a:ext cx="4114800" cy="838080"/>
            <a:chOff x="1981080" y="533520"/>
            <a:chExt cx="4114800" cy="838080"/>
          </a:xfrm>
        </p:grpSpPr>
        <p:sp>
          <p:nvSpPr>
            <p:cNvPr id="329" name=""/>
            <p:cNvSpPr/>
            <p:nvPr/>
          </p:nvSpPr>
          <p:spPr>
            <a:xfrm>
              <a:off x="3429000" y="533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981080" y="685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81080" y="2514600"/>
            <a:ext cx="4114800" cy="838080"/>
            <a:chOff x="1981080" y="2514600"/>
            <a:chExt cx="4114800" cy="838080"/>
          </a:xfrm>
        </p:grpSpPr>
        <p:sp>
          <p:nvSpPr>
            <p:cNvPr id="332" name=""/>
            <p:cNvSpPr/>
            <p:nvPr/>
          </p:nvSpPr>
          <p:spPr>
            <a:xfrm>
              <a:off x="3429000" y="2514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reference to enable cascaded membe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9810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DFE2-CBBE-49F1-AD28-C549AE09BB5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(Constant) Objects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ble to modify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termination housekee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031A-4BF5-457D-B870-0AEF9CCE53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secon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E903-B1E0-400B-8958-4918E4648D4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6.cpp (5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fil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6D6C-E77D-46DB-9C4B-74055BFB578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6: fig07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scading member function calls with the this point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6.h"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Tim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scaded function calls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Hou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setMin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set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in universal and standard forma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Universal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New 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857320" y="2362320"/>
            <a:ext cx="4115160" cy="838080"/>
            <a:chOff x="2857320" y="2362320"/>
            <a:chExt cx="4115160" cy="838080"/>
          </a:xfrm>
        </p:grpSpPr>
        <p:sp>
          <p:nvSpPr>
            <p:cNvPr id="341" name=""/>
            <p:cNvSpPr/>
            <p:nvPr/>
          </p:nvSpPr>
          <p:spPr>
            <a:xfrm>
              <a:off x="430524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e member function calls; recall dot operator associates from left to righ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85732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B077-1B35-4DE0-8079-9BEFDC69538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scaded function calls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9810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: 18:30: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238560" y="609120"/>
            <a:ext cx="4304880" cy="1539720"/>
            <a:chOff x="3238560" y="609120"/>
            <a:chExt cx="4304880" cy="1539720"/>
          </a:xfrm>
        </p:grpSpPr>
        <p:sp>
          <p:nvSpPr>
            <p:cNvPr id="347" name=""/>
            <p:cNvSpPr/>
            <p:nvPr/>
          </p:nvSpPr>
          <p:spPr>
            <a:xfrm>
              <a:off x="4876560" y="8380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appear last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3238560" y="609120"/>
              <a:ext cx="1638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7821-8A50-4097-B905-59AB71919D9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6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ynamic Memory Management with Operator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e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allocation and deallocation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tandard h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e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standard version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5B06-D4CA-4F85-87CC-3246DA70232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6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ynamic Memory Management with Operator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e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*ti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 = new Ti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object of proper size for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if no space in memory f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default constructor f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pointer of specified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ing initializ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*timePtr = new Time( 12, 0, 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cating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gradesArray = new int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F730-CF8C-4AB8-ADFF-1AA697D9AAB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7.6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ynamic Memory Management with Operator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ne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oy dynamically allocated object and free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ti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destructor f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locates memory associated with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can be reused to allocate other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locating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[] gradesArra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locates array to whi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desAr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ointer to array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alls destructor for each object i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deallocate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55F4-B855-41B3-868D-3E0B58219ED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-wide”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f class, not specific object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when single copy of data is enoug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exactly once at fil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ist even if no objects of class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8F5B-EB33-4CB2-9A41-63E2909789A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ble through any 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binary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accessed vi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class name, binary scope resolu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B8CC-B723-40C8-9FE9-0BF2AC7CE77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 exist independent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F740-4E22-44FF-8D36-830C63B7D08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: tim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5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5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nctions (normally declared const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hou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ut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cond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nt functions (normally declared const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standard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24280" y="3165480"/>
            <a:ext cx="4114800" cy="838080"/>
            <a:chOff x="4724280" y="3165480"/>
            <a:chExt cx="4114800" cy="838080"/>
          </a:xfrm>
        </p:grpSpPr>
        <p:sp>
          <p:nvSpPr>
            <p:cNvPr id="100" name=""/>
            <p:cNvSpPr/>
            <p:nvPr/>
          </p:nvSpPr>
          <p:spPr>
            <a:xfrm>
              <a:off x="6172200" y="3165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724280" y="3317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724280" y="4419720"/>
            <a:ext cx="4114800" cy="838080"/>
            <a:chOff x="4724280" y="4419720"/>
            <a:chExt cx="4114800" cy="838080"/>
          </a:xfrm>
        </p:grpSpPr>
        <p:sp>
          <p:nvSpPr>
            <p:cNvPr id="103" name=""/>
            <p:cNvSpPr/>
            <p:nvPr/>
          </p:nvSpPr>
          <p:spPr>
            <a:xfrm>
              <a:off x="617220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Univers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242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466E-8EC1-485B-8ADE-2E352CE7E8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7: employe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MPLOYE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Employee();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fir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ast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member function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Cou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# objects instanti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tatic data member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objects instantia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857320" y="2473200"/>
            <a:ext cx="4115160" cy="1067400"/>
            <a:chOff x="2857320" y="2473200"/>
            <a:chExt cx="4115160" cy="1067400"/>
          </a:xfrm>
        </p:grpSpPr>
        <p:sp>
          <p:nvSpPr>
            <p:cNvPr id="364" name=""/>
            <p:cNvSpPr/>
            <p:nvPr/>
          </p:nvSpPr>
          <p:spPr>
            <a:xfrm>
              <a:off x="4305240" y="2473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can only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and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857320" y="2625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438280" y="3962520"/>
            <a:ext cx="4114800" cy="838080"/>
            <a:chOff x="2438280" y="3962520"/>
            <a:chExt cx="4114800" cy="838080"/>
          </a:xfrm>
        </p:grpSpPr>
        <p:sp>
          <p:nvSpPr>
            <p:cNvPr id="367" name=""/>
            <p:cNvSpPr/>
            <p:nvPr/>
          </p:nvSpPr>
          <p:spPr>
            <a:xfrm>
              <a:off x="3886200" y="3962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is class-wide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4382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4B8B-FBF3-47B3-AFF8-13FC0ACB46E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h 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33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end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76212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8: employee2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Employ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7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++ standard new 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cpy and strle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0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loyee clas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and initialize static data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5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static member function that returns numb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objects instantiated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::getCount()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;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static function getCount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19160" y="2992320"/>
            <a:ext cx="4115160" cy="838440"/>
            <a:chOff x="2819160" y="2992320"/>
            <a:chExt cx="4115160" cy="838440"/>
          </a:xfrm>
        </p:grpSpPr>
        <p:sp>
          <p:nvSpPr>
            <p:cNvPr id="373" name=""/>
            <p:cNvSpPr/>
            <p:nvPr/>
          </p:nvSpPr>
          <p:spPr>
            <a:xfrm>
              <a:off x="4267080" y="299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exactly once at file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819160" y="31449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819160" y="4038480"/>
            <a:ext cx="4115160" cy="838440"/>
            <a:chOff x="2819160" y="4038480"/>
            <a:chExt cx="4115160" cy="838440"/>
          </a:xfrm>
        </p:grpSpPr>
        <p:sp>
          <p:nvSpPr>
            <p:cNvPr id="376" name=""/>
            <p:cNvSpPr/>
            <p:nvPr/>
          </p:nvSpPr>
          <p:spPr>
            <a:xfrm>
              <a:off x="4267080" y="4038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cces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819160" y="4191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8E9A-E732-48AE-AE6B-964ED3B6021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dynamically allocates space for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and last name and uses strcpy to copy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and last names into the object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Employe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irs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las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irs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trlen( first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firstName, fir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astName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 strlen( last 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lastName, las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coun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static count of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 constructor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call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Employe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deallocates dynamically allocated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::~Employe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~Employee() called fo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lastNam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04760" y="1025640"/>
            <a:ext cx="5943960" cy="1108080"/>
            <a:chOff x="1904760" y="1025640"/>
            <a:chExt cx="5943960" cy="1108080"/>
          </a:xfrm>
        </p:grpSpPr>
        <p:sp>
          <p:nvSpPr>
            <p:cNvPr id="381" name=""/>
            <p:cNvSpPr/>
            <p:nvPr/>
          </p:nvSpPr>
          <p:spPr>
            <a:xfrm>
              <a:off x="5181480" y="10256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dynamically allocates 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904760" y="1177920"/>
              <a:ext cx="327636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904760" y="1177920"/>
              <a:ext cx="3276360" cy="9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523880" y="2057400"/>
            <a:ext cx="4114800" cy="838080"/>
            <a:chOff x="1523880" y="2057400"/>
            <a:chExt cx="4114800" cy="838080"/>
          </a:xfrm>
        </p:grpSpPr>
        <p:sp>
          <p:nvSpPr>
            <p:cNvPr id="385" name=""/>
            <p:cNvSpPr/>
            <p:nvPr/>
          </p:nvSpPr>
          <p:spPr>
            <a:xfrm>
              <a:off x="2971800" y="20574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to store tot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employe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5238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60A4-E077-4CEF-9151-05D429E30B7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loyee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firstName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captur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lastNam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apture memor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-coun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crement static count of employe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first name of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Employee::getFir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 before return type prevents client from modify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vate data; client should copy returned string bef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tructor deletes storage to prevent undefined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r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Fir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ast name of employe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Employee::getLastNam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 before return type prevents client from modify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ivate data; client should copy returned string befo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structor deletes storage to prevent undefined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stNam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Last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143000" y="380520"/>
            <a:ext cx="4991040" cy="1266840"/>
            <a:chOff x="1143000" y="380520"/>
            <a:chExt cx="4991040" cy="1266840"/>
          </a:xfrm>
        </p:grpSpPr>
        <p:sp>
          <p:nvSpPr>
            <p:cNvPr id="390" name=""/>
            <p:cNvSpPr/>
            <p:nvPr/>
          </p:nvSpPr>
          <p:spPr>
            <a:xfrm>
              <a:off x="346716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allocates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1143000" y="380520"/>
              <a:ext cx="23241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1143000" y="609480"/>
              <a:ext cx="23241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447560" y="990360"/>
            <a:ext cx="3886560" cy="979560"/>
            <a:chOff x="1447560" y="990360"/>
            <a:chExt cx="3886560" cy="979560"/>
          </a:xfrm>
        </p:grpSpPr>
        <p:sp>
          <p:nvSpPr>
            <p:cNvPr id="394" name=""/>
            <p:cNvSpPr/>
            <p:nvPr/>
          </p:nvSpPr>
          <p:spPr>
            <a:xfrm>
              <a:off x="2667240" y="1145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to store tot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employe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1447560" y="990360"/>
              <a:ext cx="121932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D99D-A1D3-46EC-8F03-94D64462A3E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19: fig07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iver to test class Employe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ew&gt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++ standard new op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mploye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mploye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employees before instantiatio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mployee::getCount() &lt;&lt; endl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class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 *e1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sa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aker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mployee *e2Ptr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ober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on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employees after instantiatio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1Ptr-&gt;getCou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666880" y="3235320"/>
            <a:ext cx="5943600" cy="727200"/>
            <a:chOff x="2666880" y="3235320"/>
            <a:chExt cx="5943600" cy="727200"/>
          </a:xfrm>
        </p:grpSpPr>
        <p:sp>
          <p:nvSpPr>
            <p:cNvPr id="399" name=""/>
            <p:cNvSpPr/>
            <p:nvPr/>
          </p:nvSpPr>
          <p:spPr>
            <a:xfrm>
              <a:off x="5943600" y="3235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dynamically allocates 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666880" y="3387600"/>
              <a:ext cx="327672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6880" y="3387600"/>
              <a:ext cx="32767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209680" y="3733920"/>
            <a:ext cx="4114800" cy="838080"/>
            <a:chOff x="2209680" y="3733920"/>
            <a:chExt cx="4114800" cy="838080"/>
          </a:xfrm>
        </p:grpSpPr>
        <p:sp>
          <p:nvSpPr>
            <p:cNvPr id="403" name=""/>
            <p:cNvSpPr/>
            <p:nvPr/>
          </p:nvSpPr>
          <p:spPr>
            <a:xfrm>
              <a:off x="365760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can be invoked on any object of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096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AAB2-9D6C-400F-B899-F05240734FF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Employee 1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1Ptr-&gt;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1Ptr-&gt;getLa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Employee 2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2Ptr-&gt;getFirstNam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2Ptr-&gt;getLastName(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1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apture memory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1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connect pointer from free-store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2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apture memory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2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connect pointer from free-store sp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umber of employees after deletio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mployee::getCount(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143000" y="1905120"/>
            <a:ext cx="4991040" cy="1266480"/>
            <a:chOff x="1143000" y="1905120"/>
            <a:chExt cx="4991040" cy="1266480"/>
          </a:xfrm>
        </p:grpSpPr>
        <p:sp>
          <p:nvSpPr>
            <p:cNvPr id="408" name=""/>
            <p:cNvSpPr/>
            <p:nvPr/>
          </p:nvSpPr>
          <p:spPr>
            <a:xfrm>
              <a:off x="3467160" y="259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allocates mem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143000" y="1905120"/>
              <a:ext cx="2324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1143000" y="2362320"/>
              <a:ext cx="2324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743200" y="2171880"/>
            <a:ext cx="4114800" cy="1067400"/>
            <a:chOff x="2743200" y="2171880"/>
            <a:chExt cx="4114800" cy="1067400"/>
          </a:xfrm>
        </p:grpSpPr>
        <p:sp>
          <p:nvSpPr>
            <p:cNvPr id="412" name=""/>
            <p:cNvSpPr/>
            <p:nvPr/>
          </p:nvSpPr>
          <p:spPr>
            <a:xfrm>
              <a:off x="4191120" y="21718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invoked using binary scope resolution operator (no existing class object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743200" y="23241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634D-2D66-4E64-A077-469068C1FE8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mployees before instantiation is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constructor for Susan Baker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constructor for Robert Jones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employees after instantiation is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1: Susan Bak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2: Robert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~Employee() called for Susan Bak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~Employee() called for Robert Jon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deletion is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4781-431C-420E-B796-55E8A04A822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ata Abstraction and Information Hi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hide implementation details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stack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lements added (pushed) onto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lements removed (popped) from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only wants LIFO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are how stack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 functionality of class independent of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0D04-6C2E-46CD-BE03-647C7D3475B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ata Abstraction and Information Hi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data types (AD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ions/models of real-world concepts and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models for a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s allowed on thos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exten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data types cannot be changed, but new data types can be cre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18D9-5A02-4219-8C63-F28C0213395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Array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T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incl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range chec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itrary range of subscrip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of having to start with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compari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input/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know their siz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expand dynamically to accommodate mor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5D96-58FF-4B84-8270-109B51E4BAF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C222-90E5-4F2F-9F48-4A16944684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String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provide built-in string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mechanisms for creating and implementing string abstract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ADT (Chapter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SI/ISO standa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(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508D-E021-4794-B42D-CC586466D39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3 Example: Queue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in, firs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tems in queue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items from queue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 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hidden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may not manipulate data structure direct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queue member functions can access internal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 ADT (Chapter 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libra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(Chapter 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F89C-5483-4B84-A7EA-9EDCD02AC57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ainer Classes and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lasses (collection cla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to hold collection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ion, deletion, searching, sorting, or testing an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stacks, queues, trees and linked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 objects (iter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ext item of colle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performs some action on next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several iterators per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with multiple book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iterator maintains own “positi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further in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18F1-D243-4C13-A842-B3801497072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xy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e implementation details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s on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 of class being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lients to use class’s services without giving access to class’s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class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class definition only uses pointer to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need for including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class before refere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lassToLo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C8AC-EE6A-4BC3-ACD5-C5443C34F03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0: implementation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er file for class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ati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plementatio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: value( v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value with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mplementati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value to v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value = v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ould validate v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819160" y="2971800"/>
            <a:ext cx="4115160" cy="838080"/>
            <a:chOff x="2819160" y="2971800"/>
            <a:chExt cx="4115160" cy="838080"/>
          </a:xfrm>
        </p:grpSpPr>
        <p:sp>
          <p:nvSpPr>
            <p:cNvPr id="434" name=""/>
            <p:cNvSpPr/>
            <p:nvPr/>
          </p:nvSpPr>
          <p:spPr>
            <a:xfrm>
              <a:off x="4267080" y="297180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819160" y="3124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3B585-A696-4CFE-B8D9-74839ABF30E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tion.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turn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g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Implemen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666520" y="533520"/>
            <a:ext cx="3886560" cy="489600"/>
            <a:chOff x="2666520" y="533520"/>
            <a:chExt cx="3886560" cy="489600"/>
          </a:xfrm>
        </p:grpSpPr>
        <p:sp>
          <p:nvSpPr>
            <p:cNvPr id="439" name=""/>
            <p:cNvSpPr/>
            <p:nvPr/>
          </p:nvSpPr>
          <p:spPr>
            <a:xfrm>
              <a:off x="3886200" y="685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2666520" y="533520"/>
              <a:ext cx="1219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A9AB-EE23-4116-A81D-9B7A01116DE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1: interfac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er file for interfac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ation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ward class decla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rfa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me public interface a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Implementation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Interfac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quires previous forward declaration (line 4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mplementation *ptr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857320" y="1295280"/>
            <a:ext cx="4115160" cy="1554120"/>
            <a:chOff x="2857320" y="1295280"/>
            <a:chExt cx="4115160" cy="1554120"/>
          </a:xfrm>
        </p:grpSpPr>
        <p:sp>
          <p:nvSpPr>
            <p:cNvPr id="444" name=""/>
            <p:cNvSpPr/>
            <p:nvPr/>
          </p:nvSpPr>
          <p:spPr>
            <a:xfrm>
              <a:off x="4305240" y="1295280"/>
              <a:ext cx="26672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vide s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erface a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re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857320" y="1447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362320" y="990720"/>
            <a:ext cx="4343400" cy="3048480"/>
            <a:chOff x="2362320" y="990720"/>
            <a:chExt cx="4343400" cy="3048480"/>
          </a:xfrm>
        </p:grpSpPr>
        <p:sp>
          <p:nvSpPr>
            <p:cNvPr id="447" name=""/>
            <p:cNvSpPr/>
            <p:nvPr/>
          </p:nvSpPr>
          <p:spPr>
            <a:xfrm>
              <a:off x="4038480" y="29718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requires forward class decla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590560" y="3124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2362320" y="990720"/>
              <a:ext cx="167616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7D8DF-9FB6-4838-8D5D-88525DD33A3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2: interfac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face.h"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terfac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mplementation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lementation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::Interfa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: pt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ation( v 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mpty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erfac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Implementation's setValue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::set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v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r-&gt;setValue( v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590560" y="1066680"/>
            <a:ext cx="4115160" cy="1128960"/>
            <a:chOff x="2590560" y="1066680"/>
            <a:chExt cx="4115160" cy="1128960"/>
          </a:xfrm>
        </p:grpSpPr>
        <p:sp>
          <p:nvSpPr>
            <p:cNvPr id="453" name=""/>
            <p:cNvSpPr/>
            <p:nvPr/>
          </p:nvSpPr>
          <p:spPr>
            <a:xfrm>
              <a:off x="4038480" y="1371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cludes header file for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2590560" y="106668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523880" y="893880"/>
            <a:ext cx="4114800" cy="838080"/>
            <a:chOff x="1523880" y="893880"/>
            <a:chExt cx="4114800" cy="838080"/>
          </a:xfrm>
        </p:grpSpPr>
        <p:sp>
          <p:nvSpPr>
            <p:cNvPr id="456" name=""/>
            <p:cNvSpPr/>
            <p:nvPr/>
          </p:nvSpPr>
          <p:spPr>
            <a:xfrm>
              <a:off x="2971800" y="89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intain pointer to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523880" y="10461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514600" y="2971800"/>
            <a:ext cx="4114800" cy="838080"/>
            <a:chOff x="2514600" y="2971800"/>
            <a:chExt cx="4114800" cy="838080"/>
          </a:xfrm>
        </p:grpSpPr>
        <p:sp>
          <p:nvSpPr>
            <p:cNvPr id="459" name=""/>
            <p:cNvSpPr/>
            <p:nvPr/>
          </p:nvSpPr>
          <p:spPr>
            <a:xfrm>
              <a:off x="3962520" y="2971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corresponding function on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514600" y="312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8746-B0F6-43CF-ABE4-42E42C63FB8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Implementation's getValue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rface::getValue()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-&gt;getValue(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::~Interfac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le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estructor ~Inter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895480" y="76320"/>
            <a:ext cx="4114800" cy="838080"/>
            <a:chOff x="2895480" y="76320"/>
            <a:chExt cx="4114800" cy="838080"/>
          </a:xfrm>
        </p:grpSpPr>
        <p:sp>
          <p:nvSpPr>
            <p:cNvPr id="464" name=""/>
            <p:cNvSpPr/>
            <p:nvPr/>
          </p:nvSpPr>
          <p:spPr>
            <a:xfrm>
              <a:off x="4343400" y="76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corresponding function on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895480" y="228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828800" y="1600200"/>
            <a:ext cx="4114800" cy="838080"/>
            <a:chOff x="1828800" y="1600200"/>
            <a:chExt cx="4114800" cy="838080"/>
          </a:xfrm>
        </p:grpSpPr>
        <p:sp>
          <p:nvSpPr>
            <p:cNvPr id="467" name=""/>
            <p:cNvSpPr/>
            <p:nvPr/>
          </p:nvSpPr>
          <p:spPr>
            <a:xfrm>
              <a:off x="32767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allocate underly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8288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E4FF-27E7-4D64-917D-E96D0F6926B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7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3: fig07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ding a class’s private data with a proxy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face.h"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face class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terface i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terface contain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.get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e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.setValu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Interface contain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.getValu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et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54100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ce contains: 5 before set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face contains: 10 after setVa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438280" y="990720"/>
            <a:ext cx="4114800" cy="837720"/>
            <a:chOff x="2438280" y="990720"/>
            <a:chExt cx="4114800" cy="837720"/>
          </a:xfrm>
        </p:grpSpPr>
        <p:sp>
          <p:nvSpPr>
            <p:cNvPr id="473" name=""/>
            <p:cNvSpPr/>
            <p:nvPr/>
          </p:nvSpPr>
          <p:spPr>
            <a:xfrm>
              <a:off x="388620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include proxy class header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438280" y="11430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438280" y="1828800"/>
            <a:ext cx="4114800" cy="1067400"/>
            <a:chOff x="2438280" y="1828800"/>
            <a:chExt cx="4114800" cy="1067400"/>
          </a:xfrm>
        </p:grpSpPr>
        <p:sp>
          <p:nvSpPr>
            <p:cNvPr id="476" name=""/>
            <p:cNvSpPr/>
            <p:nvPr/>
          </p:nvSpPr>
          <p:spPr>
            <a:xfrm>
              <a:off x="3886200" y="18288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object of 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note no men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43828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886200" y="3200400"/>
            <a:ext cx="4114800" cy="949320"/>
            <a:chOff x="3886200" y="3200400"/>
            <a:chExt cx="4114800" cy="949320"/>
          </a:xfrm>
        </p:grpSpPr>
        <p:sp>
          <p:nvSpPr>
            <p:cNvPr id="479" name=""/>
            <p:cNvSpPr/>
            <p:nvPr/>
          </p:nvSpPr>
          <p:spPr>
            <a:xfrm>
              <a:off x="5334120" y="3311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member functions via proxy class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88620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038120" y="3200400"/>
              <a:ext cx="129564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D370-F5D3-4C5D-A44B-2E1C5FB34B3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7.2: time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5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5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our, minute, second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4AC3-61E6-43AD-8A98-80436459E9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5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 and secon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( hou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Minute( minut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econd( second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0278-F883-4D69-B144-070B36C74A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6T19:33:48Z</dcterms:created>
  <dc:creator>Audrey Lee</dc:creator>
  <dc:description/>
  <dc:language>en-US</dc:language>
  <cp:lastModifiedBy>Pearson Education</cp:lastModifiedBy>
  <dcterms:modified xsi:type="dcterms:W3CDTF">2002-08-08T15:24:54Z</dcterms:modified>
  <cp:revision>109</cp:revision>
  <dc:subject/>
  <dc:title>Chapter 7: Classes Part II</dc:title>
</cp:coreProperties>
</file>