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EFC3-E9E1-40FB-8B73-ECD069A06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D237-3C46-4794-94BA-CD60BD7AE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5B58-36B5-4B85-BB3C-523BDD9D5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93B8-63CF-4EE6-A05B-32DAD95B6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C071-668E-4EA4-B5A4-6FE27539D1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FE8F-2F5C-4D24-B618-7A07DD27C8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76CA-6766-4DB3-A911-FDD11356FE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A6D6-8575-4727-A755-DBD6365EA9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BB83-9365-438C-A4F7-FDE462F647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4711-1750-4C7E-B71A-336A80D058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A512-2091-4AB4-A08F-3DBCD031E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1B6F-DA51-484F-B185-3D370754A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2E56-68CD-4040-9D11-885C8EC3A4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AD63-E532-485F-ABF9-FE8FD1696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2D6D-A09B-48C8-833E-23DC23A7B0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EEB9-51F8-47D7-AD17-96CE82A59A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B21F-917B-4DFB-B7B0-0BB1015BA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2F0E-3E5F-4703-A893-1647AC302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33D4-2DE1-40A7-B035-66CC8BD96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63AB-FD47-4CDA-930B-D92A4C652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9DB7-5373-4B62-A6E3-E5150E4DD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6ED8-5FD0-4EBA-ADDE-4E499898E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D511-93ED-492B-8C57-81D8C7820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30CB-E031-442A-A6BC-67A4B46EF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41E-5DA0-4894-A0CA-5DB16B13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16B6-60F5-4D84-AA59-C6FBEAE04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6: Classe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284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 Defini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ccessing Structure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mplementing a User-Defined Typ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with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mplementing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bstract Data Type with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Scope and Accessing Class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parating Interface from Implement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ntrolling Access to 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ccess Functions and Utility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itializing Class Objects: Con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Default Arguments with Con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struc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en Constructors and Destructors Are Called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</a:t>
            </a:r>
            <a:r>
              <a:rPr b="1" i="1" lang="en-US" sz="1800" spc="-1" strike="noStrike">
                <a:solidFill>
                  <a:srgbClr val="ff0000"/>
                </a:solidFill>
                <a:latin typeface="AvantGarde"/>
              </a:rPr>
              <a:t>S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vantGarde"/>
              </a:rPr>
              <a:t>Ge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ubtle Trap: Returning a Reference to a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Data Membe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Memberwise Assig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ftware Re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8C86-BEB3-4EAD-97A1-BA4F3FFE1B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(data membe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(member fun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in response to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object of class in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03B3-AE9B-49C5-BF66-942524AB83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name a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when object instanti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2E3A-BD9C-46CB-A776-F33640F33F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66320" y="761760"/>
            <a:ext cx="4343760" cy="1219320"/>
            <a:chOff x="1066320" y="761760"/>
            <a:chExt cx="4343760" cy="1219320"/>
          </a:xfrm>
        </p:grpSpPr>
        <p:sp>
          <p:nvSpPr>
            <p:cNvPr id="148" name=""/>
            <p:cNvSpPr/>
            <p:nvPr/>
          </p:nvSpPr>
          <p:spPr>
            <a:xfrm>
              <a:off x="2743200" y="11430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 access specifi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295280" y="1295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1066320" y="761760"/>
              <a:ext cx="1676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" y="360360"/>
            <a:ext cx="4114800" cy="885600"/>
            <a:chOff x="685800" y="360360"/>
            <a:chExt cx="4114800" cy="885600"/>
          </a:xfrm>
        </p:grpSpPr>
        <p:sp>
          <p:nvSpPr>
            <p:cNvPr id="152" name=""/>
            <p:cNvSpPr/>
            <p:nvPr/>
          </p:nvSpPr>
          <p:spPr>
            <a:xfrm>
              <a:off x="2133720" y="66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class begins with 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685800" y="3603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76160" y="304560"/>
            <a:ext cx="4115160" cy="1038240"/>
            <a:chOff x="1676160" y="304560"/>
            <a:chExt cx="4115160" cy="1038240"/>
          </a:xfrm>
        </p:grpSpPr>
        <p:sp>
          <p:nvSpPr>
            <p:cNvPr id="155" name=""/>
            <p:cNvSpPr/>
            <p:nvPr/>
          </p:nvSpPr>
          <p:spPr>
            <a:xfrm>
              <a:off x="312408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body starts with left br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676160" y="304560"/>
              <a:ext cx="1447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160" y="2209680"/>
            <a:ext cx="4115160" cy="838440"/>
            <a:chOff x="533160" y="2209680"/>
            <a:chExt cx="4115160" cy="838440"/>
          </a:xfrm>
        </p:grpSpPr>
        <p:sp>
          <p:nvSpPr>
            <p:cNvPr id="158" name=""/>
            <p:cNvSpPr/>
            <p:nvPr/>
          </p:nvSpPr>
          <p:spPr>
            <a:xfrm>
              <a:off x="1981080" y="2209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body ends with right br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33160" y="236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85800" y="2286000"/>
            <a:ext cx="4114800" cy="838080"/>
            <a:chOff x="685800" y="2286000"/>
            <a:chExt cx="4114800" cy="838080"/>
          </a:xfrm>
        </p:grpSpPr>
        <p:sp>
          <p:nvSpPr>
            <p:cNvPr id="161" name=""/>
            <p:cNvSpPr/>
            <p:nvPr/>
          </p:nvSpPr>
          <p:spPr>
            <a:xfrm>
              <a:off x="2133720" y="2286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terminates with semi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858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09960" y="514440"/>
            <a:ext cx="4114800" cy="838080"/>
            <a:chOff x="3009960" y="514440"/>
            <a:chExt cx="4114800" cy="838080"/>
          </a:xfrm>
        </p:grpSpPr>
        <p:sp>
          <p:nvSpPr>
            <p:cNvPr id="164" name=""/>
            <p:cNvSpPr/>
            <p:nvPr/>
          </p:nvSpPr>
          <p:spPr>
            <a:xfrm>
              <a:off x="4457880" y="5144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009960" y="666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981080" y="1600200"/>
            <a:ext cx="4114800" cy="838080"/>
            <a:chOff x="1981080" y="1600200"/>
            <a:chExt cx="4114800" cy="838080"/>
          </a:xfrm>
        </p:grpSpPr>
        <p:sp>
          <p:nvSpPr>
            <p:cNvPr id="167" name=""/>
            <p:cNvSpPr/>
            <p:nvPr/>
          </p:nvSpPr>
          <p:spPr>
            <a:xfrm>
              <a:off x="3429000" y="1600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ccessible only to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9810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3880" y="931680"/>
            <a:ext cx="4114800" cy="1205280"/>
            <a:chOff x="1523880" y="931680"/>
            <a:chExt cx="4114800" cy="1205280"/>
          </a:xfrm>
        </p:grpSpPr>
        <p:sp>
          <p:nvSpPr>
            <p:cNvPr id="170" name=""/>
            <p:cNvSpPr/>
            <p:nvPr/>
          </p:nvSpPr>
          <p:spPr>
            <a:xfrm>
              <a:off x="2971800" y="1312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has same name as clas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no return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523880" y="93168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2FE1-51F7-47E5-8B7B-1C4DD6023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lass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name new type spec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extensibl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, array, pointer and referenc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8131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sunset;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arrayOfTimes[ 5 ];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*pointerToTime;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23880" y="3235320"/>
            <a:ext cx="3810240" cy="595440"/>
            <a:chOff x="1523880" y="3235320"/>
            <a:chExt cx="3810240" cy="595440"/>
          </a:xfrm>
        </p:grpSpPr>
        <p:sp>
          <p:nvSpPr>
            <p:cNvPr id="176" name=""/>
            <p:cNvSpPr/>
            <p:nvPr/>
          </p:nvSpPr>
          <p:spPr>
            <a:xfrm>
              <a:off x="2971800" y="32353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 name becomes new type specifi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523880" y="3429000"/>
              <a:ext cx="144792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ABDD-04F6-4DC7-89C3-8232C7AB29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functions defined outsid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s” member name to clas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ly identify functions of particula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sam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ReturnType ClassName::MemberFunctionName( 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change wheth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 functions defined insid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need scope resolution operator,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attemp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ide class, inline explicitly with keyw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A739-DB0C-4B10-BEC4-EDB3612A3B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3: fig06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(ADT) definition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onstructor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04960" y="2362320"/>
            <a:ext cx="3276720" cy="838080"/>
            <a:chOff x="3504960" y="2362320"/>
            <a:chExt cx="3276720" cy="838080"/>
          </a:xfrm>
        </p:grpSpPr>
        <p:sp>
          <p:nvSpPr>
            <p:cNvPr id="183" name=""/>
            <p:cNvSpPr/>
            <p:nvPr/>
          </p:nvSpPr>
          <p:spPr>
            <a:xfrm>
              <a:off x="4952880" y="2362320"/>
              <a:ext cx="1828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049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0993-79B9-408A-9B78-5E69F6EEC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class Time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)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minute = 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,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 and set invalid values to zer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71800" y="1752480"/>
            <a:ext cx="3809880" cy="838440"/>
            <a:chOff x="2971800" y="1752480"/>
            <a:chExt cx="3809880" cy="838440"/>
          </a:xfrm>
        </p:grpSpPr>
        <p:sp>
          <p:nvSpPr>
            <p:cNvPr id="188" name=""/>
            <p:cNvSpPr/>
            <p:nvPr/>
          </p:nvSpPr>
          <p:spPr>
            <a:xfrm>
              <a:off x="4419720" y="17524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initializ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419360" y="3657600"/>
            <a:ext cx="3505320" cy="1554120"/>
            <a:chOff x="4419360" y="3657600"/>
            <a:chExt cx="3505320" cy="1554120"/>
          </a:xfrm>
        </p:grpSpPr>
        <p:sp>
          <p:nvSpPr>
            <p:cNvPr id="191" name=""/>
            <p:cNvSpPr/>
            <p:nvPr/>
          </p:nvSpPr>
          <p:spPr>
            <a:xfrm>
              <a:off x="5867280" y="3657600"/>
              <a:ext cx="205740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checks parameter values for validity before set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419360" y="3809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AF6E-A74D-46BC-BB0E-B91AC554A2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object t of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3886200"/>
            <a:ext cx="4114800" cy="838080"/>
            <a:chOff x="1066680" y="3886200"/>
            <a:chExt cx="4114800" cy="838080"/>
          </a:xfrm>
        </p:grpSpPr>
        <p:sp>
          <p:nvSpPr>
            <p:cNvPr id="196" name=""/>
            <p:cNvSpPr/>
            <p:nvPr/>
          </p:nvSpPr>
          <p:spPr>
            <a:xfrm>
              <a:off x="2514600" y="3886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object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066680" y="4038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95480" y="533520"/>
            <a:ext cx="4114800" cy="2134080"/>
            <a:chOff x="2895480" y="533520"/>
            <a:chExt cx="4114800" cy="2134080"/>
          </a:xfrm>
        </p:grpSpPr>
        <p:sp>
          <p:nvSpPr>
            <p:cNvPr id="199" name=""/>
            <p:cNvSpPr/>
            <p:nvPr/>
          </p:nvSpPr>
          <p:spPr>
            <a:xfrm>
              <a:off x="4343400" y="1600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arguments (implicitly “know” purpose is to print data members); member function calls more conci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89548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895480" y="53352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2F02-6599-490E-AF61-469B0CE72F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181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initi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universal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standard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ange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new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niversal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3:27:0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:27:06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invalid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's values after specifying invali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ttempting invalid setting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37920" y="720360"/>
            <a:ext cx="4458240" cy="733320"/>
            <a:chOff x="2437920" y="720360"/>
            <a:chExt cx="4458240" cy="733320"/>
          </a:xfrm>
        </p:grpSpPr>
        <p:sp>
          <p:nvSpPr>
            <p:cNvPr id="205" name=""/>
            <p:cNvSpPr/>
            <p:nvPr/>
          </p:nvSpPr>
          <p:spPr>
            <a:xfrm>
              <a:off x="4229280" y="87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s to print ti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2514240" y="720360"/>
              <a:ext cx="1714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437920" y="1025640"/>
              <a:ext cx="179100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86000" y="1905120"/>
            <a:ext cx="4114800" cy="732960"/>
            <a:chOff x="2286000" y="1905120"/>
            <a:chExt cx="4114800" cy="732960"/>
          </a:xfrm>
        </p:grpSpPr>
        <p:sp>
          <p:nvSpPr>
            <p:cNvPr id="209" name=""/>
            <p:cNvSpPr/>
            <p:nvPr/>
          </p:nvSpPr>
          <p:spPr>
            <a:xfrm>
              <a:off x="3733920" y="205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ata memb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0" y="190512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286000" y="2819520"/>
            <a:ext cx="4114800" cy="838080"/>
            <a:chOff x="2286000" y="2819520"/>
            <a:chExt cx="4114800" cy="838080"/>
          </a:xfrm>
        </p:grpSpPr>
        <p:sp>
          <p:nvSpPr>
            <p:cNvPr id="212" name=""/>
            <p:cNvSpPr/>
            <p:nvPr/>
          </p:nvSpPr>
          <p:spPr>
            <a:xfrm>
              <a:off x="37339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set data members to invalid value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860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62D7-BEC6-4A58-9AAC-FE5242D5B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221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6880" y="2798640"/>
            <a:ext cx="4114800" cy="838440"/>
            <a:chOff x="2666880" y="2798640"/>
            <a:chExt cx="4114800" cy="838440"/>
          </a:xfrm>
        </p:grpSpPr>
        <p:sp>
          <p:nvSpPr>
            <p:cNvPr id="218" name=""/>
            <p:cNvSpPr/>
            <p:nvPr/>
          </p:nvSpPr>
          <p:spPr>
            <a:xfrm>
              <a:off x="4114800" y="2798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fter attempting invalid sett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66688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7B5E-0634-4122-810C-5FEF1813F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objects communicate across well-defined 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tails hidden within classe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(programmer-defined) types: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(data memb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(member functions or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blueprints –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instance: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A33D-C7CE-4575-A72B-1F79F2FCE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d with tild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g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0D5C-93D6-4E67-870F-30BC62BA8F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im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bstract Data Type with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using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plify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 (aggreg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objects included as members of oth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derived from 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FE7D-E3EB-43A4-A7ED-6A2941CF85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,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me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ccessible by all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sid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through ha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name, reference to object, pointer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1E86-3393-4ADE-A528-2534988600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declared in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with same name as class-scop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scope variable “hidd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with scope resolution opera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lassName::classVariab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4429-1CE9-470E-9829-660266ACC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to access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cal to thos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member selec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member selec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8654-FF6B-4A2F-ADB8-516123687C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4: fig06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lass member access operators . and -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UTION: IN FUTURE EXAMPLES WE AVOID PUBLIC DATA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Count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x &lt;&lt; endl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47560" y="2286000"/>
            <a:ext cx="4115160" cy="1067400"/>
            <a:chOff x="1447560" y="2286000"/>
            <a:chExt cx="4115160" cy="1067400"/>
          </a:xfrm>
        </p:grpSpPr>
        <p:sp>
          <p:nvSpPr>
            <p:cNvPr id="233" name=""/>
            <p:cNvSpPr/>
            <p:nvPr/>
          </p:nvSpPr>
          <p:spPr>
            <a:xfrm>
              <a:off x="2895480" y="228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llustrate class member access operators; typically data membe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447560" y="243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0306-6DDE-4769-9609-DE355A0B7C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counter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counter objec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*counterPtr = &amp;counter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pointer to counte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 &amp;counterRef = count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reference to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1 to x and print using the object's na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1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.print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2 to x and print using a referenc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Ref.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ssign 2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Ref.print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ssign 3 to x and print using a point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Ptr-&gt;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3 to data member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nterPtr-&gt;print(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member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800600"/>
            <a:ext cx="70102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1 to x and print using the object's name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2 to x and print using a reference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3 to x and print using a pointer: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33360" y="990720"/>
            <a:ext cx="4115160" cy="838080"/>
            <a:chOff x="2133360" y="990720"/>
            <a:chExt cx="4115160" cy="838080"/>
          </a:xfrm>
        </p:grpSpPr>
        <p:sp>
          <p:nvSpPr>
            <p:cNvPr id="239" name=""/>
            <p:cNvSpPr/>
            <p:nvPr/>
          </p:nvSpPr>
          <p:spPr>
            <a:xfrm>
              <a:off x="3581280" y="990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133360" y="11430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61960" y="1828800"/>
            <a:ext cx="4115160" cy="838080"/>
            <a:chOff x="2361960" y="1828800"/>
            <a:chExt cx="4115160" cy="838080"/>
          </a:xfrm>
        </p:grpSpPr>
        <p:sp>
          <p:nvSpPr>
            <p:cNvPr id="242" name=""/>
            <p:cNvSpPr/>
            <p:nvPr/>
          </p:nvSpPr>
          <p:spPr>
            <a:xfrm>
              <a:off x="3809880" y="18288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ference to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619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438280" y="2666880"/>
            <a:ext cx="4114800" cy="838440"/>
            <a:chOff x="2438280" y="2666880"/>
            <a:chExt cx="4114800" cy="838440"/>
          </a:xfrm>
        </p:grpSpPr>
        <p:sp>
          <p:nvSpPr>
            <p:cNvPr id="245" name=""/>
            <p:cNvSpPr/>
            <p:nvPr/>
          </p:nvSpPr>
          <p:spPr>
            <a:xfrm>
              <a:off x="3886200" y="2666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rrow member selection opera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er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er to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438280" y="2819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46DA-D1F5-42AB-BE10-AC82F59BC7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ing interface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modify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 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ions of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line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s about other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ide more with proxy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950D-E50E-45BB-A25F-9171AA5234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definitions and 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d in each file using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extens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-cod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 defin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bas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d and lin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EF5E-5CE6-40DE-BB2E-A00FB3CBE0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5: time1.h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are defined in tim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1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);      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47840" y="533520"/>
            <a:ext cx="4114800" cy="838080"/>
            <a:chOff x="2247840" y="533520"/>
            <a:chExt cx="4114800" cy="838080"/>
          </a:xfrm>
        </p:grpSpPr>
        <p:sp>
          <p:nvSpPr>
            <p:cNvPr id="254" name=""/>
            <p:cNvSpPr/>
            <p:nvPr/>
          </p:nvSpPr>
          <p:spPr>
            <a:xfrm>
              <a:off x="3695760" y="533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code to prevent multiple inclus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247840" y="685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66320" y="1371240"/>
            <a:ext cx="4725000" cy="4115160"/>
            <a:chOff x="1066320" y="1371240"/>
            <a:chExt cx="4725000" cy="4115160"/>
          </a:xfrm>
        </p:grpSpPr>
        <p:sp>
          <p:nvSpPr>
            <p:cNvPr id="257" name=""/>
            <p:cNvSpPr/>
            <p:nvPr/>
          </p:nvSpPr>
          <p:spPr>
            <a:xfrm>
              <a:off x="31240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de between these directives not included if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ready defin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1905120" y="137124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066320" y="1981080"/>
              <a:ext cx="2057400" cy="35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37720" y="1447560"/>
            <a:ext cx="2858040" cy="794880"/>
            <a:chOff x="837720" y="1447560"/>
            <a:chExt cx="2858040" cy="794880"/>
          </a:xfrm>
        </p:grpSpPr>
        <p:sp>
          <p:nvSpPr>
            <p:cNvPr id="261" name=""/>
            <p:cNvSpPr/>
            <p:nvPr/>
          </p:nvSpPr>
          <p:spPr>
            <a:xfrm>
              <a:off x="2057400" y="1905120"/>
              <a:ext cx="1638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t define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837720" y="144756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904760" y="1596600"/>
            <a:ext cx="4115160" cy="889200"/>
            <a:chOff x="1904760" y="1596600"/>
            <a:chExt cx="4115160" cy="889200"/>
          </a:xfrm>
        </p:grpSpPr>
        <p:sp>
          <p:nvSpPr>
            <p:cNvPr id="264" name=""/>
            <p:cNvSpPr/>
            <p:nvPr/>
          </p:nvSpPr>
          <p:spPr>
            <a:xfrm>
              <a:off x="3352680" y="1905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defines 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1904760" y="1596600"/>
              <a:ext cx="144756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76520" y="1733040"/>
            <a:ext cx="3886200" cy="1148400"/>
            <a:chOff x="1676520" y="1733040"/>
            <a:chExt cx="3886200" cy="1148400"/>
          </a:xfrm>
        </p:grpSpPr>
        <p:sp>
          <p:nvSpPr>
            <p:cNvPr id="267" name=""/>
            <p:cNvSpPr/>
            <p:nvPr/>
          </p:nvSpPr>
          <p:spPr>
            <a:xfrm>
              <a:off x="2895480" y="2057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ing convention: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der file name with underscore replacing perio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1676520" y="1733040"/>
              <a:ext cx="12189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4E76-C89E-4C46-B641-EEE0F1DED7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e data types built using elements of other typ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i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ou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inu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member 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ust have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differ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: can shar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ition must end with semico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038120" y="2514600"/>
            <a:ext cx="4725000" cy="1218960"/>
            <a:chOff x="4038120" y="2514600"/>
            <a:chExt cx="4725000" cy="1218960"/>
          </a:xfrm>
        </p:grpSpPr>
        <p:sp>
          <p:nvSpPr>
            <p:cNvPr id="94" name=""/>
            <p:cNvSpPr/>
            <p:nvPr/>
          </p:nvSpPr>
          <p:spPr>
            <a:xfrm flipH="1">
              <a:off x="4038120" y="2666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2514600"/>
              <a:ext cx="175284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647960" y="33526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81680" y="3205080"/>
              <a:ext cx="198144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me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2895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8E99-A5C0-4451-9A2A-2102DF2BAE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6: time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minute = 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09680" y="2057400"/>
            <a:ext cx="4114800" cy="838080"/>
            <a:chOff x="2209680" y="2057400"/>
            <a:chExt cx="4114800" cy="838080"/>
          </a:xfrm>
        </p:grpSpPr>
        <p:sp>
          <p:nvSpPr>
            <p:cNvPr id="272" name=""/>
            <p:cNvSpPr/>
            <p:nvPr/>
          </p:nvSpPr>
          <p:spPr>
            <a:xfrm>
              <a:off x="365760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20968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52120" y="3006720"/>
            <a:ext cx="3810600" cy="1691640"/>
            <a:chOff x="1752120" y="3006720"/>
            <a:chExt cx="3810600" cy="1691640"/>
          </a:xfrm>
        </p:grpSpPr>
        <p:sp>
          <p:nvSpPr>
            <p:cNvPr id="275" name=""/>
            <p:cNvSpPr/>
            <p:nvPr/>
          </p:nvSpPr>
          <p:spPr>
            <a:xfrm>
              <a:off x="2895480" y="33876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of header file enclosed in quotes; angle brackets cause preprocessor to assume header part of C++ Standard Libra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1752120" y="300672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7FD2-1F49-44C8-B1AD-CD45E663E8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.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. Set invalid values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8A5F-AB6D-4D49-9B00-57E0F5FAA9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1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8D70-C06D-4801-A111-D25D2284AF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7: fig06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to test class Time.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TE: This file must be compiled with time1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stantiate object t of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initial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initial universal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initial standard 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hange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1371600"/>
            <a:ext cx="4114800" cy="1310760"/>
            <a:chOff x="2286000" y="1371600"/>
            <a:chExt cx="4114800" cy="1310760"/>
          </a:xfrm>
        </p:grpSpPr>
        <p:sp>
          <p:nvSpPr>
            <p:cNvPr id="284" name=""/>
            <p:cNvSpPr/>
            <p:nvPr/>
          </p:nvSpPr>
          <p:spPr>
            <a:xfrm>
              <a:off x="3733920" y="1371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lud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nsure correct creation/manipulation and determine siz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lass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2860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C909-1991-4D66-9913-F7422C7471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ime object t's new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Universal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3:27:0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 after setTim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:27:06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 invalid sett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t's values after specifying invali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attempting invalid settings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Universal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Universal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andard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printStandard(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3434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E91A-9D8F-4054-8085-6E525C328D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to member function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to any function in program with handle to 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7970-646C-4E3F-BDE9-1720A8DB60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8: fig06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Demonstrate errors resulting from attemp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to access private class members.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1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1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hour = 7;  // error: 'Time::hour' is not acces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error: 'Time::minute' is not accessi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ut &lt;&lt; "minute = " &lt;&lt; t.minute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0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28800" y="2646360"/>
            <a:ext cx="4114800" cy="1067400"/>
            <a:chOff x="1828800" y="2646360"/>
            <a:chExt cx="4114800" cy="1067400"/>
          </a:xfrm>
        </p:grpSpPr>
        <p:sp>
          <p:nvSpPr>
            <p:cNvPr id="294" name=""/>
            <p:cNvSpPr/>
            <p:nvPr/>
          </p:nvSpPr>
          <p:spPr>
            <a:xfrm>
              <a:off x="3276720" y="264636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all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attempt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results i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828800" y="279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3560" y="3379680"/>
            <a:ext cx="4115160" cy="1067400"/>
            <a:chOff x="3733560" y="3379680"/>
            <a:chExt cx="4115160" cy="1067400"/>
          </a:xfrm>
        </p:grpSpPr>
        <p:sp>
          <p:nvSpPr>
            <p:cNvPr id="297" name=""/>
            <p:cNvSpPr/>
            <p:nvPr/>
          </p:nvSpPr>
          <p:spPr>
            <a:xfrm>
              <a:off x="5181480" y="33796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attempts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produces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733560" y="3532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3978-C448-4913-9B36-51F7B8E112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6\Fig6_06\Fig06_06.cpp(16) : error C2248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'hour' : cannot access private member declared in class 'Time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cpphtp4_examples\ch06\Fig6_06\Fig06_06.cpp(19) : error C2248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'minute' : cannot access private member declared in class 'Tim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86200" y="536400"/>
            <a:ext cx="4723920" cy="1585800"/>
            <a:chOff x="3886200" y="536400"/>
            <a:chExt cx="4723920" cy="1585800"/>
          </a:xfrm>
        </p:grpSpPr>
        <p:sp>
          <p:nvSpPr>
            <p:cNvPr id="302" name=""/>
            <p:cNvSpPr/>
            <p:nvPr/>
          </p:nvSpPr>
          <p:spPr>
            <a:xfrm>
              <a:off x="5943240" y="1298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s produced by attempting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886200" y="536400"/>
              <a:ext cx="205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3886200" y="993600"/>
              <a:ext cx="205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5DB6-88B6-42C2-9998-1B6197A34B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emb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se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class’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ed with access functions (accessor meth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977B-54E7-44A9-B607-F42BA75FEC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 Access Functions and Utility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/display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icate func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functions (helper fun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rt opera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for direct client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0EDC-EE09-4F71-B0FD-DADCB45F05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member cannot be instance of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member can be pointer to instance of enclo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elf-referential structu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linked lists, queues, stacks and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new data type used to decla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variables declared like variables of other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Array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*ti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&amp;timeRef =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1A1D-8B4F-4AC3-B41F-D10BBD7B4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9: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alesPerson class defini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salesp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ESP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ALESP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esPerson();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alesFromUser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put sales from keybo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ales for a mon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nnualSales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mmarize and print 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AnnualSales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12 monthly sales figur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alesPers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76720" y="1600200"/>
            <a:ext cx="3047760" cy="990720"/>
            <a:chOff x="3276720" y="1600200"/>
            <a:chExt cx="3047760" cy="990720"/>
          </a:xfrm>
        </p:grpSpPr>
        <p:sp>
          <p:nvSpPr>
            <p:cNvPr id="312" name=""/>
            <p:cNvSpPr/>
            <p:nvPr/>
          </p:nvSpPr>
          <p:spPr>
            <a:xfrm>
              <a:off x="457200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access function performs validity chec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76720" y="1752480"/>
              <a:ext cx="12952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124080" y="2646360"/>
            <a:ext cx="3200400" cy="838080"/>
            <a:chOff x="3124080" y="2646360"/>
            <a:chExt cx="3200400" cy="838080"/>
          </a:xfrm>
        </p:grpSpPr>
        <p:sp>
          <p:nvSpPr>
            <p:cNvPr id="315" name=""/>
            <p:cNvSpPr/>
            <p:nvPr/>
          </p:nvSpPr>
          <p:spPr>
            <a:xfrm>
              <a:off x="4572000" y="2646360"/>
              <a:ext cx="1752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tility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124080" y="279864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051F-E618-4F82-B569-26F9E8A378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0: sales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for class SalesPers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SalesPerson class definition from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esp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elements of array sales to 0.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alesPerson::SalesPerso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e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alesPerson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03D3-E3C7-4504-A89A-835257960E2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et 12 sales figures from the user at the keybo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getSalesFromUse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Figure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ales amount for month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salesFigur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etSales( i, salesFigur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alesFrom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one of the 12 monthly sales figures; function subtra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ne from month value for proper subscript in sales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setSale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m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est for valid month and amou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ont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onth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amount &g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ales[ month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amount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just for subscripts 0-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month or amount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valid month or sales figur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57320" y="3484440"/>
            <a:ext cx="4115160" cy="838440"/>
            <a:chOff x="2857320" y="3484440"/>
            <a:chExt cx="4115160" cy="838440"/>
          </a:xfrm>
        </p:grpSpPr>
        <p:sp>
          <p:nvSpPr>
            <p:cNvPr id="322" name=""/>
            <p:cNvSpPr/>
            <p:nvPr/>
          </p:nvSpPr>
          <p:spPr>
            <a:xfrm>
              <a:off x="4305240" y="34844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access function performs validity chec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857320" y="363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2AD6-55EE-43C6-A851-DC5010637A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p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otal annual sales (with help of utility func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printAnnualSales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ixe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total annual sales are: $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AnnualSales()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utility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printAnnualSal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vate utility function to total annual sales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alesPerson::totalAnnualSales(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tal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mmarize sales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ales[ i ]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;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otalAnnualSal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305240" y="2452680"/>
            <a:ext cx="4114800" cy="1310760"/>
            <a:chOff x="4305240" y="2452680"/>
            <a:chExt cx="4114800" cy="1310760"/>
          </a:xfrm>
        </p:grpSpPr>
        <p:sp>
          <p:nvSpPr>
            <p:cNvPr id="327" name=""/>
            <p:cNvSpPr/>
            <p:nvPr/>
          </p:nvSpPr>
          <p:spPr>
            <a:xfrm>
              <a:off x="5753160" y="24526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tility function to help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encapsulates logic of manipula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305240" y="260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AC9C-683B-4A65-8666-498350A936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1: fig06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utility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ile this program with salesp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SalesPerson class definition from salesp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alesp.h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lesPerson s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alesPerson object 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.getSalesFromUser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note simple sequential code; n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.printAnnualSales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rol structures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962160" y="1676520"/>
            <a:ext cx="4115160" cy="1067400"/>
            <a:chOff x="3962160" y="1676520"/>
            <a:chExt cx="4115160" cy="1067400"/>
          </a:xfrm>
        </p:grpSpPr>
        <p:sp>
          <p:nvSpPr>
            <p:cNvPr id="332" name=""/>
            <p:cNvSpPr/>
            <p:nvPr/>
          </p:nvSpPr>
          <p:spPr>
            <a:xfrm>
              <a:off x="5410080" y="16765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mple sequence of member function calls; logic encapsulated in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9621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1E51-639C-4EBF-983A-6DEEDB47CD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: 5314.7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2: 4292.3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3: 4589.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4: 5534.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5: 4376.3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6: 5698.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7: 4439.2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8: 5893.5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9: 4909.6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0: 5123.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1: 4024.9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ales amount for month 12: 5923.9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2DAB-0CD4-4F1E-9373-A9A72ACF329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0 Initializing Class Objects: 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can set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arguments to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parentheses to right of class name before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lass-type ObjectName( value1,value2,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A67B-B228-4356-8053-6F85B24658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1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specify default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constru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s all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requir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invoked with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p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2C26-589C-4895-A776-50C2FC3C94F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2: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2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2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abstract data typ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,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printUniversal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oid printStandard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438280" y="1981080"/>
            <a:ext cx="4114800" cy="838440"/>
            <a:chOff x="2438280" y="1981080"/>
            <a:chExt cx="4114800" cy="838440"/>
          </a:xfrm>
        </p:grpSpPr>
        <p:sp>
          <p:nvSpPr>
            <p:cNvPr id="343" name=""/>
            <p:cNvSpPr/>
            <p:nvPr/>
          </p:nvSpPr>
          <p:spPr>
            <a:xfrm>
              <a:off x="388620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onstructor specifying all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43828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02D4-67B0-495D-B251-59956BC9FAC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3: time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2.h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ime constructor initializes each data member to zero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sures all Time objects start in a consistent st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lidate and set tim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305240" y="2992320"/>
            <a:ext cx="4114800" cy="838440"/>
            <a:chOff x="4305240" y="2992320"/>
            <a:chExt cx="4114800" cy="838440"/>
          </a:xfrm>
        </p:grpSpPr>
        <p:sp>
          <p:nvSpPr>
            <p:cNvPr id="348" name=""/>
            <p:cNvSpPr/>
            <p:nvPr/>
          </p:nvSpPr>
          <p:spPr>
            <a:xfrm>
              <a:off x="5753160" y="299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validate passed (or default)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305240" y="314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5097-7B88-4291-B3A6-692CEB35092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Accessing Structure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 and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 and class members via pointer to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timeObject.hour;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&amp;timeObjec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timePtr-&gt;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*timePtr ).h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hese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wer precedence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2D0A-82B6-41A4-8BCF-AF534D3B8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Time value using universal time, perform validit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s on the data values and set invalid values to zer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hou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3151-2519-4E55-8597-CB2E92498B1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2.cpp 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F6C8-941E-44C6-BAA1-96F8590B702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4: fig06_1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default constructor for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2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"time2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1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arguments defaulted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2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inute and second default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3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defaulted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4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values specified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5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 bad values specifie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onstructed with: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default arguments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1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1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791320" y="2535120"/>
            <a:ext cx="2743200" cy="838440"/>
            <a:chOff x="5791320" y="2535120"/>
            <a:chExt cx="2743200" cy="838440"/>
          </a:xfrm>
        </p:grpSpPr>
        <p:sp>
          <p:nvSpPr>
            <p:cNvPr id="357" name=""/>
            <p:cNvSpPr/>
            <p:nvPr/>
          </p:nvSpPr>
          <p:spPr>
            <a:xfrm>
              <a:off x="6705720" y="2535120"/>
              <a:ext cx="1828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using default argu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791320" y="2743200"/>
              <a:ext cx="91440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286000" y="3885840"/>
            <a:ext cx="5791320" cy="976680"/>
            <a:chOff x="2286000" y="3885840"/>
            <a:chExt cx="5791320" cy="976680"/>
          </a:xfrm>
        </p:grpSpPr>
        <p:sp>
          <p:nvSpPr>
            <p:cNvPr id="360" name=""/>
            <p:cNvSpPr/>
            <p:nvPr/>
          </p:nvSpPr>
          <p:spPr>
            <a:xfrm>
              <a:off x="5410080" y="4038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with invalid values; validity checking will set value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2286000" y="3885840"/>
              <a:ext cx="3124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1C4E-BC33-42BE-A94B-385C497BE8A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 specified; default minute and secon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2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2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2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 and minute specified; default secon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3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21:34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3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9:34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hour, minute, and second specified: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4.printUniversal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25: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4.printStandard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12:25:42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\n\nall invalid values specified:\n  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t5.printUniversal();  // 00:00:00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cout &lt;&lt; "\n  "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t5.printStandard();   // 12:00:00 AM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886200" y="3165480"/>
            <a:ext cx="4114800" cy="838080"/>
            <a:chOff x="3886200" y="3165480"/>
            <a:chExt cx="4114800" cy="838080"/>
          </a:xfrm>
        </p:grpSpPr>
        <p:sp>
          <p:nvSpPr>
            <p:cNvPr id="365" name=""/>
            <p:cNvSpPr/>
            <p:nvPr/>
          </p:nvSpPr>
          <p:spPr>
            <a:xfrm>
              <a:off x="5334120" y="3165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ed with invalid arguments; value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86200" y="3317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81BE-5421-46B6-8AD5-4C718F8DC32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ucted wit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default argumen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specified; default minute and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2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:00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and minute specified; default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:34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:34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, minute, and second specifi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25:4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:25:42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invalid values specifie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1E29-E55C-4D72-8BA4-152927284B7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2 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cla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ed with tild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rg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system reclaims object’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se memory for new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xplicit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reates “empty” destru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729C-931A-4A25-A998-66CE1B68DEB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implicitly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function ca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ends on order of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execution enters and exits scope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lly, destructor calls reverse order of constructor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ADB0-1502-43CA-B422-2E5D6501081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structor, destructo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any other function (includ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terminate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objects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ime execution enter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objects leav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 exits block in which object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4D07-FCC1-4BFF-B37C-3C28AD4E4DA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structor, destructo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cal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ly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execution reaches point where object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u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rminates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alled if program ends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559E-CC15-4A3C-A215-052E8ECD0EC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5: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class CreateAndDestro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create.cp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AT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REATE_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~CreateAndDestroy()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struct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I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essag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CreateAnd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733560" y="1523880"/>
            <a:ext cx="4115160" cy="838440"/>
            <a:chOff x="3733560" y="15238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518148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member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7335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057400" y="2362320"/>
            <a:ext cx="4114800" cy="838080"/>
            <a:chOff x="2057400" y="236232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3505320" y="236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s to show order of constructor, 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05740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E85E-3C15-4431-8998-46FDAE13332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 Implementing a User-Defined Typ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im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uc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: structures passed by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tructure by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overhead of copying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style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“interfac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mplementation changes, all programs using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change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print as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int/format member by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ompare in entire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compare member by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B093-F156-4B4D-9224-0FDB04440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6: create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class CreateAndDestro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CreateAndDestroy class definition from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::CreateAndDestroy(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bjectNumbe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messagePtr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objectID = objectNumber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ssage = messagePtr;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objectI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constructor runs 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ssage &lt;&lt; endl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reateAndDestroy constructo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429000" y="2992320"/>
            <a:ext cx="4114800" cy="838440"/>
            <a:chOff x="3429000" y="2992320"/>
            <a:chExt cx="4114800" cy="838440"/>
          </a:xfrm>
        </p:grpSpPr>
        <p:sp>
          <p:nvSpPr>
            <p:cNvPr id="388" name=""/>
            <p:cNvSpPr/>
            <p:nvPr/>
          </p:nvSpPr>
          <p:spPr>
            <a:xfrm>
              <a:off x="4876920" y="2992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timing of con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29000" y="31449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2F87-37C1-4FA6-974B-0F8D490A8A9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::~CreateAndDestroy()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following line is for pedagogic purposes only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object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objectID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bjec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bjectID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destructor runs   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essage &lt;&lt; endl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~CreateAndDestroy destructor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361960" y="665280"/>
            <a:ext cx="4115160" cy="838080"/>
            <a:chOff x="2361960" y="665280"/>
            <a:chExt cx="4115160" cy="838080"/>
          </a:xfrm>
        </p:grpSpPr>
        <p:sp>
          <p:nvSpPr>
            <p:cNvPr id="393" name=""/>
            <p:cNvSpPr/>
            <p:nvPr/>
          </p:nvSpPr>
          <p:spPr>
            <a:xfrm>
              <a:off x="3809880" y="6652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message to demonstrate timing of destructor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361960" y="8175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5FC3-FCF7-4129-9246-A7696A3895E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7: fig06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order in which constructors 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structors are call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CreateAndDestroy class definition from create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reate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AndDestroy first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global before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FUNCTION: EXECUTION BEGI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main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third(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static in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438280" y="2327400"/>
            <a:ext cx="4114800" cy="838080"/>
            <a:chOff x="2438280" y="2327400"/>
            <a:chExt cx="4114800" cy="838080"/>
          </a:xfrm>
        </p:grpSpPr>
        <p:sp>
          <p:nvSpPr>
            <p:cNvPr id="398" name=""/>
            <p:cNvSpPr/>
            <p:nvPr/>
          </p:nvSpPr>
          <p:spPr>
            <a:xfrm>
              <a:off x="3886200" y="2327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variable with global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438280" y="247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38280" y="3657600"/>
            <a:ext cx="4114800" cy="838080"/>
            <a:chOff x="2438280" y="3657600"/>
            <a:chExt cx="4114800" cy="838080"/>
          </a:xfrm>
        </p:grpSpPr>
        <p:sp>
          <p:nvSpPr>
            <p:cNvPr id="401" name=""/>
            <p:cNvSpPr/>
            <p:nvPr/>
          </p:nvSpPr>
          <p:spPr>
            <a:xfrm>
              <a:off x="3886200" y="36576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438280" y="3809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438280" y="4149720"/>
            <a:ext cx="4114800" cy="838080"/>
            <a:chOff x="2438280" y="4149720"/>
            <a:chExt cx="4114800" cy="838080"/>
          </a:xfrm>
        </p:grpSpPr>
        <p:sp>
          <p:nvSpPr>
            <p:cNvPr id="404" name=""/>
            <p:cNvSpPr/>
            <p:nvPr/>
          </p:nvSpPr>
          <p:spPr>
            <a:xfrm>
              <a:off x="3886200" y="4149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438280" y="430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5573-A8DD-4607-98BF-46274B7E806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 function to creat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MAIN FUNCTION: EXECUTION RESUM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four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main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MAIN FUNCTION: EXECUTION E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create objec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REATE FUNCTION: EXECUTION BEGI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fifth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create)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reateAndDestroy sixth(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(local static in create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reateAndDestroy seventh(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(local automatic in create)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523880" y="380880"/>
            <a:ext cx="4114800" cy="1037880"/>
            <a:chOff x="1523880" y="380880"/>
            <a:chExt cx="4114800" cy="1037880"/>
          </a:xfrm>
        </p:grpSpPr>
        <p:sp>
          <p:nvSpPr>
            <p:cNvPr id="409" name=""/>
            <p:cNvSpPr/>
            <p:nvPr/>
          </p:nvSpPr>
          <p:spPr>
            <a:xfrm>
              <a:off x="2971800" y="83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1523880" y="3808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523880" y="1295280"/>
            <a:ext cx="4114800" cy="794520"/>
            <a:chOff x="1523880" y="1295280"/>
            <a:chExt cx="4114800" cy="794520"/>
          </a:xfrm>
        </p:grpSpPr>
        <p:sp>
          <p:nvSpPr>
            <p:cNvPr id="412" name=""/>
            <p:cNvSpPr/>
            <p:nvPr/>
          </p:nvSpPr>
          <p:spPr>
            <a:xfrm>
              <a:off x="2971800" y="17524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523880" y="1295280"/>
              <a:ext cx="1447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523880" y="3048120"/>
            <a:ext cx="4114800" cy="838080"/>
            <a:chOff x="1523880" y="3048120"/>
            <a:chExt cx="4114800" cy="838080"/>
          </a:xfrm>
        </p:grpSpPr>
        <p:sp>
          <p:nvSpPr>
            <p:cNvPr id="415" name=""/>
            <p:cNvSpPr/>
            <p:nvPr/>
          </p:nvSpPr>
          <p:spPr>
            <a:xfrm>
              <a:off x="29718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5238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523880" y="3505320"/>
            <a:ext cx="4114800" cy="838080"/>
            <a:chOff x="1523880" y="3505320"/>
            <a:chExt cx="4114800" cy="838080"/>
          </a:xfrm>
        </p:grpSpPr>
        <p:sp>
          <p:nvSpPr>
            <p:cNvPr id="418" name=""/>
            <p:cNvSpPr/>
            <p:nvPr/>
          </p:nvSpPr>
          <p:spPr>
            <a:xfrm>
              <a:off x="2971800" y="3505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local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523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523880" y="4191120"/>
            <a:ext cx="4114800" cy="838080"/>
            <a:chOff x="1523880" y="4191120"/>
            <a:chExt cx="4114800" cy="838080"/>
          </a:xfrm>
        </p:grpSpPr>
        <p:sp>
          <p:nvSpPr>
            <p:cNvPr id="421" name=""/>
            <p:cNvSpPr/>
            <p:nvPr/>
          </p:nvSpPr>
          <p:spPr>
            <a:xfrm>
              <a:off x="2971800" y="4191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local automatic object in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23880" y="4343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0077-F4B0-4A49-9BEF-F6D28ABD6DA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CREATE FUNCTION: EXECUTION ENDS\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re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FD32-4737-4EC1-A36A-B95A854110E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1   constructor runs   (global before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2   constructor runs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3   constructor runs   (local st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FUNCTION: EXECUTION BEGI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5   constructor runs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6   constructor runs   (local st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7   constructor runs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FUNCTION: EXECU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7   destructor runs 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5   destructor runs    (local autom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RESU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4   constructor runs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FUNCTION: EXECUTION E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4   destructor runs 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2   destructor runs    (local autom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6   destructor runs    (local static in create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3   destructor runs    (local static in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1   destructor runs    (global before mai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181120" y="990360"/>
            <a:ext cx="3810600" cy="3657960"/>
            <a:chOff x="5181120" y="990360"/>
            <a:chExt cx="3810600" cy="3657960"/>
          </a:xfrm>
        </p:grpSpPr>
        <p:sp>
          <p:nvSpPr>
            <p:cNvPr id="428" name=""/>
            <p:cNvSpPr/>
            <p:nvPr/>
          </p:nvSpPr>
          <p:spPr>
            <a:xfrm>
              <a:off x="6324480" y="2300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s for local automatic objec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ed in reverse order of constructo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181120" y="990360"/>
              <a:ext cx="114300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181120" y="2452680"/>
              <a:ext cx="1143000" cy="12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181120" y="2452680"/>
              <a:ext cx="1143000" cy="19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181120" y="2452680"/>
              <a:ext cx="1143000" cy="21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876560" y="1142640"/>
            <a:ext cx="4115160" cy="3962880"/>
            <a:chOff x="4876560" y="1142640"/>
            <a:chExt cx="4115160" cy="3962880"/>
          </a:xfrm>
        </p:grpSpPr>
        <p:sp>
          <p:nvSpPr>
            <p:cNvPr id="434" name=""/>
            <p:cNvSpPr/>
            <p:nvPr/>
          </p:nvSpPr>
          <p:spPr>
            <a:xfrm>
              <a:off x="6324480" y="227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exists until program term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4876560" y="1142640"/>
              <a:ext cx="1447560" cy="12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876560" y="2452680"/>
              <a:ext cx="1447560" cy="26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723920" y="304560"/>
            <a:ext cx="4267800" cy="5181840"/>
            <a:chOff x="4723920" y="304560"/>
            <a:chExt cx="4267800" cy="5181840"/>
          </a:xfrm>
        </p:grpSpPr>
        <p:sp>
          <p:nvSpPr>
            <p:cNvPr id="438" name=""/>
            <p:cNvSpPr/>
            <p:nvPr/>
          </p:nvSpPr>
          <p:spPr>
            <a:xfrm>
              <a:off x="6324480" y="2452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obal object constructed bef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tion and destroyed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4723920" y="304560"/>
              <a:ext cx="1600200" cy="23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723920" y="2604960"/>
              <a:ext cx="1600200" cy="28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410080" y="1828440"/>
            <a:ext cx="3581640" cy="1936080"/>
            <a:chOff x="5410080" y="1828440"/>
            <a:chExt cx="3581640" cy="1936080"/>
          </a:xfrm>
        </p:grpSpPr>
        <p:sp>
          <p:nvSpPr>
            <p:cNvPr id="442" name=""/>
            <p:cNvSpPr/>
            <p:nvPr/>
          </p:nvSpPr>
          <p:spPr>
            <a:xfrm>
              <a:off x="6324480" y="2697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automatic objects destroyed after function execution ends in reverse order of constru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410080" y="1828440"/>
              <a:ext cx="91440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5410080" y="2279160"/>
              <a:ext cx="91440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10080" y="2849400"/>
              <a:ext cx="91440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410080" y="2849400"/>
              <a:ext cx="9144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029200" y="1981080"/>
            <a:ext cx="3962520" cy="2895840"/>
            <a:chOff x="5029200" y="1981080"/>
            <a:chExt cx="3962520" cy="2895840"/>
          </a:xfrm>
        </p:grpSpPr>
        <p:sp>
          <p:nvSpPr>
            <p:cNvPr id="448" name=""/>
            <p:cNvSpPr/>
            <p:nvPr/>
          </p:nvSpPr>
          <p:spPr>
            <a:xfrm>
              <a:off x="6324480" y="28494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constructed on first function call and destroy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ecution end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029200" y="1981080"/>
              <a:ext cx="1295280" cy="10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105520" y="3002040"/>
              <a:ext cx="1218960" cy="18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CD47-EFD1-455E-A765-95E8C70E226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4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i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validity checks before modify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ify if invalid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 with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”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format of data retu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05F6-CA55-4B8F-8810-A3BBF92D461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h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8: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3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3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,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get functions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Minute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Second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029200" y="2798640"/>
            <a:ext cx="2819520" cy="838440"/>
            <a:chOff x="5029200" y="2798640"/>
            <a:chExt cx="2819520" cy="838440"/>
          </a:xfrm>
        </p:grpSpPr>
        <p:sp>
          <p:nvSpPr>
            <p:cNvPr id="456" name=""/>
            <p:cNvSpPr/>
            <p:nvPr/>
          </p:nvSpPr>
          <p:spPr>
            <a:xfrm>
              <a:off x="6477120" y="279864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02920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067360" y="3962520"/>
            <a:ext cx="2819520" cy="837720"/>
            <a:chOff x="5067360" y="3962520"/>
            <a:chExt cx="2819520" cy="837720"/>
          </a:xfrm>
        </p:grpSpPr>
        <p:sp>
          <p:nvSpPr>
            <p:cNvPr id="459" name=""/>
            <p:cNvSpPr/>
            <p:nvPr/>
          </p:nvSpPr>
          <p:spPr>
            <a:xfrm>
              <a:off x="6515280" y="396252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067360" y="41148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21BD-5E36-45E2-9B58-EB7CD3244E6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h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 - 5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4841-E88E-463F-84FD-D053AC9D12E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19: time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3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AA10-8140-497A-9D03-D09E4D394A5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6.1: fig06_0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Create a structure, set its members, and print i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fil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ructure definition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tru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{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our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23 (24-hour clock forma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inute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59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cond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0-59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end struct Tim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Univers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Standa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 &amp;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108" name=""/>
            <p:cNvSpPr/>
            <p:nvPr/>
          </p:nvSpPr>
          <p:spPr>
            <a:xfrm>
              <a:off x="43434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e structure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three integer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29000" y="3733920"/>
            <a:ext cx="4114800" cy="1066680"/>
            <a:chOff x="3429000" y="3733920"/>
            <a:chExt cx="4114800" cy="1066680"/>
          </a:xfrm>
        </p:grpSpPr>
        <p:sp>
          <p:nvSpPr>
            <p:cNvPr id="111" name=""/>
            <p:cNvSpPr/>
            <p:nvPr/>
          </p:nvSpPr>
          <p:spPr>
            <a:xfrm>
              <a:off x="487692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references to consta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to eliminate copying overh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42900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29000" y="3886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61A0-549D-4D1F-ACD4-4774017C92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, minute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Hour( h 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Minute( m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Second( s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Hou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Hour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Minu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Minute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514600" y="1143000"/>
            <a:ext cx="4114800" cy="809280"/>
            <a:chOff x="2514600" y="1143000"/>
            <a:chExt cx="4114800" cy="809280"/>
          </a:xfrm>
        </p:grpSpPr>
        <p:sp>
          <p:nvSpPr>
            <p:cNvPr id="468" name=""/>
            <p:cNvSpPr/>
            <p:nvPr/>
          </p:nvSpPr>
          <p:spPr>
            <a:xfrm>
              <a:off x="39625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set functions to perform validity check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514600" y="11430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352320" y="3048120"/>
            <a:ext cx="4267800" cy="1274760"/>
            <a:chOff x="3352320" y="3048120"/>
            <a:chExt cx="4267800" cy="1274760"/>
          </a:xfrm>
        </p:grpSpPr>
        <p:sp>
          <p:nvSpPr>
            <p:cNvPr id="471" name=""/>
            <p:cNvSpPr/>
            <p:nvPr/>
          </p:nvSpPr>
          <p:spPr>
            <a:xfrm>
              <a:off x="4952880" y="34844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s perform validity checks before modifying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504960" y="363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>
              <a:off x="3352320" y="3048120"/>
              <a:ext cx="16002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5364-C756-4E7B-8E3E-5E62C1B04FB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second value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setSecon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etSecond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ute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Minute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590560" y="0"/>
            <a:ext cx="4115160" cy="838080"/>
            <a:chOff x="2590560" y="0"/>
            <a:chExt cx="4115160" cy="838080"/>
          </a:xfrm>
        </p:grpSpPr>
        <p:sp>
          <p:nvSpPr>
            <p:cNvPr id="477" name=""/>
            <p:cNvSpPr/>
            <p:nvPr/>
          </p:nvSpPr>
          <p:spPr>
            <a:xfrm>
              <a:off x="4038480" y="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function performs validity checks before modifying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590560" y="152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276360" y="2514600"/>
            <a:ext cx="4115160" cy="1143000"/>
            <a:chOff x="3276360" y="2514600"/>
            <a:chExt cx="4115160" cy="1143000"/>
          </a:xfrm>
        </p:grpSpPr>
        <p:sp>
          <p:nvSpPr>
            <p:cNvPr id="480" name=""/>
            <p:cNvSpPr/>
            <p:nvPr/>
          </p:nvSpPr>
          <p:spPr>
            <a:xfrm>
              <a:off x="4724280" y="28195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s allow client to rea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276360" y="2971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3276360" y="251460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EA3C-6DE4-49C2-AEFA-C552DA2B411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3.cpp 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econd value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Second(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Universal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printStandard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minu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286000" y="838080"/>
            <a:ext cx="4114800" cy="885600"/>
            <a:chOff x="2286000" y="838080"/>
            <a:chExt cx="4114800" cy="885600"/>
          </a:xfrm>
        </p:grpSpPr>
        <p:sp>
          <p:nvSpPr>
            <p:cNvPr id="486" name=""/>
            <p:cNvSpPr/>
            <p:nvPr/>
          </p:nvSpPr>
          <p:spPr>
            <a:xfrm>
              <a:off x="37339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t function allows client to rea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286000" y="8380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B91E-BC43-4DC9-91A7-44F10E59992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0: fig06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Time class set and get funct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3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3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Minutes( Time &amp;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me using individual set function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Hou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hour to valid valu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Second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second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429000" y="2798640"/>
            <a:ext cx="4114800" cy="838440"/>
            <a:chOff x="3429000" y="2798640"/>
            <a:chExt cx="4114800" cy="838440"/>
          </a:xfrm>
        </p:grpSpPr>
        <p:sp>
          <p:nvSpPr>
            <p:cNvPr id="491" name=""/>
            <p:cNvSpPr/>
            <p:nvPr/>
          </p:nvSpPr>
          <p:spPr>
            <a:xfrm>
              <a:off x="4876920" y="2798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oke set functions to set valid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429000" y="295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61F3-16A6-458D-89A3-8AAA090DE1A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get functions to obtain hour, minute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ult of setting all valid values: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Hou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 Minute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.getMinu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Secon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t time using individual set functions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setHour( 234 );    // invalid hour set to 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Minut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setSecond( 6373 ); // invalid second set to 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hour, minute and second after sett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alid hour and second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Result of attempting to set invalid hour and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econd:\n  Hour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Minut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Minute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Seco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Second() &lt;&lt; "\n\n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.set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crementMinutes( t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t's minute by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886200" y="665280"/>
            <a:ext cx="4114800" cy="838080"/>
            <a:chOff x="3886200" y="665280"/>
            <a:chExt cx="4114800" cy="838080"/>
          </a:xfrm>
        </p:grpSpPr>
        <p:sp>
          <p:nvSpPr>
            <p:cNvPr id="496" name=""/>
            <p:cNvSpPr/>
            <p:nvPr/>
          </p:nvSpPr>
          <p:spPr>
            <a:xfrm>
              <a:off x="5334120" y="66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set invalid values using set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886200" y="817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886200" y="2133720"/>
            <a:ext cx="4114800" cy="838080"/>
            <a:chOff x="3886200" y="2133720"/>
            <a:chExt cx="4114800" cy="838080"/>
          </a:xfrm>
        </p:grpSpPr>
        <p:sp>
          <p:nvSpPr>
            <p:cNvPr id="499" name=""/>
            <p:cNvSpPr/>
            <p:nvPr/>
          </p:nvSpPr>
          <p:spPr>
            <a:xfrm>
              <a:off x="533412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alid values result in setting data memb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88620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86200" y="3276720"/>
            <a:ext cx="4114800" cy="838080"/>
            <a:chOff x="3886200" y="3276720"/>
            <a:chExt cx="4114800" cy="838080"/>
          </a:xfrm>
        </p:grpSpPr>
        <p:sp>
          <p:nvSpPr>
            <p:cNvPr id="502" name=""/>
            <p:cNvSpPr/>
            <p:nvPr/>
          </p:nvSpPr>
          <p:spPr>
            <a:xfrm>
              <a:off x="5334120" y="3276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data members using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8862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AEFD-E1EC-46A8-AEED-F0E8532C842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specified number of minutes to a Time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rementMinutes( Time &amp;tt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crementing minut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ou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times:\nStart tim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count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t.setMinute( ( tt.getMinute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t.getMinute()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tt.setHour( ( tt.getHour()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minute + 1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t.printStandard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incrementMinut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228920" y="1066680"/>
            <a:ext cx="4115160" cy="1447920"/>
            <a:chOff x="4228920" y="1066680"/>
            <a:chExt cx="4115160" cy="1447920"/>
          </a:xfrm>
        </p:grpSpPr>
        <p:sp>
          <p:nvSpPr>
            <p:cNvPr id="507" name=""/>
            <p:cNvSpPr/>
            <p:nvPr/>
          </p:nvSpPr>
          <p:spPr>
            <a:xfrm>
              <a:off x="567684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get functions to read data and set functions to modify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22892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28920" y="1219320"/>
              <a:ext cx="14475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31B7-B88F-4CA6-854F-5364B0C8A53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of setting all valid valu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: 17  Minute: 34  Second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of attempting to set invalid hour and second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: 0  Minute: 43  Second: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ing minute 3 time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 time: 11:58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1:59:00 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2:00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ute + 1: 12:01:00 P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666880" y="1294920"/>
            <a:ext cx="4114800" cy="1524960"/>
            <a:chOff x="2666880" y="1294920"/>
            <a:chExt cx="4114800" cy="1524960"/>
          </a:xfrm>
        </p:grpSpPr>
        <p:sp>
          <p:nvSpPr>
            <p:cNvPr id="513" name=""/>
            <p:cNvSpPr/>
            <p:nvPr/>
          </p:nvSpPr>
          <p:spPr>
            <a:xfrm>
              <a:off x="4114800" y="17524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ing to set data members with invalid values results in error message and members set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2666880" y="12949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A043-227F-4AA0-8E36-7875DB50F6C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ubtle Trap: Returning a Reference to a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vat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Data Memb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name of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ceive value in assignmen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original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ble to modif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DF84-5BEF-4B5C-B611-4768503EBC4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h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1: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of class Tim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 functions defined in tim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vent multiple inclusions of header f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fnde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4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defin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TIME4_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Hou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badSetHour( int );  // DANGEROUS reference retur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ut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end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857320" y="2625840"/>
            <a:ext cx="4115160" cy="838080"/>
            <a:chOff x="2857320" y="2625840"/>
            <a:chExt cx="4115160" cy="838080"/>
          </a:xfrm>
        </p:grpSpPr>
        <p:sp>
          <p:nvSpPr>
            <p:cNvPr id="520" name=""/>
            <p:cNvSpPr/>
            <p:nvPr/>
          </p:nvSpPr>
          <p:spPr>
            <a:xfrm>
              <a:off x="4305240" y="26258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demonstrate effects of returning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857320" y="277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CEC7-4B7A-41EE-B0AE-7F8B0DD6E8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cpp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2: time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ember-function definitions for Time clas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4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or function to initialize private data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member function setTime to set variable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values are 0 (see class definition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Ti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c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tTime( hr, min, sec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Tim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values of hour, minute and seco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::setTime(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inute = ( m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m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m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econd = ( s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s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et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CD63-3A36-4B6A-AF9C-CC40D5B1CEF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dinnerTime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variable of new type Tim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hou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member of dinnerTim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minu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member of dinn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secon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second member of dinner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nner will be held a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Universal( dinner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universal time,\nwhich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Standard( dinnerTime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tandard time.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hou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hour to invalid value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nnerTime.minut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minute to invalid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ime with invalid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Universal( dinnerTim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76160" y="304920"/>
            <a:ext cx="4115160" cy="1218960"/>
            <a:chOff x="1676160" y="304920"/>
            <a:chExt cx="4115160" cy="1218960"/>
          </a:xfrm>
        </p:grpSpPr>
        <p:sp>
          <p:nvSpPr>
            <p:cNvPr id="117" name=""/>
            <p:cNvSpPr/>
            <p:nvPr/>
          </p:nvSpPr>
          <p:spPr>
            <a:xfrm>
              <a:off x="3124080" y="304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operator to initialize structure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160" y="457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457200"/>
              <a:ext cx="1447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76160" y="457200"/>
              <a:ext cx="14475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819160" y="2590920"/>
            <a:ext cx="4115160" cy="838080"/>
            <a:chOff x="2819160" y="2590920"/>
            <a:chExt cx="4115160" cy="838080"/>
          </a:xfrm>
        </p:grpSpPr>
        <p:sp>
          <p:nvSpPr>
            <p:cNvPr id="122" name=""/>
            <p:cNvSpPr/>
            <p:nvPr/>
          </p:nvSpPr>
          <p:spPr>
            <a:xfrm>
              <a:off x="42670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 access to data allows assignment of bad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8191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549A-06F7-4A3A-8E83-B874DB25E1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4.cpp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hou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::getHour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POOR PROGRAMMING PRACTICE: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Returning a reference to a private data memb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Time::badSetHour( int hh )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hour = ( hh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hh 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2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hh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return hour;  // DANGEROUS reference return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adSetHour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904760" y="2133720"/>
            <a:ext cx="4115160" cy="838080"/>
            <a:chOff x="1904760" y="2133720"/>
            <a:chExt cx="4115160" cy="838080"/>
          </a:xfrm>
        </p:grpSpPr>
        <p:sp>
          <p:nvSpPr>
            <p:cNvPr id="527" name=""/>
            <p:cNvSpPr/>
            <p:nvPr/>
          </p:nvSpPr>
          <p:spPr>
            <a:xfrm>
              <a:off x="3352680" y="2133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904760" y="22860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7D9F-E9C3-40B6-AA7A-AE70F93DE3D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3: fig06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 public member function th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a reference to a private data memb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lude definition of class Time from time4.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ime4.h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ime 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store in hourRef the reference returned by badSetHou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hourRef = t.badSetHour( 20 )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our before modific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hourRe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use hourRef to set invalid value in Time object 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hourRef = 30;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our after modification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.getHour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962160" y="2895480"/>
            <a:ext cx="4115160" cy="838440"/>
            <a:chOff x="3962160" y="2895480"/>
            <a:chExt cx="4115160" cy="838440"/>
          </a:xfrm>
        </p:grpSpPr>
        <p:sp>
          <p:nvSpPr>
            <p:cNvPr id="532" name=""/>
            <p:cNvSpPr/>
            <p:nvPr/>
          </p:nvSpPr>
          <p:spPr>
            <a:xfrm>
              <a:off x="5410080" y="2895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3962160" y="304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057400" y="4038480"/>
            <a:ext cx="4114800" cy="838440"/>
            <a:chOff x="2057400" y="4038480"/>
            <a:chExt cx="4114800" cy="838440"/>
          </a:xfrm>
        </p:grpSpPr>
        <p:sp>
          <p:nvSpPr>
            <p:cNvPr id="535" name=""/>
            <p:cNvSpPr/>
            <p:nvPr/>
          </p:nvSpPr>
          <p:spPr>
            <a:xfrm>
              <a:off x="3505320" y="4038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ference allows setting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057400" y="419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75EA-D278-49CF-AB34-DD31EF3A8E4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048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Dangerous: Function call that retur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// a reference can be used as an lvalue!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t.badSetHour( 12 ) = 74;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\n\n*************************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&lt;&lt; "POOR PROGRAMMING PRACTICE!!!!!!!!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     &lt;&lt; "badSetHour as an lvalue, Hour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.getHour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*************************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048120"/>
            <a:ext cx="7010280" cy="1676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0" y="838080"/>
            <a:ext cx="4114800" cy="885600"/>
            <a:chOff x="2286000" y="838080"/>
            <a:chExt cx="4114800" cy="885600"/>
          </a:xfrm>
        </p:grpSpPr>
        <p:sp>
          <p:nvSpPr>
            <p:cNvPr id="541" name=""/>
            <p:cNvSpPr/>
            <p:nvPr/>
          </p:nvSpPr>
          <p:spPr>
            <a:xfrm>
              <a:off x="3733920" y="11430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use function call as lvalue to set invalid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2286000" y="8380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352680" y="3484440"/>
            <a:ext cx="4114800" cy="838440"/>
            <a:chOff x="3352680" y="3484440"/>
            <a:chExt cx="4114800" cy="838440"/>
          </a:xfrm>
        </p:grpSpPr>
        <p:sp>
          <p:nvSpPr>
            <p:cNvPr id="544" name=""/>
            <p:cNvSpPr/>
            <p:nvPr/>
          </p:nvSpPr>
          <p:spPr>
            <a:xfrm>
              <a:off x="4800600" y="34844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reference allowed invalid setting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35268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F75D-3EC7-4B20-8106-5118FE2DF72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Memberwise Assig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ssign one object to another of same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: memberwise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right member assigned individually to lef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, retur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returned from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: pass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f object passed,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riginal values into new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9757-BA52-417C-A3CB-1C72F628009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6.24: fig06_24.cpp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at class objects can be assign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each other using default memberwise assign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lass Date defini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ault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th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ea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Dat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55BD-5B3D-4F76-8C10-2C7CF2EF8D7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ate constructor with no range check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Dat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nth = 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y =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ear =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ate construc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Date in the format mm-dd-yyy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::print(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month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a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ea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ate1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 dat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ate2 defaults to 1/1/19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BD06-9C6E-4E11-BFC0-DF9E04D7A7D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24.cp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e1 = "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1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 = date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default memberwise assign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default memberwise assignment, date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ate2.prin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767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1 = 7-4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default memberwise assignment, date2 = 7-4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057400" y="492120"/>
            <a:ext cx="4114800" cy="1310760"/>
            <a:chOff x="2057400" y="492120"/>
            <a:chExt cx="4114800" cy="1310760"/>
          </a:xfrm>
        </p:grpSpPr>
        <p:sp>
          <p:nvSpPr>
            <p:cNvPr id="556" name=""/>
            <p:cNvSpPr/>
            <p:nvPr/>
          </p:nvSpPr>
          <p:spPr>
            <a:xfrm>
              <a:off x="3505320" y="492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memberwise assignment assigns each memb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vidually to each member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05740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8C67-37AA-4FA4-817E-728D180381E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7    Software Reusabilit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fully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docu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development of powerful, high-quality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s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ing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og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ens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7BAB-145B-4881-BD52-49D9DB578D9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universal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Univers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&amp;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hou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secon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Univers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ime in standard-time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Standard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&amp;t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( ( t.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t.hou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?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t.hou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fill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minut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t.seco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t.hou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M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P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Stand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7010280" cy="1218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inner will be held at 18:30:00 universal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with invalid values: 29:73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38280" y="990360"/>
            <a:ext cx="5905800" cy="2057760"/>
            <a:chOff x="2438280" y="990360"/>
            <a:chExt cx="5905800" cy="2057760"/>
          </a:xfrm>
        </p:grpSpPr>
        <p:sp>
          <p:nvSpPr>
            <p:cNvPr id="128" name=""/>
            <p:cNvSpPr/>
            <p:nvPr/>
          </p:nvSpPr>
          <p:spPr>
            <a:xfrm>
              <a:off x="56768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arameterized 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fi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438280" y="990360"/>
              <a:ext cx="3238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257800" y="1676520"/>
              <a:ext cx="4190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160" y="1218960"/>
            <a:ext cx="5105520" cy="2286360"/>
            <a:chOff x="2819160" y="1218960"/>
            <a:chExt cx="5105520" cy="2286360"/>
          </a:xfrm>
        </p:grpSpPr>
        <p:sp>
          <p:nvSpPr>
            <p:cNvPr id="132" name=""/>
            <p:cNvSpPr/>
            <p:nvPr/>
          </p:nvSpPr>
          <p:spPr>
            <a:xfrm>
              <a:off x="5257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dot operator to access data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819160" y="2286000"/>
              <a:ext cx="2438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19160" y="2286000"/>
              <a:ext cx="24382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819160" y="1218960"/>
              <a:ext cx="24382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2819160" y="1447920"/>
              <a:ext cx="2438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34E4-C65D-477C-8357-6DD26764FD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18:12:00Z</dcterms:created>
  <dc:creator>Audrey Lee</dc:creator>
  <dc:description/>
  <dc:language>en-US</dc:language>
  <cp:lastModifiedBy>Pearson Education</cp:lastModifiedBy>
  <dcterms:modified xsi:type="dcterms:W3CDTF">2002-08-05T13:03:15Z</dcterms:modified>
  <cp:revision>134</cp:revision>
  <dc:subject/>
  <dc:title>Chapter 6: Classes and Data Abstraction </dc:title>
</cp:coreProperties>
</file>