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D62B-D9D5-4951-91EE-A0153A4EE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956E-4E8B-4E2D-B37A-8C63358B6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3419-D099-48FF-B057-ABD9A9986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CDC2-1F5A-4AF4-8B39-95B784ACB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B12B-0F22-459F-94C5-46646EC25A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15EF-E934-4623-A3B9-CCE5684D2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F4DF-34FC-49DD-8959-130C508D8F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9019-3C9C-4AE9-8C61-21778FCA20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D37E-E3B0-4C21-9387-33E3C23998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C538-6232-4084-BA2C-A9242018DE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6B57-86AF-4852-892D-BBED8EF1D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CC6D-B8EA-475C-8C4C-750EF8693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B017-3596-4A4B-A529-857413BB65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3948-F361-4628-BD8C-90B729F9B4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1E1B-A4F8-4EE3-A10A-41E77F35C1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DCC9-21BD-4C13-A5DF-76B758F3C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EAE1-A5DA-40BE-A306-E35085661A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DBCE-E758-4503-A334-718CF1FA5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61A9-F51B-4A9F-B63C-8F6008855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7F76-A8EB-453D-9428-1913F24DC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1420-D39F-4229-93DD-49330734D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FE96-9805-46A5-964F-DA107FBA4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B65C-9A6C-4166-9C44-DB173CCE0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EA87-125E-41EA-8C7E-C193C6C08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389A-F9DE-4D23-84FF-F4580886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F53-43FB-4D56-B738-51A265F05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 - Poin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Variable Declarations and Initial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lling Functions by Refer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s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with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ubble Sort Using Pass-by-Referenc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ointer Expressions and Pointer 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lationship Between Pointers and Array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 of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ard Shuffling and Dealing Simu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oin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haracter and String Process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.1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damentals of Characters and String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.12.2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ing Manipulation Functions of the String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D73A-27E9-4F8B-9C71-0CE276C6DC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-by-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pass-by-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ointers and indirection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array name already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DDF6-CBC7-4063-9E8A-7D729F2574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6: fig05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a variable using pass-by-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value of numb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number by value to cub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 = cubeByValue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ew value of number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124080" y="2895480"/>
            <a:ext cx="4114800" cy="838440"/>
            <a:chOff x="3124080" y="28954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45720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number by value; resul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124080" y="3048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7DE5-C9C0-4E93-8B57-FD7CDD055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nd return cube of integer argument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* n * n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local variable n and return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ByValue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5238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362320" y="609480"/>
            <a:ext cx="4114800" cy="657000"/>
            <a:chOff x="2362320" y="609480"/>
            <a:chExt cx="4114800" cy="657000"/>
          </a:xfrm>
        </p:grpSpPr>
        <p:sp>
          <p:nvSpPr>
            <p:cNvPr id="171" name=""/>
            <p:cNvSpPr/>
            <p:nvPr/>
          </p:nvSpPr>
          <p:spPr>
            <a:xfrm>
              <a:off x="381024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parameter passed-by-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362320" y="60948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80720" y="1066680"/>
            <a:ext cx="3505680" cy="1037880"/>
            <a:chOff x="1980720" y="1066680"/>
            <a:chExt cx="3505680" cy="1037880"/>
          </a:xfrm>
        </p:grpSpPr>
        <p:sp>
          <p:nvSpPr>
            <p:cNvPr id="174" name=""/>
            <p:cNvSpPr/>
            <p:nvPr/>
          </p:nvSpPr>
          <p:spPr>
            <a:xfrm>
              <a:off x="3200400" y="152388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be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local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1980720" y="1066680"/>
              <a:ext cx="1219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E3C3-F619-49E9-86B5-D642CBFE1D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7: fig05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a variable using pass-by-referenc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a pointer argumen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original value of numbe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 address of number to cub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ubeByReference( &amp;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ew value of number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numbe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14600" y="3048120"/>
            <a:ext cx="4114800" cy="838080"/>
            <a:chOff x="2514600" y="3048120"/>
            <a:chExt cx="4114800" cy="838080"/>
          </a:xfrm>
        </p:grpSpPr>
        <p:sp>
          <p:nvSpPr>
            <p:cNvPr id="179" name=""/>
            <p:cNvSpPr/>
            <p:nvPr/>
          </p:nvSpPr>
          <p:spPr>
            <a:xfrm>
              <a:off x="3962520" y="30481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y address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ass address of numb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51460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2880" y="4572000"/>
            <a:ext cx="3200400" cy="1052640"/>
            <a:chOff x="4952880" y="4572000"/>
            <a:chExt cx="3200400" cy="1052640"/>
          </a:xfrm>
        </p:grpSpPr>
        <p:sp>
          <p:nvSpPr>
            <p:cNvPr id="182" name=""/>
            <p:cNvSpPr/>
            <p:nvPr/>
          </p:nvSpPr>
          <p:spPr>
            <a:xfrm>
              <a:off x="6019920" y="4800600"/>
              <a:ext cx="21333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odified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952880" y="45720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857320" y="1066680"/>
            <a:ext cx="4115160" cy="838440"/>
            <a:chOff x="2857320" y="1066680"/>
            <a:chExt cx="4115160" cy="838440"/>
          </a:xfrm>
        </p:grpSpPr>
        <p:sp>
          <p:nvSpPr>
            <p:cNvPr id="185" name=""/>
            <p:cNvSpPr/>
            <p:nvPr/>
          </p:nvSpPr>
          <p:spPr>
            <a:xfrm>
              <a:off x="4305240" y="10666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totype indicates parameter is pointer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85732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0F78-5CDE-4278-9B22-E5FFA2F235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*nPtr; modifies variable number i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Ptr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nPtr = *nPtr * *nPtr * *n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be *nPtr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ByReferenc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002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value of number is 1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48120" y="568440"/>
            <a:ext cx="3886200" cy="1371960"/>
            <a:chOff x="3048120" y="568440"/>
            <a:chExt cx="3886200" cy="1371960"/>
          </a:xfrm>
        </p:grpSpPr>
        <p:sp>
          <p:nvSpPr>
            <p:cNvPr id="191" name=""/>
            <p:cNvSpPr/>
            <p:nvPr/>
          </p:nvSpPr>
          <p:spPr>
            <a:xfrm>
              <a:off x="4267080" y="873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.e., pointer to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3048120" y="56844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914400" y="1025640"/>
            <a:ext cx="5105520" cy="1911240"/>
            <a:chOff x="914400" y="1025640"/>
            <a:chExt cx="5105520" cy="1911240"/>
          </a:xfrm>
        </p:grpSpPr>
        <p:sp>
          <p:nvSpPr>
            <p:cNvPr id="194" name=""/>
            <p:cNvSpPr/>
            <p:nvPr/>
          </p:nvSpPr>
          <p:spPr>
            <a:xfrm>
              <a:off x="3619440" y="2112840"/>
              <a:ext cx="2400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and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using indirection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047760" y="1025640"/>
              <a:ext cx="571320" cy="12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1045800"/>
              <a:ext cx="11811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1752480" y="1045800"/>
              <a:ext cx="18669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14400" y="1025640"/>
              <a:ext cx="2705040" cy="12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1A23-64F6-4290-9E34-D017ADADBD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variable should not be mod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hen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ward function enough access to accomplish task, but no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ways to pass pointer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constant pointer to non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st amount of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constant pointer to 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pointer to non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pointer to constant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st amount of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AEF2-D7CE-470E-99F1-E74D91FFC2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0: fig05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ing lowercase letters to uppercase let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non-constant pointer to non-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ctype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islower and toupp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ertToUpperca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ras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haracters and $32.98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hrase before conversion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phras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vertToUppercase( phr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phrase after conversion is: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phras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95120" y="1523880"/>
            <a:ext cx="4115160" cy="838440"/>
            <a:chOff x="2895120" y="1523880"/>
            <a:chExt cx="4115160" cy="838440"/>
          </a:xfrm>
        </p:grpSpPr>
        <p:sp>
          <p:nvSpPr>
            <p:cNvPr id="204" name=""/>
            <p:cNvSpPr/>
            <p:nvPr/>
          </p:nvSpPr>
          <p:spPr>
            <a:xfrm>
              <a:off x="43430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nonconsta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89512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04960" y="3165480"/>
            <a:ext cx="4115160" cy="838080"/>
            <a:chOff x="3504960" y="3165480"/>
            <a:chExt cx="4115160" cy="838080"/>
          </a:xfrm>
        </p:grpSpPr>
        <p:sp>
          <p:nvSpPr>
            <p:cNvPr id="207" name=""/>
            <p:cNvSpPr/>
            <p:nvPr/>
          </p:nvSpPr>
          <p:spPr>
            <a:xfrm>
              <a:off x="4952880" y="31654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vertToUpper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odifies variable phr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504960" y="331776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C400-5DA4-4312-A2B5-9FCCE9759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string to uppercase letters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vertToUppercas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*s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rrent character is not '\0'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slower( *sPtr )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character is lowercase,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*sPtr = toupper( *sPtr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vert to uppercas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s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ve sPtr to next character in string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nvertToUppercase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4812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rase before conversion is: characters and $32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phrase after conversion is:  CHARACTERS AND $32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352680" y="571320"/>
            <a:ext cx="4114800" cy="961920"/>
            <a:chOff x="3352680" y="571320"/>
            <a:chExt cx="4114800" cy="961920"/>
          </a:xfrm>
        </p:grpSpPr>
        <p:sp>
          <p:nvSpPr>
            <p:cNvPr id="213" name=""/>
            <p:cNvSpPr/>
            <p:nvPr/>
          </p:nvSpPr>
          <p:spPr>
            <a:xfrm>
              <a:off x="4800600" y="9525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nconstant pointer to nonconsta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352680" y="57132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52480" y="1447920"/>
            <a:ext cx="3733920" cy="1052640"/>
            <a:chOff x="1752480" y="1447920"/>
            <a:chExt cx="3733920" cy="1052640"/>
          </a:xfrm>
        </p:grpSpPr>
        <p:sp>
          <p:nvSpPr>
            <p:cNvPr id="216" name=""/>
            <p:cNvSpPr/>
            <p:nvPr/>
          </p:nvSpPr>
          <p:spPr>
            <a:xfrm>
              <a:off x="2819520" y="1676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slow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f character is lower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1752480" y="144792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133360" y="1676160"/>
            <a:ext cx="3353040" cy="2392560"/>
            <a:chOff x="2133360" y="1676160"/>
            <a:chExt cx="3353040" cy="2392560"/>
          </a:xfrm>
        </p:grpSpPr>
        <p:sp>
          <p:nvSpPr>
            <p:cNvPr id="219" name=""/>
            <p:cNvSpPr/>
            <p:nvPr/>
          </p:nvSpPr>
          <p:spPr>
            <a:xfrm>
              <a:off x="2819520" y="251460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upp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corresponding uppercase character if original character lowercase; otherwi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oupp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original (uppercase)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133360" y="1676160"/>
              <a:ext cx="6858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371600" y="2168640"/>
            <a:ext cx="4114800" cy="1920240"/>
            <a:chOff x="1371600" y="2168640"/>
            <a:chExt cx="4114800" cy="1920240"/>
          </a:xfrm>
        </p:grpSpPr>
        <p:sp>
          <p:nvSpPr>
            <p:cNvPr id="222" name=""/>
            <p:cNvSpPr/>
            <p:nvPr/>
          </p:nvSpPr>
          <p:spPr>
            <a:xfrm>
              <a:off x="2819520" y="27781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hen 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++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ed to pointer that points to array, memory address stored in pointer modified to point to next element of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1371600" y="2168640"/>
              <a:ext cx="144792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9281-1EDF-44B2-8E5E-57CA3A032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1: fig05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string one character at a time u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non-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Characte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hras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int characters of a str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Characters( phras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895480" y="1066680"/>
            <a:ext cx="4114800" cy="838440"/>
            <a:chOff x="2895480" y="1066680"/>
            <a:chExt cx="4114800" cy="838440"/>
          </a:xfrm>
        </p:grpSpPr>
        <p:sp>
          <p:nvSpPr>
            <p:cNvPr id="227" name=""/>
            <p:cNvSpPr/>
            <p:nvPr/>
          </p:nvSpPr>
          <p:spPr>
            <a:xfrm>
              <a:off x="43434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consta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954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57320" y="2625840"/>
            <a:ext cx="4115160" cy="838080"/>
            <a:chOff x="2857320" y="2625840"/>
            <a:chExt cx="4115160" cy="838080"/>
          </a:xfrm>
        </p:grpSpPr>
        <p:sp>
          <p:nvSpPr>
            <p:cNvPr id="230" name=""/>
            <p:cNvSpPr/>
            <p:nvPr/>
          </p:nvSpPr>
          <p:spPr>
            <a:xfrm>
              <a:off x="4305240" y="26258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poin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r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Character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57320" y="2778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5DD7-531A-47E9-B4F9-AA697A653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057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Ptr cannot modify the character to which it points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.e., sPtr is a "read-only" poi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Characters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; *s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Ptr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 initializ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*sPtr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9810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 characters of a str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971440" y="838080"/>
            <a:ext cx="3886560" cy="1372320"/>
            <a:chOff x="2971440" y="838080"/>
            <a:chExt cx="3886560" cy="1372320"/>
          </a:xfrm>
        </p:grpSpPr>
        <p:sp>
          <p:nvSpPr>
            <p:cNvPr id="236" name=""/>
            <p:cNvSpPr/>
            <p:nvPr/>
          </p:nvSpPr>
          <p:spPr>
            <a:xfrm>
              <a:off x="4191120" y="1143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nconstant pointer to constant data; cannot modify character to whic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oi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971440" y="8380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200400" y="1294920"/>
            <a:ext cx="3657600" cy="1266840"/>
            <a:chOff x="3200400" y="1294920"/>
            <a:chExt cx="3657600" cy="1266840"/>
          </a:xfrm>
        </p:grpSpPr>
        <p:sp>
          <p:nvSpPr>
            <p:cNvPr id="239" name=""/>
            <p:cNvSpPr/>
            <p:nvPr/>
          </p:nvSpPr>
          <p:spPr>
            <a:xfrm>
              <a:off x="41911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xt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3200400" y="1294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4290-0180-4C24-A12F-30406C49DC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pass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8B76-09DE-483D-9CD0-6CF670AA1D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2: fig05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data through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( &amp;y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 attempts illegal modific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Ptr cannot modify the value of the variable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which it points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x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*xPtr = 100;  // error: cannot modify a con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2578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5\Fig05_12.cpp(21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76520" y="1218960"/>
            <a:ext cx="3962160" cy="1037880"/>
            <a:chOff x="1676520" y="1218960"/>
            <a:chExt cx="3962160" cy="1037880"/>
          </a:xfrm>
        </p:grpSpPr>
        <p:sp>
          <p:nvSpPr>
            <p:cNvPr id="245" name=""/>
            <p:cNvSpPr/>
            <p:nvPr/>
          </p:nvSpPr>
          <p:spPr>
            <a:xfrm>
              <a:off x="2971800" y="167616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nonconstant pointer to constan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676520" y="121896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19320" y="2590920"/>
            <a:ext cx="4419360" cy="1052640"/>
            <a:chOff x="1219320" y="2590920"/>
            <a:chExt cx="4419360" cy="1052640"/>
          </a:xfrm>
        </p:grpSpPr>
        <p:sp>
          <p:nvSpPr>
            <p:cNvPr id="248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ttempt illegal modif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219320" y="2590920"/>
              <a:ext cx="1752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23880" y="3733920"/>
            <a:ext cx="4114800" cy="838080"/>
            <a:chOff x="1523880" y="3733920"/>
            <a:chExt cx="4114800" cy="838080"/>
          </a:xfrm>
        </p:grpSpPr>
        <p:sp>
          <p:nvSpPr>
            <p:cNvPr id="251" name=""/>
            <p:cNvSpPr/>
            <p:nvPr/>
          </p:nvSpPr>
          <p:spPr>
            <a:xfrm>
              <a:off x="2971800" y="3733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5238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123720" y="4800600"/>
            <a:ext cx="3962880" cy="590400"/>
            <a:chOff x="3123720" y="4800600"/>
            <a:chExt cx="3962880" cy="590400"/>
          </a:xfrm>
        </p:grpSpPr>
        <p:sp>
          <p:nvSpPr>
            <p:cNvPr id="254" name=""/>
            <p:cNvSpPr/>
            <p:nvPr/>
          </p:nvSpPr>
          <p:spPr>
            <a:xfrm>
              <a:off x="4419720" y="4800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rror produced when attempting to comp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23720" y="4952880"/>
              <a:ext cx="129564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8440-3AB4-4397-A15C-53FDEB862D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point to same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array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117A-E54E-4516-8A5F-F1F243599E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3: fig05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a constant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n-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tr is a constant pointer to an integer that can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 modified through ptr, but ptr always points to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ame memory location.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 = &amp;x;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pt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allowed: *ptr is not con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ptr = &amp;y;  // error: ptr is const; cannot assign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34340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cpphtp4_examples\ch05\Fig05_13.cpp(15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l-value specifies const ob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743200" y="1828800"/>
            <a:ext cx="4114800" cy="838080"/>
            <a:chOff x="2743200" y="1828800"/>
            <a:chExt cx="4114800" cy="838080"/>
          </a:xfrm>
        </p:grpSpPr>
        <p:sp>
          <p:nvSpPr>
            <p:cNvPr id="262" name=""/>
            <p:cNvSpPr/>
            <p:nvPr/>
          </p:nvSpPr>
          <p:spPr>
            <a:xfrm>
              <a:off x="4191120" y="1828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 pointer to integ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743200" y="1981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523880" y="2133720"/>
            <a:ext cx="4114800" cy="838080"/>
            <a:chOff x="1523880" y="2133720"/>
            <a:chExt cx="4114800" cy="838080"/>
          </a:xfrm>
        </p:grpSpPr>
        <p:sp>
          <p:nvSpPr>
            <p:cNvPr id="265" name=""/>
            <p:cNvSpPr/>
            <p:nvPr/>
          </p:nvSpPr>
          <p:spPr>
            <a:xfrm>
              <a:off x="2971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since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23880" y="2286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523880" y="2438280"/>
            <a:ext cx="4114800" cy="838080"/>
            <a:chOff x="1523880" y="2438280"/>
            <a:chExt cx="4114800" cy="838080"/>
          </a:xfrm>
        </p:grpSpPr>
        <p:sp>
          <p:nvSpPr>
            <p:cNvPr id="268" name=""/>
            <p:cNvSpPr/>
            <p:nvPr/>
          </p:nvSpPr>
          <p:spPr>
            <a:xfrm>
              <a:off x="297180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w address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523880" y="2590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743200" y="3276720"/>
            <a:ext cx="4114800" cy="1143000"/>
            <a:chOff x="2743200" y="3276720"/>
            <a:chExt cx="4114800" cy="1143000"/>
          </a:xfrm>
        </p:grpSpPr>
        <p:sp>
          <p:nvSpPr>
            <p:cNvPr id="271" name=""/>
            <p:cNvSpPr/>
            <p:nvPr/>
          </p:nvSpPr>
          <p:spPr>
            <a:xfrm>
              <a:off x="4191120" y="32767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15 generates compiler error by attempting to assign new address to constant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743200" y="3429000"/>
              <a:ext cx="1447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93F0-505F-4090-9EF8-39A736C2BF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4: fig05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tempting to modify a constant pointer to constant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tr is a constant pointer to a constant integer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tr always points to the same location; the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t that location cannot be modifi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 = &amp;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*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   *ptr = 7;  // error: *ptr is const; cannot assign new valu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ptr = &amp;y;  // error: ptr is const; cannot assign new addre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514600" y="2438280"/>
            <a:ext cx="4114800" cy="838440"/>
            <a:chOff x="2514600" y="2438280"/>
            <a:chExt cx="4114800" cy="838440"/>
          </a:xfrm>
        </p:grpSpPr>
        <p:sp>
          <p:nvSpPr>
            <p:cNvPr id="276" name=""/>
            <p:cNvSpPr/>
            <p:nvPr/>
          </p:nvSpPr>
          <p:spPr>
            <a:xfrm>
              <a:off x="396252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 pointer to integer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51460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523880" y="3311640"/>
            <a:ext cx="4114800" cy="838080"/>
            <a:chOff x="1523880" y="3311640"/>
            <a:chExt cx="4114800" cy="838080"/>
          </a:xfrm>
        </p:grpSpPr>
        <p:sp>
          <p:nvSpPr>
            <p:cNvPr id="279" name=""/>
            <p:cNvSpPr/>
            <p:nvPr/>
          </p:nvSpPr>
          <p:spPr>
            <a:xfrm>
              <a:off x="2971800" y="33116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pointed to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523880" y="3463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523880" y="3581280"/>
            <a:ext cx="4114800" cy="838080"/>
            <a:chOff x="1523880" y="3581280"/>
            <a:chExt cx="4114800" cy="838080"/>
          </a:xfrm>
        </p:grpSpPr>
        <p:sp>
          <p:nvSpPr>
            <p:cNvPr id="282" name=""/>
            <p:cNvSpPr/>
            <p:nvPr/>
          </p:nvSpPr>
          <p:spPr>
            <a:xfrm>
              <a:off x="2971800" y="3581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not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point to new address si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23880" y="37335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2CCD-6967-4132-90D3-E4C260CBF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5\Fig05_14.cpp(19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cpphtp4_examples\ch05\Fig05_14.cpp(20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657600" y="420480"/>
            <a:ext cx="3962160" cy="1281600"/>
            <a:chOff x="3657600" y="420480"/>
            <a:chExt cx="3962160" cy="1281600"/>
          </a:xfrm>
        </p:grpSpPr>
        <p:sp>
          <p:nvSpPr>
            <p:cNvPr id="287" name=""/>
            <p:cNvSpPr/>
            <p:nvPr/>
          </p:nvSpPr>
          <p:spPr>
            <a:xfrm>
              <a:off x="4952880" y="8780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19 generates compiler error by attempting to modify constant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657600" y="42048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52680" y="825120"/>
            <a:ext cx="4114800" cy="1524960"/>
            <a:chOff x="3352680" y="825120"/>
            <a:chExt cx="4114800" cy="1524960"/>
          </a:xfrm>
        </p:grpSpPr>
        <p:sp>
          <p:nvSpPr>
            <p:cNvPr id="290" name=""/>
            <p:cNvSpPr/>
            <p:nvPr/>
          </p:nvSpPr>
          <p:spPr>
            <a:xfrm>
              <a:off x="4800600" y="1282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ne 20 generates compiler error by attempting to assign new address to constant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352680" y="82512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A00D-D453-4B75-BCC9-6958FEDC32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Pass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nt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ccess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array elements: sca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d by value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by reference using address 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F518-FA9C-4B45-84B6-E6C0D9313B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5: fig05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puts values into an array, sorts the values in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cending order, and prints the resulting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25F6-BA49-45F2-85E5-70562BB40C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n array of integers using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ra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comparisons during each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adjacent elements if they are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k ] &gt; array[ k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wap( &amp;array[ k ], &amp;array[ k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2400480"/>
            <a:ext cx="4114800" cy="1310760"/>
            <a:chOff x="2666880" y="2400480"/>
            <a:chExt cx="4114800" cy="1310760"/>
          </a:xfrm>
        </p:grpSpPr>
        <p:sp>
          <p:nvSpPr>
            <p:cNvPr id="299" name=""/>
            <p:cNvSpPr/>
            <p:nvPr/>
          </p:nvSpPr>
          <p:spPr>
            <a:xfrm>
              <a:off x="4114800" y="240048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*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rather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rra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o indicat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ceives single-subscripted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666880" y="2552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581280" y="2400480"/>
            <a:ext cx="4114800" cy="838080"/>
            <a:chOff x="3581280" y="2400480"/>
            <a:chExt cx="4114800" cy="838080"/>
          </a:xfrm>
        </p:grpSpPr>
        <p:sp>
          <p:nvSpPr>
            <p:cNvPr id="302" name=""/>
            <p:cNvSpPr/>
            <p:nvPr/>
          </p:nvSpPr>
          <p:spPr>
            <a:xfrm>
              <a:off x="5029200" y="2400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ives size of array as argument; declar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ens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581280" y="25527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9C08-B205-4D99-B8C1-BDBFA49934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values at memory locations to which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1Ptr and element2Ptr point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1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2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 = *element1Ptr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1Ptr = *element2Ptr;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2Ptr = hold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wap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89548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5640" y="1447560"/>
            <a:ext cx="6020280" cy="1281600"/>
            <a:chOff x="2285640" y="1447560"/>
            <a:chExt cx="6020280" cy="1281600"/>
          </a:xfrm>
        </p:grpSpPr>
        <p:sp>
          <p:nvSpPr>
            <p:cNvPr id="308" name=""/>
            <p:cNvSpPr/>
            <p:nvPr/>
          </p:nvSpPr>
          <p:spPr>
            <a:xfrm>
              <a:off x="5638680" y="1905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guments by reference, allowing function to swap values at memory loc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4419720" y="1447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2285640" y="1447560"/>
              <a:ext cx="3352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B674-8D36-4328-9354-CEC3D53407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Pass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ary operator 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size of 1 element ) * ( number of elemen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izeof(myAr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print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B9E9-09D3-4661-A0D5-0128B91C16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val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, variable contains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address of variable that has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 value through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dicates variable i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multiple aste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5680" y="2743200"/>
            <a:ext cx="1749600" cy="549360"/>
            <a:chOff x="4495680" y="2743200"/>
            <a:chExt cx="1749600" cy="549360"/>
          </a:xfrm>
        </p:grpSpPr>
        <p:sp>
          <p:nvSpPr>
            <p:cNvPr id="94" name=""/>
            <p:cNvSpPr/>
            <p:nvPr/>
          </p:nvSpPr>
          <p:spPr>
            <a:xfrm>
              <a:off x="5746680" y="2743200"/>
              <a:ext cx="490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738760" y="2911680"/>
              <a:ext cx="506520" cy="380880"/>
              <a:chOff x="5738760" y="2911680"/>
              <a:chExt cx="506520" cy="380880"/>
            </a:xfrm>
          </p:grpSpPr>
          <p:sp>
            <p:nvSpPr>
              <p:cNvPr id="96" name=""/>
              <p:cNvSpPr/>
              <p:nvPr/>
            </p:nvSpPr>
            <p:spPr>
              <a:xfrm>
                <a:off x="5738760" y="2911680"/>
                <a:ext cx="50652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28480" y="3033360"/>
                <a:ext cx="125640" cy="16560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2743200"/>
              <a:ext cx="1243080" cy="549360"/>
              <a:chOff x="4495680" y="2743200"/>
              <a:chExt cx="1243080" cy="54936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4495680" y="2743200"/>
                <a:ext cx="763560" cy="549360"/>
                <a:chOff x="4495680" y="2743200"/>
                <a:chExt cx="763560" cy="5493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495680" y="2743200"/>
                  <a:ext cx="76356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cou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24560" y="2911680"/>
                  <a:ext cx="50616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7" y="0"/>
                      </a:moveTo>
                      <a:lnTo>
                        <a:pt x="19967" y="19967"/>
                      </a:lnTo>
                      <a:lnTo>
                        <a:pt x="0" y="19967"/>
                      </a:lnTo>
                      <a:lnTo>
                        <a:pt x="0" y="0"/>
                      </a:lnTo>
                      <a:lnTo>
                        <a:pt x="1996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26160" y="3063960"/>
                  <a:ext cx="101520" cy="763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4929120" y="3105360"/>
                <a:ext cx="8096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05920" y="1676520"/>
            <a:ext cx="560160" cy="676080"/>
            <a:chOff x="8305920" y="1676520"/>
            <a:chExt cx="560160" cy="676080"/>
          </a:xfrm>
        </p:grpSpPr>
        <p:sp>
          <p:nvSpPr>
            <p:cNvPr id="108" name=""/>
            <p:cNvSpPr/>
            <p:nvPr/>
          </p:nvSpPr>
          <p:spPr>
            <a:xfrm>
              <a:off x="8313480" y="1676520"/>
              <a:ext cx="54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8305920" y="1882800"/>
              <a:ext cx="560160" cy="469800"/>
              <a:chOff x="8305920" y="1882800"/>
              <a:chExt cx="560160" cy="469800"/>
            </a:xfrm>
          </p:grpSpPr>
          <p:sp>
            <p:nvSpPr>
              <p:cNvPr id="110" name=""/>
              <p:cNvSpPr/>
              <p:nvPr/>
            </p:nvSpPr>
            <p:spPr>
              <a:xfrm>
                <a:off x="8305920" y="1882800"/>
                <a:ext cx="56016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15800" y="2032920"/>
                <a:ext cx="138960" cy="20448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35F4-168F-4EA8-85B7-7C8EEC48B7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6: fig05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of operator when used on an arra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number of bytes in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g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number of bytes in the array is "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array );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number of bytes returned by getSize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getSize( array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971800" y="2743200"/>
            <a:ext cx="4114800" cy="838080"/>
            <a:chOff x="2971800" y="2743200"/>
            <a:chExt cx="4114800" cy="838080"/>
          </a:xfrm>
        </p:grpSpPr>
        <p:sp>
          <p:nvSpPr>
            <p:cNvPr id="316" name=""/>
            <p:cNvSpPr/>
            <p:nvPr/>
          </p:nvSpPr>
          <p:spPr>
            <a:xfrm>
              <a:off x="4419720" y="2743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lied to an array returns total number of bytes i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971800" y="2895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209320" y="4343040"/>
            <a:ext cx="4267800" cy="1281600"/>
            <a:chOff x="2209320" y="4343040"/>
            <a:chExt cx="4267800" cy="1281600"/>
          </a:xfrm>
        </p:grpSpPr>
        <p:sp>
          <p:nvSpPr>
            <p:cNvPr id="319" name=""/>
            <p:cNvSpPr/>
            <p:nvPr/>
          </p:nvSpPr>
          <p:spPr>
            <a:xfrm>
              <a:off x="3809880" y="4800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number of bytes used to sto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2209320" y="4343040"/>
              <a:ext cx="1600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1AF3-FF8A-453A-A3C6-2309B21F17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ize of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getSiz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pt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get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5238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of bytes in the array is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of bytes returned by getSize is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33360" y="1046160"/>
            <a:ext cx="4115160" cy="961560"/>
            <a:chOff x="2133360" y="1046160"/>
            <a:chExt cx="4115160" cy="961560"/>
          </a:xfrm>
        </p:grpSpPr>
        <p:sp>
          <p:nvSpPr>
            <p:cNvPr id="325" name=""/>
            <p:cNvSpPr/>
            <p:nvPr/>
          </p:nvSpPr>
          <p:spPr>
            <a:xfrm>
              <a:off x="3581280" y="1427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number of bytes of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133360" y="1046160"/>
              <a:ext cx="1447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517B-DC1B-4E38-A8AD-DEE64E8891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17: fig05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sizeof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ptr = arra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8164-DA34-4C73-BE7E-1927A88D7C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izeof c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char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s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shor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in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l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long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f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float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d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tsizeof(double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izeof ld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tsizeof(long double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sizeof arra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izeof 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o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9880" y="324000"/>
            <a:ext cx="4114800" cy="808920"/>
            <a:chOff x="3809880" y="324000"/>
            <a:chExt cx="4114800" cy="808920"/>
          </a:xfrm>
        </p:grpSpPr>
        <p:sp>
          <p:nvSpPr>
            <p:cNvPr id="332" name=""/>
            <p:cNvSpPr/>
            <p:nvPr/>
          </p:nvSpPr>
          <p:spPr>
            <a:xfrm>
              <a:off x="5257800" y="552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be used on variab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3809880" y="32400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95320" y="552600"/>
            <a:ext cx="4115160" cy="885240"/>
            <a:chOff x="4495320" y="552600"/>
            <a:chExt cx="4115160" cy="885240"/>
          </a:xfrm>
        </p:grpSpPr>
        <p:sp>
          <p:nvSpPr>
            <p:cNvPr id="335" name=""/>
            <p:cNvSpPr/>
            <p:nvPr/>
          </p:nvSpPr>
          <p:spPr>
            <a:xfrm>
              <a:off x="5943240" y="8571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zeo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be used on typ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4495320" y="55260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6AA7-BE3D-4CFA-B699-433290429A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c = 1    sizeof(char) =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s = 2    sizeof(short)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i = 4    sizeof(int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l = 4    sizeof(long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f = 4    sizeof(float)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d = 8    sizeof(double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ld = 8   sizeof(long double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 array =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of ptr = 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0C65-2181-4A87-AAB4-490E99B4D1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/subtract an integer to/from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arithmetic meaningless unless performed on pointer to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a machine using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 0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at location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952880" y="4503600"/>
            <a:ext cx="3662280" cy="1667880"/>
            <a:chOff x="4952880" y="4503600"/>
            <a:chExt cx="3662280" cy="1667880"/>
          </a:xfrm>
        </p:grpSpPr>
        <p:sp>
          <p:nvSpPr>
            <p:cNvPr id="342" name=""/>
            <p:cNvSpPr/>
            <p:nvPr/>
          </p:nvSpPr>
          <p:spPr>
            <a:xfrm>
              <a:off x="4952880" y="5934960"/>
              <a:ext cx="1935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pointer variable 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73400" y="5632560"/>
              <a:ext cx="330840" cy="327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83920" y="5741640"/>
              <a:ext cx="109800" cy="109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856120" y="5118120"/>
              <a:ext cx="551880" cy="327600"/>
              <a:chOff x="5856120" y="5118120"/>
              <a:chExt cx="551880" cy="32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5856120" y="511812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080" y="518364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408360" y="5118120"/>
              <a:ext cx="551520" cy="327600"/>
              <a:chOff x="6408360" y="5118120"/>
              <a:chExt cx="551520" cy="327600"/>
            </a:xfrm>
          </p:grpSpPr>
          <p:sp>
            <p:nvSpPr>
              <p:cNvPr id="349" name=""/>
              <p:cNvSpPr/>
              <p:nvPr/>
            </p:nvSpPr>
            <p:spPr>
              <a:xfrm>
                <a:off x="640836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6596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959880" y="5118120"/>
              <a:ext cx="551520" cy="327600"/>
              <a:chOff x="6959880" y="5118120"/>
              <a:chExt cx="551520" cy="327600"/>
            </a:xfrm>
          </p:grpSpPr>
          <p:sp>
            <p:nvSpPr>
              <p:cNvPr id="352" name=""/>
              <p:cNvSpPr/>
              <p:nvPr/>
            </p:nvSpPr>
            <p:spPr>
              <a:xfrm>
                <a:off x="695988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1748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8063640" y="5118120"/>
              <a:ext cx="551520" cy="327600"/>
              <a:chOff x="8063640" y="5118120"/>
              <a:chExt cx="551520" cy="32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063640" y="511812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21240" y="518364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511400" y="5118120"/>
              <a:ext cx="551880" cy="327600"/>
              <a:chOff x="7511400" y="5118120"/>
              <a:chExt cx="551880" cy="327600"/>
            </a:xfrm>
          </p:grpSpPr>
          <p:sp>
            <p:nvSpPr>
              <p:cNvPr id="358" name=""/>
              <p:cNvSpPr/>
              <p:nvPr/>
            </p:nvSpPr>
            <p:spPr>
              <a:xfrm>
                <a:off x="7511400" y="511812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69360" y="518364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85612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836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5988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1140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3640" y="489960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6136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1288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64400" y="4694760"/>
              <a:ext cx="4345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664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68160" y="469476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1240" y="4503600"/>
              <a:ext cx="7448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4680" y="5261400"/>
              <a:ext cx="723960" cy="48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CD28-D251-4541-9727-D2A84DF80D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umber of elements between two 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 2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 0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- vPtr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can be assigned to another pointer if both of sam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same type,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C56D-F8C5-45A0-8AC2-4C1095C889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quality and 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isons meaningless unless pointers point to members of sam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addresses stored i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could show that one pointer points to higher numbered element of array than other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 to determine whether pointer is 0 (does not point to any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C777-2565-481B-877B-1B2116CB5D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rray elements with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n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accessed by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( bPtr +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can be treated a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( b + 3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be subscripted (pointer/subscript no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8A64-96B5-42FF-952A-F1917169FD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0: fig05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ubscripting and pointer notations with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bPtr = b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bPtr to point to array b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b printed with:\n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 subscrip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the array name 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/offset notation where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pointer is the array nam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90760" y="3311640"/>
            <a:ext cx="3657960" cy="838080"/>
            <a:chOff x="4190760" y="3311640"/>
            <a:chExt cx="3657960" cy="838080"/>
          </a:xfrm>
        </p:grpSpPr>
        <p:sp>
          <p:nvSpPr>
            <p:cNvPr id="383" name=""/>
            <p:cNvSpPr/>
            <p:nvPr/>
          </p:nvSpPr>
          <p:spPr>
            <a:xfrm>
              <a:off x="5638680" y="331164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array subscrip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190760" y="3463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1249-A555-4417-917C-15B0D65FB3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D9CE-0995-4D8F-8E19-B64527FCD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fset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1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1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(b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ffset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( b + offset1 )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b using bPtr and 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 subscrip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Ptr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Ptr[ j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Pointer/offset notatio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array b using bPtr and 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fset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2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offset2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(bPtr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ffset2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*( bPtr + offset2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19160" y="838080"/>
            <a:ext cx="4267440" cy="768240"/>
            <a:chOff x="2819160" y="838080"/>
            <a:chExt cx="4267440" cy="768240"/>
          </a:xfrm>
        </p:grpSpPr>
        <p:sp>
          <p:nvSpPr>
            <p:cNvPr id="388" name=""/>
            <p:cNvSpPr/>
            <p:nvPr/>
          </p:nvSpPr>
          <p:spPr>
            <a:xfrm>
              <a:off x="4419720" y="10256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array name and pointer/offse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819160" y="838080"/>
              <a:ext cx="16002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19360" y="2189160"/>
            <a:ext cx="3657960" cy="809280"/>
            <a:chOff x="4419360" y="2189160"/>
            <a:chExt cx="3657960" cy="809280"/>
          </a:xfrm>
        </p:grpSpPr>
        <p:sp>
          <p:nvSpPr>
            <p:cNvPr id="391" name=""/>
            <p:cNvSpPr/>
            <p:nvPr/>
          </p:nvSpPr>
          <p:spPr>
            <a:xfrm>
              <a:off x="5867280" y="2417760"/>
              <a:ext cx="2210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pointer subscrip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419360" y="218916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19520" y="3733560"/>
            <a:ext cx="4267080" cy="961920"/>
            <a:chOff x="2819520" y="3733560"/>
            <a:chExt cx="4267080" cy="961920"/>
          </a:xfrm>
        </p:grpSpPr>
        <p:sp>
          <p:nvSpPr>
            <p:cNvPr id="394" name=""/>
            <p:cNvSpPr/>
            <p:nvPr/>
          </p:nvSpPr>
          <p:spPr>
            <a:xfrm>
              <a:off x="4533840" y="4114800"/>
              <a:ext cx="2552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pointer/offset not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819520" y="3733560"/>
              <a:ext cx="1714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44D9-1918-4FDE-A0FE-08A4526859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b printed with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0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1]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2]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[3] =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/offset notation where the pointer is the array na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0)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1)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 + 2)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b + 3) = 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 subscrip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0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1]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2]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Ptr[3] = 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er/offset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0)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1) =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(bPtr + 2) =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bPtr + 3) = 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F687-0E6B-4164-BE07-63F2A6F859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1: fig05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ing a string using array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ointer not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llo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4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ood By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1( string1, string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py2( string3, string4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08C1-EAC1-420F-9EF1-4F5706AEC0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2 to s1 using array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( s1[ i ] = s2[ i ]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 in body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p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s2 to s1 using pointer not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py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; ( *s1 = *s2 )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1++, s2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 nothing in bod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op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19112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3 = Good By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352320" y="662040"/>
            <a:ext cx="4115160" cy="838080"/>
            <a:chOff x="3352320" y="662040"/>
            <a:chExt cx="4115160" cy="838080"/>
          </a:xfrm>
        </p:grpSpPr>
        <p:sp>
          <p:nvSpPr>
            <p:cNvPr id="404" name=""/>
            <p:cNvSpPr/>
            <p:nvPr/>
          </p:nvSpPr>
          <p:spPr>
            <a:xfrm>
              <a:off x="4800240" y="66204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array subscript notation to copy string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haracter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352320" y="814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019240" y="2438280"/>
            <a:ext cx="4114800" cy="838440"/>
            <a:chOff x="2019240" y="2438280"/>
            <a:chExt cx="4114800" cy="838440"/>
          </a:xfrm>
        </p:grpSpPr>
        <p:sp>
          <p:nvSpPr>
            <p:cNvPr id="407" name=""/>
            <p:cNvSpPr/>
            <p:nvPr/>
          </p:nvSpPr>
          <p:spPr>
            <a:xfrm>
              <a:off x="3467160" y="2438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pointer notation to copy string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character array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01924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038480" y="3484080"/>
            <a:ext cx="4114800" cy="1357920"/>
            <a:chOff x="4038480" y="3484080"/>
            <a:chExt cx="4114800" cy="1357920"/>
          </a:xfrm>
        </p:grpSpPr>
        <p:sp>
          <p:nvSpPr>
            <p:cNvPr id="410" name=""/>
            <p:cNvSpPr/>
            <p:nvPr/>
          </p:nvSpPr>
          <p:spPr>
            <a:xfrm>
              <a:off x="5486400" y="40179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 both pointers to point to next elements in corresponding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38480" y="3484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E166-4232-46CC-8FED-14E46A3446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store array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lement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does not store strings, only pointers t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33520" y="4038480"/>
            <a:ext cx="7848360" cy="1447920"/>
            <a:chOff x="533520" y="4038480"/>
            <a:chExt cx="7848360" cy="1447920"/>
          </a:xfrm>
        </p:grpSpPr>
        <p:grpSp>
          <p:nvGrpSpPr>
            <p:cNvPr id="416" name=""/>
            <p:cNvGrpSpPr/>
            <p:nvPr/>
          </p:nvGrpSpPr>
          <p:grpSpPr>
            <a:xfrm>
              <a:off x="533520" y="5124600"/>
              <a:ext cx="2190960" cy="361800"/>
              <a:chOff x="533520" y="5124600"/>
              <a:chExt cx="2190960" cy="361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533520" y="5124600"/>
                <a:ext cx="1565280" cy="361800"/>
                <a:chOff x="533520" y="5124600"/>
                <a:chExt cx="1565280" cy="3618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1629720" y="5124600"/>
                  <a:ext cx="469080" cy="361800"/>
                  <a:chOff x="1629720" y="5124600"/>
                  <a:chExt cx="469080" cy="3618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629720" y="512460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784520" y="524520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533520" y="518472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1942200" y="530532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33520" y="4762440"/>
              <a:ext cx="2190960" cy="361800"/>
              <a:chOff x="533520" y="4762440"/>
              <a:chExt cx="2190960" cy="3618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533520" y="4762440"/>
                <a:ext cx="1565280" cy="361800"/>
                <a:chOff x="533520" y="4762440"/>
                <a:chExt cx="1565280" cy="361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1629720" y="4762440"/>
                  <a:ext cx="469080" cy="361800"/>
                  <a:chOff x="1629720" y="4762440"/>
                  <a:chExt cx="469080" cy="3618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1629720" y="476244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1784880" y="488304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533520" y="482256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1942560" y="494316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33520" y="4400280"/>
              <a:ext cx="2190960" cy="361800"/>
              <a:chOff x="533520" y="4400280"/>
              <a:chExt cx="2190960" cy="36180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533520" y="4400280"/>
                <a:ext cx="1565280" cy="361800"/>
                <a:chOff x="533520" y="4400280"/>
                <a:chExt cx="1565280" cy="36180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629720" y="4400280"/>
                  <a:ext cx="469080" cy="361800"/>
                  <a:chOff x="1629720" y="4400280"/>
                  <a:chExt cx="469080" cy="3618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629720" y="44002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784880" y="45208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533520" y="44604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942560" y="45810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33520" y="4038480"/>
              <a:ext cx="2190960" cy="361800"/>
              <a:chOff x="533520" y="4038480"/>
              <a:chExt cx="2190960" cy="3618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533520" y="4038480"/>
                <a:ext cx="1565280" cy="361800"/>
                <a:chOff x="533520" y="4038480"/>
                <a:chExt cx="1565280" cy="36180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629720" y="4038480"/>
                  <a:ext cx="469080" cy="361800"/>
                  <a:chOff x="1629720" y="4038480"/>
                  <a:chExt cx="469080" cy="3618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629720" y="40384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84880" y="41590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533520" y="40986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1942560" y="42192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724480" y="4098600"/>
              <a:ext cx="625680" cy="282600"/>
              <a:chOff x="2724480" y="4098600"/>
              <a:chExt cx="625680" cy="282600"/>
            </a:xfrm>
          </p:grpSpPr>
          <p:sp>
            <p:nvSpPr>
              <p:cNvPr id="445" name=""/>
              <p:cNvSpPr/>
              <p:nvPr/>
            </p:nvSpPr>
            <p:spPr>
              <a:xfrm>
                <a:off x="27244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752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350160" y="4098600"/>
              <a:ext cx="625680" cy="282600"/>
              <a:chOff x="3350160" y="4098600"/>
              <a:chExt cx="625680" cy="282600"/>
            </a:xfrm>
          </p:grpSpPr>
          <p:sp>
            <p:nvSpPr>
              <p:cNvPr id="448" name=""/>
              <p:cNvSpPr/>
              <p:nvPr/>
            </p:nvSpPr>
            <p:spPr>
              <a:xfrm>
                <a:off x="33501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4009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976200" y="4098600"/>
              <a:ext cx="625680" cy="282600"/>
              <a:chOff x="3976200" y="4098600"/>
              <a:chExt cx="625680" cy="282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9762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269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601880" y="4098600"/>
              <a:ext cx="625680" cy="282600"/>
              <a:chOff x="4601880" y="4098600"/>
              <a:chExt cx="625680" cy="282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6018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526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227560" y="4098600"/>
              <a:ext cx="625680" cy="282600"/>
              <a:chOff x="5227560" y="4098600"/>
              <a:chExt cx="625680" cy="282600"/>
            </a:xfrm>
          </p:grpSpPr>
          <p:sp>
            <p:nvSpPr>
              <p:cNvPr id="457" name=""/>
              <p:cNvSpPr/>
              <p:nvPr/>
            </p:nvSpPr>
            <p:spPr>
              <a:xfrm>
                <a:off x="52275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783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853600" y="4098600"/>
              <a:ext cx="625680" cy="282600"/>
              <a:chOff x="5853600" y="4098600"/>
              <a:chExt cx="625680" cy="282600"/>
            </a:xfrm>
          </p:grpSpPr>
          <p:sp>
            <p:nvSpPr>
              <p:cNvPr id="460" name=""/>
              <p:cNvSpPr/>
              <p:nvPr/>
            </p:nvSpPr>
            <p:spPr>
              <a:xfrm>
                <a:off x="58536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043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451920" y="4098600"/>
              <a:ext cx="678960" cy="282600"/>
              <a:chOff x="6451920" y="4098600"/>
              <a:chExt cx="678960" cy="282600"/>
            </a:xfrm>
          </p:grpSpPr>
          <p:sp>
            <p:nvSpPr>
              <p:cNvPr id="463" name=""/>
              <p:cNvSpPr/>
              <p:nvPr/>
            </p:nvSpPr>
            <p:spPr>
              <a:xfrm>
                <a:off x="64792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451920" y="409860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724480" y="4450680"/>
              <a:ext cx="625680" cy="282600"/>
              <a:chOff x="2724480" y="4450680"/>
              <a:chExt cx="625680" cy="2826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244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52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50160" y="4450680"/>
              <a:ext cx="625680" cy="282600"/>
              <a:chOff x="3350160" y="4450680"/>
              <a:chExt cx="625680" cy="282600"/>
            </a:xfrm>
          </p:grpSpPr>
          <p:sp>
            <p:nvSpPr>
              <p:cNvPr id="469" name=""/>
              <p:cNvSpPr/>
              <p:nvPr/>
            </p:nvSpPr>
            <p:spPr>
              <a:xfrm>
                <a:off x="33501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0092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976200" y="4450680"/>
              <a:ext cx="625680" cy="282600"/>
              <a:chOff x="3976200" y="4450680"/>
              <a:chExt cx="625680" cy="28260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62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269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601880" y="4450680"/>
              <a:ext cx="625680" cy="282600"/>
              <a:chOff x="4601880" y="4450680"/>
              <a:chExt cx="625680" cy="282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6018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526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227560" y="4450680"/>
              <a:ext cx="625680" cy="282600"/>
              <a:chOff x="5227560" y="4450680"/>
              <a:chExt cx="625680" cy="282600"/>
            </a:xfrm>
          </p:grpSpPr>
          <p:sp>
            <p:nvSpPr>
              <p:cNvPr id="478" name=""/>
              <p:cNvSpPr/>
              <p:nvPr/>
            </p:nvSpPr>
            <p:spPr>
              <a:xfrm>
                <a:off x="52275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7796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53600" y="4450680"/>
              <a:ext cx="625680" cy="282600"/>
              <a:chOff x="5853600" y="4450680"/>
              <a:chExt cx="625680" cy="282600"/>
            </a:xfrm>
          </p:grpSpPr>
          <p:sp>
            <p:nvSpPr>
              <p:cNvPr id="481" name=""/>
              <p:cNvSpPr/>
              <p:nvPr/>
            </p:nvSpPr>
            <p:spPr>
              <a:xfrm>
                <a:off x="5853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0400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479280" y="4450680"/>
              <a:ext cx="625680" cy="282600"/>
              <a:chOff x="6479280" y="4450680"/>
              <a:chExt cx="625680" cy="282600"/>
            </a:xfrm>
          </p:grpSpPr>
          <p:sp>
            <p:nvSpPr>
              <p:cNvPr id="484" name=""/>
              <p:cNvSpPr/>
              <p:nvPr/>
            </p:nvSpPr>
            <p:spPr>
              <a:xfrm>
                <a:off x="6479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52968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104600" y="4450680"/>
              <a:ext cx="625680" cy="282600"/>
              <a:chOff x="7104600" y="4450680"/>
              <a:chExt cx="625680" cy="282600"/>
            </a:xfrm>
          </p:grpSpPr>
          <p:sp>
            <p:nvSpPr>
              <p:cNvPr id="487" name=""/>
              <p:cNvSpPr/>
              <p:nvPr/>
            </p:nvSpPr>
            <p:spPr>
              <a:xfrm>
                <a:off x="7104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553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702920" y="4450680"/>
              <a:ext cx="678960" cy="282600"/>
              <a:chOff x="7702920" y="4450680"/>
              <a:chExt cx="678960" cy="282600"/>
            </a:xfrm>
          </p:grpSpPr>
          <p:sp>
            <p:nvSpPr>
              <p:cNvPr id="490" name=""/>
              <p:cNvSpPr/>
              <p:nvPr/>
            </p:nvSpPr>
            <p:spPr>
              <a:xfrm>
                <a:off x="7730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702920" y="445068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724480" y="4812840"/>
              <a:ext cx="625680" cy="282600"/>
              <a:chOff x="2724480" y="4812840"/>
              <a:chExt cx="625680" cy="282600"/>
            </a:xfrm>
          </p:grpSpPr>
          <p:sp>
            <p:nvSpPr>
              <p:cNvPr id="493" name=""/>
              <p:cNvSpPr/>
              <p:nvPr/>
            </p:nvSpPr>
            <p:spPr>
              <a:xfrm>
                <a:off x="27244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7524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350160" y="4812840"/>
              <a:ext cx="625680" cy="282600"/>
              <a:chOff x="3350160" y="4812840"/>
              <a:chExt cx="625680" cy="282600"/>
            </a:xfrm>
          </p:grpSpPr>
          <p:sp>
            <p:nvSpPr>
              <p:cNvPr id="496" name=""/>
              <p:cNvSpPr/>
              <p:nvPr/>
            </p:nvSpPr>
            <p:spPr>
              <a:xfrm>
                <a:off x="335016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40092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976200" y="4812840"/>
              <a:ext cx="625680" cy="282600"/>
              <a:chOff x="3976200" y="4812840"/>
              <a:chExt cx="625680" cy="282600"/>
            </a:xfrm>
          </p:grpSpPr>
          <p:sp>
            <p:nvSpPr>
              <p:cNvPr id="499" name=""/>
              <p:cNvSpPr/>
              <p:nvPr/>
            </p:nvSpPr>
            <p:spPr>
              <a:xfrm>
                <a:off x="3976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2660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601880" y="4812840"/>
              <a:ext cx="625320" cy="282600"/>
              <a:chOff x="4601880" y="4812840"/>
              <a:chExt cx="625320" cy="282600"/>
            </a:xfrm>
          </p:grpSpPr>
          <p:sp>
            <p:nvSpPr>
              <p:cNvPr id="502" name=""/>
              <p:cNvSpPr/>
              <p:nvPr/>
            </p:nvSpPr>
            <p:spPr>
              <a:xfrm>
                <a:off x="4601880" y="48128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5228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227200" y="4812840"/>
              <a:ext cx="625680" cy="282600"/>
              <a:chOff x="5227200" y="4812840"/>
              <a:chExt cx="625680" cy="282600"/>
            </a:xfrm>
          </p:grpSpPr>
          <p:sp>
            <p:nvSpPr>
              <p:cNvPr id="505" name=""/>
              <p:cNvSpPr/>
              <p:nvPr/>
            </p:nvSpPr>
            <p:spPr>
              <a:xfrm>
                <a:off x="5227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7796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825880" y="4812840"/>
              <a:ext cx="678960" cy="282600"/>
              <a:chOff x="5825880" y="4812840"/>
              <a:chExt cx="678960" cy="282600"/>
            </a:xfrm>
          </p:grpSpPr>
          <p:sp>
            <p:nvSpPr>
              <p:cNvPr id="508" name=""/>
              <p:cNvSpPr/>
              <p:nvPr/>
            </p:nvSpPr>
            <p:spPr>
              <a:xfrm>
                <a:off x="58528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25880" y="48128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724480" y="5174640"/>
              <a:ext cx="625680" cy="282600"/>
              <a:chOff x="2724480" y="5174640"/>
              <a:chExt cx="625680" cy="282600"/>
            </a:xfrm>
          </p:grpSpPr>
          <p:sp>
            <p:nvSpPr>
              <p:cNvPr id="511" name=""/>
              <p:cNvSpPr/>
              <p:nvPr/>
            </p:nvSpPr>
            <p:spPr>
              <a:xfrm>
                <a:off x="27244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7752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350160" y="5174640"/>
              <a:ext cx="625680" cy="282600"/>
              <a:chOff x="3350160" y="5174640"/>
              <a:chExt cx="625680" cy="282600"/>
            </a:xfrm>
          </p:grpSpPr>
          <p:sp>
            <p:nvSpPr>
              <p:cNvPr id="514" name=""/>
              <p:cNvSpPr/>
              <p:nvPr/>
            </p:nvSpPr>
            <p:spPr>
              <a:xfrm>
                <a:off x="33501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0092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976200" y="5174640"/>
              <a:ext cx="625680" cy="282600"/>
              <a:chOff x="3976200" y="5174640"/>
              <a:chExt cx="625680" cy="282600"/>
            </a:xfrm>
          </p:grpSpPr>
          <p:sp>
            <p:nvSpPr>
              <p:cNvPr id="517" name=""/>
              <p:cNvSpPr/>
              <p:nvPr/>
            </p:nvSpPr>
            <p:spPr>
              <a:xfrm>
                <a:off x="3976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2660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601880" y="5174640"/>
              <a:ext cx="625320" cy="282600"/>
              <a:chOff x="4601880" y="5174640"/>
              <a:chExt cx="625320" cy="282600"/>
            </a:xfrm>
          </p:grpSpPr>
          <p:sp>
            <p:nvSpPr>
              <p:cNvPr id="520" name=""/>
              <p:cNvSpPr/>
              <p:nvPr/>
            </p:nvSpPr>
            <p:spPr>
              <a:xfrm>
                <a:off x="4601880" y="51746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5228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27200" y="5174640"/>
              <a:ext cx="625680" cy="282600"/>
              <a:chOff x="5227200" y="5174640"/>
              <a:chExt cx="625680" cy="282600"/>
            </a:xfrm>
          </p:grpSpPr>
          <p:sp>
            <p:nvSpPr>
              <p:cNvPr id="523" name=""/>
              <p:cNvSpPr/>
              <p:nvPr/>
            </p:nvSpPr>
            <p:spPr>
              <a:xfrm>
                <a:off x="5227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7796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852880" y="5174640"/>
              <a:ext cx="625680" cy="282600"/>
              <a:chOff x="5852880" y="5174640"/>
              <a:chExt cx="625680" cy="282600"/>
            </a:xfrm>
          </p:grpSpPr>
          <p:sp>
            <p:nvSpPr>
              <p:cNvPr id="526" name=""/>
              <p:cNvSpPr/>
              <p:nvPr/>
            </p:nvSpPr>
            <p:spPr>
              <a:xfrm>
                <a:off x="58528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9036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451200" y="5174640"/>
              <a:ext cx="678960" cy="282600"/>
              <a:chOff x="6451200" y="5174640"/>
              <a:chExt cx="678960" cy="282600"/>
            </a:xfrm>
          </p:grpSpPr>
          <p:sp>
            <p:nvSpPr>
              <p:cNvPr id="529" name=""/>
              <p:cNvSpPr/>
              <p:nvPr/>
            </p:nvSpPr>
            <p:spPr>
              <a:xfrm>
                <a:off x="64785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51200" y="51746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2C51-C775-4597-A831-DEE6366543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array of pointers to strings, to store sui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double scripted array (suit by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1-52 into the array to specify the order in which the cards are de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4343400"/>
            <a:ext cx="4459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[2][12]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incho"/>
              </a:rPr>
              <a:t> represents the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0" y="2774880"/>
            <a:ext cx="9144000" cy="2355840"/>
            <a:chOff x="0" y="2774880"/>
            <a:chExt cx="9144000" cy="2355840"/>
          </a:xfrm>
        </p:grpSpPr>
        <p:sp>
          <p:nvSpPr>
            <p:cNvPr id="537" name=""/>
            <p:cNvSpPr/>
            <p:nvPr/>
          </p:nvSpPr>
          <p:spPr>
            <a:xfrm>
              <a:off x="476280" y="328932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a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6280" y="3533760"/>
              <a:ext cx="12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Diam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6280" y="3780000"/>
              <a:ext cx="770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6280" y="402588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p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986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653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323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988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990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655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325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657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992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27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32160" y="325296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6592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99440" y="325296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986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653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23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88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990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55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325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657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992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327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21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659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994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986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653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323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988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990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655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325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657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992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27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32160" y="374328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6592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986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653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23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988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990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655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325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57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992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27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2160" y="398952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76592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99440" y="398952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60600" y="323532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60600" y="347976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60600" y="372600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60600" y="397188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99440" y="374328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84240" y="2774880"/>
              <a:ext cx="489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1776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5128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8444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1796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5148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8464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ev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1816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5168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84840" y="2774880"/>
              <a:ext cx="489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836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5188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Qu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8504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462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797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129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464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799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31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466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801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33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468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9144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24960" y="2933640"/>
              <a:ext cx="41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5812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780960" y="3882960"/>
              <a:ext cx="160020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8" y="199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581280" y="4568040"/>
              <a:ext cx="99072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6" y="199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98960" y="4884840"/>
              <a:ext cx="76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0080" y="4873680"/>
              <a:ext cx="628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029200" y="4645080"/>
              <a:ext cx="4572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2"/>
                  </a:moveTo>
                  <a:lnTo>
                    <a:pt x="199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45878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6621-1CF4-4F0B-932B-E7B7A630000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code for shuffling and de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251460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320" y="2362320"/>
            <a:ext cx="21333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426708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43600" y="1828800"/>
            <a:ext cx="3124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43600" y="4267080"/>
            <a:ext cx="31240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For each slot of the deck arra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81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280" y="2362320"/>
            <a:ext cx="1981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9144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suit array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face array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itialize the deck array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Shuffle the deck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Deal 52 cards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523880" y="30481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486400" y="2347920"/>
            <a:ext cx="45720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486400" y="45720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B941-5C4E-4D89-91D0-B8BB43622C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4: fig05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rd shuffling dea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righ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rand and s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[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suit array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uit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ear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iamond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lub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Spade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124080" y="4267080"/>
            <a:ext cx="4114800" cy="838440"/>
            <a:chOff x="3124080" y="4267080"/>
            <a:chExt cx="4114800" cy="838440"/>
          </a:xfrm>
        </p:grpSpPr>
        <p:sp>
          <p:nvSpPr>
            <p:cNvPr id="647" name=""/>
            <p:cNvSpPr/>
            <p:nvPr/>
          </p:nvSpPr>
          <p:spPr>
            <a:xfrm>
              <a:off x="45720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contains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124080" y="4419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5B5B-8011-4A26-9F28-5A95FEA207A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191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ace array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face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eu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re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v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ix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ev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igh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in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Jack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Quee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K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deck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ck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huffle( deck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eal( deck, face, suit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352680" y="1295280"/>
            <a:ext cx="4114800" cy="961920"/>
            <a:chOff x="3352680" y="1295280"/>
            <a:chExt cx="4114800" cy="961920"/>
          </a:xfrm>
        </p:grpSpPr>
        <p:sp>
          <p:nvSpPr>
            <p:cNvPr id="652" name=""/>
            <p:cNvSpPr/>
            <p:nvPr/>
          </p:nvSpPr>
          <p:spPr>
            <a:xfrm>
              <a:off x="4800600" y="16765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 contains pointer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352680" y="12952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40D8-CFB6-4221-BD3C-3F6558C2E63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uffle cards in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huff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each of the 52 cards, choose slot of deck random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oose new random location until unoccupied sl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row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lumn =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 wDeck[ row ][ column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/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 card number in chosen slot of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wDeck[ row ][ column ] = car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huff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352680" y="2154240"/>
            <a:ext cx="4114800" cy="838080"/>
            <a:chOff x="3352680" y="2154240"/>
            <a:chExt cx="4114800" cy="838080"/>
          </a:xfrm>
        </p:grpSpPr>
        <p:sp>
          <p:nvSpPr>
            <p:cNvPr id="657" name=""/>
            <p:cNvSpPr/>
            <p:nvPr/>
          </p:nvSpPr>
          <p:spPr>
            <a:xfrm>
              <a:off x="4800600" y="21542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rrent position is at randomly selected row and colum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352680" y="230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E2FC-CD41-4FD0-B3B6-1C0198D428C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memory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points to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09480" y="4041720"/>
            <a:ext cx="7696080" cy="2359080"/>
            <a:chOff x="609480" y="4041720"/>
            <a:chExt cx="7696080" cy="2359080"/>
          </a:xfrm>
        </p:grpSpPr>
        <p:sp>
          <p:nvSpPr>
            <p:cNvPr id="117" name=""/>
            <p:cNvSpPr/>
            <p:nvPr/>
          </p:nvSpPr>
          <p:spPr>
            <a:xfrm>
              <a:off x="623880" y="5006880"/>
              <a:ext cx="5508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46480" y="4618080"/>
              <a:ext cx="5490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4802040"/>
              <a:ext cx="1446480" cy="370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4811760"/>
              <a:ext cx="577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3120" y="5138640"/>
              <a:ext cx="110880" cy="66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29000" y="442260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9000" y="470376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429000" y="4346640"/>
              <a:ext cx="4876560" cy="685800"/>
              <a:chOff x="3429000" y="4346640"/>
              <a:chExt cx="4876560" cy="685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3429000" y="4346640"/>
                <a:ext cx="2060280" cy="685800"/>
                <a:chOff x="3429000" y="4346640"/>
                <a:chExt cx="2060280" cy="685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740840" y="4346640"/>
                  <a:ext cx="5158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429000" y="4652640"/>
                  <a:ext cx="2060280" cy="379800"/>
                  <a:chOff x="3429000" y="4652640"/>
                  <a:chExt cx="2060280" cy="3798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429000" y="4715640"/>
                    <a:ext cx="75348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4182480" y="4652640"/>
                    <a:ext cx="1306800" cy="379800"/>
                    <a:chOff x="4182480" y="4652640"/>
                    <a:chExt cx="1306800" cy="3798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458600" y="471564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18248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6245640" y="4346640"/>
                <a:ext cx="2059920" cy="685800"/>
                <a:chOff x="6245640" y="4346640"/>
                <a:chExt cx="2059920" cy="6858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572240" y="4346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245640" y="4652640"/>
                  <a:ext cx="2059920" cy="379800"/>
                  <a:chOff x="6245640" y="4652640"/>
                  <a:chExt cx="2059920" cy="3798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24564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998760" y="4652640"/>
                    <a:ext cx="1306800" cy="379800"/>
                    <a:chOff x="6998760" y="4652640"/>
                    <a:chExt cx="1306800" cy="37980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7571880" y="471564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99876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"/>
            <p:cNvSpPr/>
            <p:nvPr/>
          </p:nvSpPr>
          <p:spPr>
            <a:xfrm>
              <a:off x="3200400" y="4041720"/>
              <a:ext cx="0" cy="23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4120" y="5565600"/>
              <a:ext cx="16761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dress of y is value of 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324480" y="495576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4952880" y="487944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8389-7EA0-4754-BCAC-2BCAAD3DD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4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al cards in 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Deck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Face[]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wSuit[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each of the 52 car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d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ard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rows of wDec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w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w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columns of wDeck for current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um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lum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lot contains current card, display car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wDeck[ row ][ column ] == card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ight &lt;&lt; wFace[ column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left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wSuit[ row ]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&lt;&lt; ( card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?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t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200400" y="2646360"/>
            <a:ext cx="4876920" cy="838080"/>
            <a:chOff x="3200400" y="2646360"/>
            <a:chExt cx="4876920" cy="838080"/>
          </a:xfrm>
        </p:grpSpPr>
        <p:sp>
          <p:nvSpPr>
            <p:cNvPr id="662" name=""/>
            <p:cNvSpPr/>
            <p:nvPr/>
          </p:nvSpPr>
          <p:spPr>
            <a:xfrm>
              <a:off x="5410080" y="264636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use face to be output right justified in field of 5 charac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962160" y="2819520"/>
              <a:ext cx="144756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200400" y="2819520"/>
              <a:ext cx="220968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114800" y="2819520"/>
            <a:ext cx="4114800" cy="838080"/>
            <a:chOff x="4114800" y="2819520"/>
            <a:chExt cx="4114800" cy="838080"/>
          </a:xfrm>
        </p:grpSpPr>
        <p:sp>
          <p:nvSpPr>
            <p:cNvPr id="666" name=""/>
            <p:cNvSpPr/>
            <p:nvPr/>
          </p:nvSpPr>
          <p:spPr>
            <a:xfrm>
              <a:off x="556272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use suit to be output left justified in field of 8 charac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114800" y="2971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876560" y="297180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73C6-0FFF-4335-8CD2-1EE3124BF5B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Spades         Seven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Spades         Eight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Diamonds       Three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Spades          Fiv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Diamonds       Thre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 Six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Clubs           Nin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Hearts         Queen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Spades         Deuc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Hearts         Deuc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Clubs          Deuce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Hearts         Sev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Spades         Eight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 King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Clubs            Ac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 Four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Eight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Hearts           Ten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Diamonds        King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ven of Hearts          King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Spades          Four of Hear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Clubs            Six of Diamon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 Jack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Clubs          Three of Sp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Clubs           Five of Club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Hearts           Ace of Diamon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9283-7B81-4D50-98F6-2F20B152C7F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address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rray name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4F96-A184-4F28-A7F0-6A4CC16493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functions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parame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 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 function with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compare ) ( int1, int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eference pointer to function to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( int1, int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conf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may thin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of actual function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E173-A2E4-4B1A-9338-2DC800C8121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5: fig05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urpose sorting program using function point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*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order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038480" y="2209680"/>
            <a:ext cx="4114800" cy="1067400"/>
            <a:chOff x="4038480" y="2209680"/>
            <a:chExt cx="4114800" cy="1067400"/>
          </a:xfrm>
        </p:grpSpPr>
        <p:sp>
          <p:nvSpPr>
            <p:cNvPr id="678" name=""/>
            <p:cNvSpPr/>
            <p:nvPr/>
          </p:nvSpPr>
          <p:spPr>
            <a:xfrm>
              <a:off x="5486400" y="2209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 is pointer to function that receives two integer parameters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038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5E87-46AE-4139-B6BE-61234BE6D38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1 to sort in ascending order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2 to sort in descending ord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ord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count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in ascending order; pass function ascending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n argument to specify ascending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order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bble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ascend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in descending order; pass function descend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 an agrument to specify descending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ubble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descending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de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7FDA-B8D0-49F3-90DB-7ABA7A35D4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counter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ultipurpose bubble sort; parameter compare is a pointer to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omparison function that determines sorting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bbl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[], const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*compare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o control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adjacent elements are out of order, swap the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(*compare)( work[ count ], work[ 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swap( &amp;work[ count ], &amp;work[ count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895480" y="2209680"/>
            <a:ext cx="4114800" cy="1067400"/>
            <a:chOff x="2895480" y="2209680"/>
            <a:chExt cx="4114800" cy="1067400"/>
          </a:xfrm>
        </p:grpSpPr>
        <p:sp>
          <p:nvSpPr>
            <p:cNvPr id="685" name=""/>
            <p:cNvSpPr/>
            <p:nvPr/>
          </p:nvSpPr>
          <p:spPr>
            <a:xfrm>
              <a:off x="4343400" y="2209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pointer to function that receives two integer parameters and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sul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89548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666520" y="3200040"/>
            <a:ext cx="4343760" cy="828720"/>
            <a:chOff x="2666520" y="3200040"/>
            <a:chExt cx="4343760" cy="828720"/>
          </a:xfrm>
        </p:grpSpPr>
        <p:sp>
          <p:nvSpPr>
            <p:cNvPr id="688" name=""/>
            <p:cNvSpPr/>
            <p:nvPr/>
          </p:nvSpPr>
          <p:spPr>
            <a:xfrm>
              <a:off x="4343400" y="3448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necessary to indicate pointer to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2666520" y="3200040"/>
              <a:ext cx="1676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286000" y="4170240"/>
            <a:ext cx="4114800" cy="838440"/>
            <a:chOff x="2286000" y="4170240"/>
            <a:chExt cx="4114800" cy="838440"/>
          </a:xfrm>
        </p:grpSpPr>
        <p:sp>
          <p:nvSpPr>
            <p:cNvPr id="691" name=""/>
            <p:cNvSpPr/>
            <p:nvPr/>
          </p:nvSpPr>
          <p:spPr>
            <a:xfrm>
              <a:off x="3733920" y="41702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passe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dereference pointer to execut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286000" y="4322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3D33-E486-40AB-8BA0-30F9D927C40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values at memory locations to whi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1Ptr and element2Pt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nst element1Ptr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const element2Pt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 = *element1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1Ptr = *element2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*element2Ptr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wa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elements are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n ascending order sort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lt; a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if b is less tha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scending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8504-43E3-442A-84AA-2D57FEAE6B4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whether elements are out of ord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r a descending order sort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escending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a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wap if b is greater tha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descending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17524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581280"/>
            <a:ext cx="701028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E3EB-9856-4271-87E6-9F6D0E57E3C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-driven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to each function stored in array of pointers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unctions must have same return type and same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 choic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bscript into array of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90B0-8B3B-4E5A-B0A0-6C147243500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ynonym for object its pointer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is l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9;      // assigns 9 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 of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5184-662A-4606-8169-80053DF646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6: fig05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an array of pointer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of 3 pointers to functions that each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ake an int argument and return void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*f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)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= { function1, function2, function3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, 3 to e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857320" y="3048120"/>
            <a:ext cx="4115160" cy="838080"/>
            <a:chOff x="2857320" y="3048120"/>
            <a:chExt cx="4115160" cy="838080"/>
          </a:xfrm>
        </p:grpSpPr>
        <p:sp>
          <p:nvSpPr>
            <p:cNvPr id="704" name=""/>
            <p:cNvSpPr/>
            <p:nvPr/>
          </p:nvSpPr>
          <p:spPr>
            <a:xfrm>
              <a:off x="4305240" y="3048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initialized with names of three functions; function names are poin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285732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35B6-24B1-4992-806A-2D3F7742C86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cess user's cho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hoice &g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choi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oke function at location choice in array 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nd pass choice as an argument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(*f[ choice ])( choice );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, 3 to en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in &gt;&gt; choic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execution completed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a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1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437920" y="1558440"/>
            <a:ext cx="3886560" cy="1281600"/>
            <a:chOff x="2437920" y="1558440"/>
            <a:chExt cx="3886560" cy="1281600"/>
          </a:xfrm>
        </p:grpSpPr>
        <p:sp>
          <p:nvSpPr>
            <p:cNvPr id="709" name=""/>
            <p:cNvSpPr/>
            <p:nvPr/>
          </p:nvSpPr>
          <p:spPr>
            <a:xfrm>
              <a:off x="3657600" y="2016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chosen function by dereferencing corresponding element i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437920" y="155844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1C38-8EEE-4690-B93E-616A003480F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2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3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ou ente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c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so function3 was called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30481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0 so function1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1 so function2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 2 so function3 wa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, 3 to end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gram execution completed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54DD-7648-4328-BF17-87855F5F13D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represented as character in sing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nteger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singl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clude letters, digits, special characters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double quotes,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characters, ends with null charac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is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er to string’s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1FC3-E781-4D6A-A4D7-727F3420CFC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5 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ele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poin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let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lu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where in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ternative for character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{ ‘b’, ‘l’, ‘u’, ‘e’, ‘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EF94-72A1-4782-A381-864AC2C7127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input to charact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[ 20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or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uld exceed arra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etw( 20 ) &gt;&gt; wo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19 characters (space reserv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2FFA-D5BD-4105-ACC2-567F341EE91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 line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line( array, size, delimite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nput into specifi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ntil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ess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im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 is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entence[ 8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sentence, 80,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0939-DE25-412A-894B-3CB4F7C6B1B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ring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s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str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 for characters and other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ize strings (separate strings into logical pie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D566-D2C5-4AE2-B257-2D27C876C08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86000" y="3270240"/>
            <a:ext cx="4572000" cy="317520"/>
            <a:chOff x="2286000" y="3270240"/>
            <a:chExt cx="4572000" cy="317520"/>
          </a:xfrm>
        </p:grpSpPr>
        <p:sp>
          <p:nvSpPr>
            <p:cNvPr id="726" name=""/>
            <p:cNvSpPr/>
            <p:nvPr/>
          </p:nvSpPr>
          <p:spPr>
            <a:xfrm>
              <a:off x="2286000" y="3270240"/>
              <a:ext cx="1270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56080" y="3270240"/>
              <a:ext cx="3301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8" name=""/>
          <p:cNvGraphicFramePr/>
          <p:nvPr/>
        </p:nvGraphicFramePr>
        <p:xfrm>
          <a:off x="533520" y="1143000"/>
          <a:ext cx="8153280" cy="5118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py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py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 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at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at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cmp( const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a value of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87AB-73DF-49D8-8941-37C21658337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435560"/>
                <a:gridCol w="37940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ncmp( const char *s1, const char *s2, size_t n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up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tok( char *s1, const char *s2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equence of call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to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eaks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“tokens”—logical pieces such as words in a line of text—delimited by characters contained in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all contain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, and subsequent calls to continue tokenizing the same string cont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. A pointer to the current to­ken is returned by each call. If there are no more tokens when the function is calle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_t strlen( const char *s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s the length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number of characters preceding the terminating null character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819D-BDEB-4A70-B169-720D74017CB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5.4: fig05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Using the &amp; and *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 is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Pt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Ptr is a pointer to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Ptr = &amp;a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aPtr assigned address of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The address of 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&amp;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The value of aPt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a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\nThe value of a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"\nThe value of *aPtr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*a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\n\nShowing that * and &amp; are inverses of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each other.\n&amp;*aPtr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&lt; &amp;*aPt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 "\n*&amp;aPtr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 *&amp;aPtr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505320" y="4267080"/>
            <a:ext cx="4572000" cy="990720"/>
            <a:chOff x="3505320" y="4267080"/>
            <a:chExt cx="4572000" cy="990720"/>
          </a:xfrm>
        </p:grpSpPr>
        <p:sp>
          <p:nvSpPr>
            <p:cNvPr id="148" name=""/>
            <p:cNvSpPr/>
            <p:nvPr/>
          </p:nvSpPr>
          <p:spPr>
            <a:xfrm>
              <a:off x="6095880" y="4267080"/>
              <a:ext cx="1981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inverses of each other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647960" y="4419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05320" y="4419720"/>
              <a:ext cx="2590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2DE3-D5BF-4B2B-833B-D76484A21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cpy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second argument in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gument must be large enough to store string and terminating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ncpy(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number of characters to be copied from string i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necessarily copy terminating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1568-4500-4D99-A114-363EE062A11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8: fig05_2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py and strncp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py and strncp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Birthday to You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py( y, x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contents of x into 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x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tring in array y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first 14 characters of x into z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py( z, x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es not copy null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z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nd '\0' to z's cont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in array z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z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736" name=""/>
            <p:cNvSpPr/>
            <p:nvPr/>
          </p:nvSpPr>
          <p:spPr>
            <a:xfrm>
              <a:off x="3581280" y="914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133360" y="2646360"/>
            <a:ext cx="4115160" cy="838080"/>
            <a:chOff x="2133360" y="2646360"/>
            <a:chExt cx="4115160" cy="838080"/>
          </a:xfrm>
        </p:grpSpPr>
        <p:sp>
          <p:nvSpPr>
            <p:cNvPr id="739" name=""/>
            <p:cNvSpPr/>
            <p:nvPr/>
          </p:nvSpPr>
          <p:spPr>
            <a:xfrm>
              <a:off x="3581280" y="264636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entire string in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o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133360" y="27986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666880" y="3962520"/>
            <a:ext cx="4114800" cy="1067400"/>
            <a:chOff x="2666880" y="3962520"/>
            <a:chExt cx="4114800" cy="1067400"/>
          </a:xfrm>
        </p:grpSpPr>
        <p:sp>
          <p:nvSpPr>
            <p:cNvPr id="742" name=""/>
            <p:cNvSpPr/>
            <p:nvPr/>
          </p:nvSpPr>
          <p:spPr>
            <a:xfrm>
              <a:off x="4114800" y="39625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y first 14 characters of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to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Note that this does not write terminating null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6668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209680" y="4267080"/>
            <a:ext cx="4114800" cy="838080"/>
            <a:chOff x="2209680" y="4267080"/>
            <a:chExt cx="4114800" cy="838080"/>
          </a:xfrm>
        </p:grpSpPr>
        <p:sp>
          <p:nvSpPr>
            <p:cNvPr id="745" name=""/>
            <p:cNvSpPr/>
            <p:nvPr/>
          </p:nvSpPr>
          <p:spPr>
            <a:xfrm>
              <a:off x="3657600" y="4267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terminating null charac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209680" y="441936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6AA8-38F7-41DC-A192-9277DE01F65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106668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x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in array y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string in array z is: Happy Birthda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495680" y="492120"/>
            <a:ext cx="4114800" cy="838080"/>
            <a:chOff x="4495680" y="492120"/>
            <a:chExt cx="4114800" cy="838080"/>
          </a:xfrm>
        </p:grpSpPr>
        <p:sp>
          <p:nvSpPr>
            <p:cNvPr id="751" name=""/>
            <p:cNvSpPr/>
            <p:nvPr/>
          </p:nvSpPr>
          <p:spPr>
            <a:xfrm>
              <a:off x="5943600" y="492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ing to cop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495680" y="644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495680" y="720720"/>
            <a:ext cx="4114800" cy="838080"/>
            <a:chOff x="4495680" y="720720"/>
            <a:chExt cx="4114800" cy="838080"/>
          </a:xfrm>
        </p:grpSpPr>
        <p:sp>
          <p:nvSpPr>
            <p:cNvPr id="754" name=""/>
            <p:cNvSpPr/>
            <p:nvPr/>
          </p:nvSpPr>
          <p:spPr>
            <a:xfrm>
              <a:off x="5943600" y="7207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 string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495680" y="87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885840" y="914400"/>
            <a:ext cx="4724640" cy="838080"/>
            <a:chOff x="3885840" y="914400"/>
            <a:chExt cx="4724640" cy="838080"/>
          </a:xfrm>
        </p:grpSpPr>
        <p:sp>
          <p:nvSpPr>
            <p:cNvPr id="757" name=""/>
            <p:cNvSpPr/>
            <p:nvPr/>
          </p:nvSpPr>
          <p:spPr>
            <a:xfrm>
              <a:off x="59436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 first 14 character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p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885840" y="106668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88EE-627F-4EE0-B97A-CE769B0E2BA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ena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cat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second argument 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haracter of second argument replaces null character terminating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first argument large enough to store concatenated result and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ncat(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specified number of characters from second argument to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nds terminating null character to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EBFF-51B1-4C8B-82AB-A12213A4480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29: fig05_2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at and strnca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at and strnc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New Year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at( s1, s2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s2 to s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cat(s1, s2):\n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first 6 characters of s1 to s3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ncat( s3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laces '\0' after last charac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764" name=""/>
            <p:cNvSpPr/>
            <p:nvPr/>
          </p:nvSpPr>
          <p:spPr>
            <a:xfrm>
              <a:off x="3581280" y="9144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767" name=""/>
            <p:cNvSpPr/>
            <p:nvPr/>
          </p:nvSpPr>
          <p:spPr>
            <a:xfrm>
              <a:off x="3200400" y="304812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209680" y="4419720"/>
            <a:ext cx="4114800" cy="838080"/>
            <a:chOff x="2209680" y="4419720"/>
            <a:chExt cx="4114800" cy="838080"/>
          </a:xfrm>
        </p:grpSpPr>
        <p:sp>
          <p:nvSpPr>
            <p:cNvPr id="770" name=""/>
            <p:cNvSpPr/>
            <p:nvPr/>
          </p:nvSpPr>
          <p:spPr>
            <a:xfrm>
              <a:off x="3657600" y="4419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first 6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2096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B299-0098-4288-99D4-723ACF97137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2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ncat(s3, s1, 6):\n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rcat( s3, s1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catenate s1 to s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After strcat(s3, s1):\ns1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1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3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2438280"/>
            <a:ext cx="7010280" cy="335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cat(s1, s2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ncat(s3, s1, 6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cat(s3, s1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752480" y="228600"/>
            <a:ext cx="4114800" cy="609480"/>
            <a:chOff x="1752480" y="228600"/>
            <a:chExt cx="4114800" cy="609480"/>
          </a:xfrm>
        </p:grpSpPr>
        <p:sp>
          <p:nvSpPr>
            <p:cNvPr id="776" name=""/>
            <p:cNvSpPr/>
            <p:nvPr/>
          </p:nvSpPr>
          <p:spPr>
            <a:xfrm>
              <a:off x="3200400" y="2286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752480" y="380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CD64-CDE9-4450-AC7A-A6747BB5D4D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represented as numeric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compared using numeric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codes / character 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Standard Code for Information Intercha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 Binary Coded Decimal Interchange Co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4BC6-2B44-4F7F-A6F6-5EDD24C7840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trcmp( const char *s1, const char *s2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character by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if strings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 value if first string less than second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value if first string greater than second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trncmp( const char *s1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 char *s2, size_t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up to specified number of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comparing if reaches null character in one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7654-568F-47F0-98F7-9CBB42A123B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0: fig05_3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cmp and strncmp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s for strcmp and strncm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New Ye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New Yea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appy Holiday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1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2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3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3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cmp(s1, s2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cmp( s1, s2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cmp(s1, s3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cmp( s1, s3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cmp(s3, s1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cmp( s3, s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828440" y="1749600"/>
            <a:ext cx="4115160" cy="838080"/>
            <a:chOff x="1828440" y="1749600"/>
            <a:chExt cx="4115160" cy="838080"/>
          </a:xfrm>
        </p:grpSpPr>
        <p:sp>
          <p:nvSpPr>
            <p:cNvPr id="785" name=""/>
            <p:cNvSpPr/>
            <p:nvPr/>
          </p:nvSpPr>
          <p:spPr>
            <a:xfrm>
              <a:off x="3276360" y="1749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cm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ncm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828440" y="1901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190760" y="4038480"/>
            <a:ext cx="4115160" cy="838440"/>
            <a:chOff x="4190760" y="4038480"/>
            <a:chExt cx="4115160" cy="838440"/>
          </a:xfrm>
        </p:grpSpPr>
        <p:sp>
          <p:nvSpPr>
            <p:cNvPr id="788" name=""/>
            <p:cNvSpPr/>
            <p:nvPr/>
          </p:nvSpPr>
          <p:spPr>
            <a:xfrm>
              <a:off x="5638680" y="40384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190760" y="41911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971800" y="4384800"/>
            <a:ext cx="4114800" cy="838080"/>
            <a:chOff x="2971800" y="4384800"/>
            <a:chExt cx="4114800" cy="838080"/>
          </a:xfrm>
        </p:grpSpPr>
        <p:sp>
          <p:nvSpPr>
            <p:cNvPr id="791" name=""/>
            <p:cNvSpPr/>
            <p:nvPr/>
          </p:nvSpPr>
          <p:spPr>
            <a:xfrm>
              <a:off x="4419720" y="43848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1800" y="45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190760" y="4730760"/>
            <a:ext cx="4115160" cy="837720"/>
            <a:chOff x="4190760" y="4730760"/>
            <a:chExt cx="4115160" cy="837720"/>
          </a:xfrm>
        </p:grpSpPr>
        <p:sp>
          <p:nvSpPr>
            <p:cNvPr id="794" name=""/>
            <p:cNvSpPr/>
            <p:nvPr/>
          </p:nvSpPr>
          <p:spPr>
            <a:xfrm>
              <a:off x="5638680" y="473076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190760" y="488304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0BFD-035E-43ED-9A4E-B72D7083DEE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strncmp(s1, s3, 6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trncmp( s1, s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ncmp(s1, s3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ncmp( s1, s3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ncmp(s3, s1, 7)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trncmp( s3, s1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24382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= Happy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1, s2)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1, s3) =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cmp(s3, s1) =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1, s3, 6)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1, s3, 7) =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ncmp(s3, s1, 7) =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971440" y="76320"/>
            <a:ext cx="3810240" cy="609480"/>
            <a:chOff x="2971440" y="76320"/>
            <a:chExt cx="3810240" cy="609480"/>
          </a:xfrm>
        </p:grpSpPr>
        <p:sp>
          <p:nvSpPr>
            <p:cNvPr id="800" name=""/>
            <p:cNvSpPr/>
            <p:nvPr/>
          </p:nvSpPr>
          <p:spPr>
            <a:xfrm>
              <a:off x="41148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6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971440" y="228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123720" y="228600"/>
            <a:ext cx="3810240" cy="609480"/>
            <a:chOff x="3123720" y="228600"/>
            <a:chExt cx="3810240" cy="609480"/>
          </a:xfrm>
        </p:grpSpPr>
        <p:sp>
          <p:nvSpPr>
            <p:cNvPr id="803" name=""/>
            <p:cNvSpPr/>
            <p:nvPr/>
          </p:nvSpPr>
          <p:spPr>
            <a:xfrm>
              <a:off x="4267080" y="228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7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123720" y="3808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657240" y="685800"/>
            <a:ext cx="3810240" cy="609480"/>
            <a:chOff x="3657240" y="685800"/>
            <a:chExt cx="3810240" cy="609480"/>
          </a:xfrm>
        </p:grpSpPr>
        <p:sp>
          <p:nvSpPr>
            <p:cNvPr id="806" name=""/>
            <p:cNvSpPr/>
            <p:nvPr/>
          </p:nvSpPr>
          <p:spPr>
            <a:xfrm>
              <a:off x="4800600" y="6858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are up to 7 character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657240" y="83808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BEDA-6198-4E4E-91B5-98AE673CAD9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440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ddress of a is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Ptr is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g that * and &amp; are inverse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*aPtr = 0012FE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&amp;aPtr = 0012FED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120" y="2666520"/>
            <a:ext cx="3886560" cy="977040"/>
            <a:chOff x="1752120" y="2666520"/>
            <a:chExt cx="3886560" cy="977040"/>
          </a:xfrm>
        </p:grpSpPr>
        <p:sp>
          <p:nvSpPr>
            <p:cNvPr id="15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inverses; same result when both applied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752120" y="2666520"/>
              <a:ext cx="121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75212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F13C-D8F1-4B74-A202-FE6874E3CD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ing strings into tokens, separated by delimiting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s usually logical units, such as words (separated by spa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This is my string"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4 word tokens (separated by spac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*strtok( char *s1, const char *s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call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all contains two arguments, string to be tokenized and string containing delimiting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next delimiting character and replaces with nu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alls continue token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with first argu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F48B-8DDD-43CC-83C3-14829D14CE3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1: fig05_3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tok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strtok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ntence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is is a sentence with 7 token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tokenPt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string to be tokenized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tokens are: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egin tokenization of 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okenPtr = strtok( sentence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813" name=""/>
            <p:cNvSpPr/>
            <p:nvPr/>
          </p:nvSpPr>
          <p:spPr>
            <a:xfrm>
              <a:off x="3581280" y="914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133360" y="3311640"/>
            <a:ext cx="4115160" cy="838080"/>
            <a:chOff x="2133360" y="3311640"/>
            <a:chExt cx="4115160" cy="838080"/>
          </a:xfrm>
        </p:grpSpPr>
        <p:sp>
          <p:nvSpPr>
            <p:cNvPr id="816" name=""/>
            <p:cNvSpPr/>
            <p:nvPr/>
          </p:nvSpPr>
          <p:spPr>
            <a:xfrm>
              <a:off x="3581280" y="33116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rst cal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tokeniz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33360" y="34639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9880-8428-4131-B34A-F5CF57003E8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tinue tokenizing sentence until tokenPtr becomes NU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tokenPtr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tokenPtr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kenPtr = strtok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et next toke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whi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After strtok, sentence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ntence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857320" y="1066680"/>
            <a:ext cx="4115160" cy="1281240"/>
            <a:chOff x="2857320" y="1066680"/>
            <a:chExt cx="4115160" cy="1281240"/>
          </a:xfrm>
        </p:grpSpPr>
        <p:sp>
          <p:nvSpPr>
            <p:cNvPr id="821" name=""/>
            <p:cNvSpPr/>
            <p:nvPr/>
          </p:nvSpPr>
          <p:spPr>
            <a:xfrm>
              <a:off x="4305240" y="1523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equent call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t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first argument to indicate continu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2857320" y="1066680"/>
              <a:ext cx="1447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1477-2F80-4AA7-8078-BCFA05FA205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tring to be tokenized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a sentence with 7 tok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tokens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strtok, sentence = Th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1BCF-9C18-4B20-BFC1-23D37A82C46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string l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_t strlen( const char *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number of characters i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ting null character not included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9DE1-BF34-481C-AB2D-F0DEB550230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5.32: fig05_3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strle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ring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totype for strle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bcdefghijklmnopqrstuvwxyz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2 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ur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string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Bosto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length of \"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len( string1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length of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"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len( string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length of \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len( string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2133360" y="914400"/>
            <a:ext cx="4115160" cy="838080"/>
            <a:chOff x="2133360" y="914400"/>
            <a:chExt cx="4115160" cy="838080"/>
          </a:xfrm>
        </p:grpSpPr>
        <p:sp>
          <p:nvSpPr>
            <p:cNvPr id="830" name=""/>
            <p:cNvSpPr/>
            <p:nvPr/>
          </p:nvSpPr>
          <p:spPr>
            <a:xfrm>
              <a:off x="3581280" y="9144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cstring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tains prototype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l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2133360" y="10666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038480" y="3809880"/>
            <a:ext cx="4114800" cy="838440"/>
            <a:chOff x="4038480" y="3809880"/>
            <a:chExt cx="4114800" cy="838440"/>
          </a:xfrm>
        </p:grpSpPr>
        <p:sp>
          <p:nvSpPr>
            <p:cNvPr id="833" name=""/>
            <p:cNvSpPr/>
            <p:nvPr/>
          </p:nvSpPr>
          <p:spPr>
            <a:xfrm>
              <a:off x="5486400" y="3809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le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determine length of string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38480" y="3962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266720" y="396252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4266720" y="3809880"/>
              <a:ext cx="1219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56E4-5C9F-4FB3-9167-553A903FC52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5_3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"abcdefghijklmnopqrstuvwxyz" is 2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length of "four"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ength of "Boston" is 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C488-6945-4105-8160-288DF6CB528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ways to pass arguments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with referenc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-by-reference with pointer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turn one value from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passed to function using referenc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ify original values of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than one value “returned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FB94-C541-4767-A25A-551B50A48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3:16:45Z</dcterms:created>
  <dc:creator>Audrey Lee</dc:creator>
  <dc:description/>
  <dc:language>en-US</dc:language>
  <cp:lastModifiedBy>Pearson Education</cp:lastModifiedBy>
  <dcterms:modified xsi:type="dcterms:W3CDTF">2002-08-01T20:32:44Z</dcterms:modified>
  <cp:revision>161</cp:revision>
  <dc:subject/>
  <dc:title>Chapter 5 - Pointers and Strings</dc:title>
</cp:coreProperties>
</file>