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F336-98FE-49EE-B186-709D410FB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9854-8E0E-4713-AFD8-D53BEA323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C50D4-2576-4EFB-8002-B9CB19887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BDAF-B286-436E-B800-495698198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55DC8-1585-4FC1-88F8-E72A0B5041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31C28-BBCE-4866-9A57-0CBEB01398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BCE7F-0E52-4A32-83C5-256C070DC0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C0C73-C000-4AD2-80A8-FB7DCDAA4C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C4DAE-E540-420E-8922-3200F55492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30B96-8820-4D38-A246-5CA5C92092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0EE2D-E96F-4445-81A3-E85AB4DB00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7A9B-DA8F-4E0C-8219-D395E5FF0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E6A22-6B4D-4FD3-93B6-F6F59A281A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D2355-4F07-4681-9BED-AA0F6B37C9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1FD46-015F-4C7A-9486-95A90F781E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C5F9D-A6A9-4143-BD2F-55047E2E0A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11267-ADF3-48A1-B479-3F235B418F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1BF6-B6D3-416D-B759-F4BD1AA1A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BEB9-85CB-4330-8089-6DB6054C3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59C5-247E-4681-9204-0CD4825B0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F340-A32C-400A-8D2E-EB626B703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9A676-FC53-4F8D-AC1F-7B2BD9FAA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6E3A2-E552-4D51-AEC2-8938B17FA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A87D-12B7-4E4B-88BD-E2A74B94A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6FFA-D9CE-43FB-85E9-60E39A55A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CBCB-93C0-4329-8179-30489D6B3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99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4 - Array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371600"/>
            <a:ext cx="8077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eclar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xamples Us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assing Arrays to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ort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se Study: Computing Mean, Median and Mode Using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earching Arrays: Linear Search and Binary Search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ultiple-Subscripted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75AA-BFD4-442D-BAC8-3337E385ED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4: fig04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ing an array with a declar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initializer list to initialize array n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lem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 n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i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n[ i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752480" y="2438280"/>
            <a:ext cx="4114800" cy="838440"/>
            <a:chOff x="1752480" y="2438280"/>
            <a:chExt cx="4114800" cy="838440"/>
          </a:xfrm>
        </p:grpSpPr>
        <p:sp>
          <p:nvSpPr>
            <p:cNvPr id="176" name=""/>
            <p:cNvSpPr/>
            <p:nvPr/>
          </p:nvSpPr>
          <p:spPr>
            <a:xfrm>
              <a:off x="3200400" y="2438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use of the initializer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752480" y="2590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E6ECC-D76D-40B2-84F0-500795CF1D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       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3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2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6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1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9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9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6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         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DE257-CF68-44EC-8E21-A7E595D3CE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specified with constant variab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int size = 2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 must be initialized when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called named constants or read-only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1B2F-3705-4D28-A2F4-F4541F5583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5: fig04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rray s to the even integers from 2 to 20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ant variable can be used to specify array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s has 10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th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i;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lemen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438280" y="2362320"/>
            <a:ext cx="4114800" cy="1295280"/>
            <a:chOff x="2438280" y="2362320"/>
            <a:chExt cx="4114800" cy="1295280"/>
          </a:xfrm>
        </p:grpSpPr>
        <p:grpSp>
          <p:nvGrpSpPr>
            <p:cNvPr id="185" name=""/>
            <p:cNvGrpSpPr/>
            <p:nvPr/>
          </p:nvGrpSpPr>
          <p:grpSpPr>
            <a:xfrm>
              <a:off x="2438280" y="2362320"/>
              <a:ext cx="4114800" cy="838080"/>
              <a:chOff x="2438280" y="2362320"/>
              <a:chExt cx="4114800" cy="838080"/>
            </a:xfrm>
          </p:grpSpPr>
          <p:sp>
            <p:nvSpPr>
              <p:cNvPr id="186" name=""/>
              <p:cNvSpPr/>
              <p:nvPr/>
            </p:nvSpPr>
            <p:spPr>
              <a:xfrm>
                <a:off x="3886200" y="2362320"/>
                <a:ext cx="2666880" cy="8240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ote use of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ons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keyword. Only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ons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variables can specify array size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2438280" y="2743200"/>
                <a:ext cx="14479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 flipH="1">
              <a:off x="2438280" y="274320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971800" y="3276720"/>
            <a:ext cx="4114800" cy="2040840"/>
            <a:chOff x="2971800" y="3276720"/>
            <a:chExt cx="4114800" cy="2040840"/>
          </a:xfrm>
        </p:grpSpPr>
        <p:sp>
          <p:nvSpPr>
            <p:cNvPr id="190" name=""/>
            <p:cNvSpPr/>
            <p:nvPr/>
          </p:nvSpPr>
          <p:spPr>
            <a:xfrm>
              <a:off x="4419720" y="3276720"/>
              <a:ext cx="266688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program becomes more scalable when we set the array size us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. We can chang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rray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all the loops will still work (otherwise, we’d have to update every loop in the program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971800" y="3429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F5806-BB2D-4663-BF1C-53A74C29C4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82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 s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j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[ j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752480"/>
            <a:ext cx="7010280" cy="26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       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        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DCBF0-E967-437C-97DB-B3A5748E77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038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6: fig04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properly initialized constant variab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d constant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 of constant variable x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962520"/>
            <a:ext cx="70102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constant variable x is: 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828800" y="1371600"/>
            <a:ext cx="4114800" cy="838080"/>
            <a:chOff x="1828800" y="1371600"/>
            <a:chExt cx="4114800" cy="838080"/>
          </a:xfrm>
        </p:grpSpPr>
        <p:sp>
          <p:nvSpPr>
            <p:cNvPr id="199" name=""/>
            <p:cNvSpPr/>
            <p:nvPr/>
          </p:nvSpPr>
          <p:spPr>
            <a:xfrm>
              <a:off x="3276720" y="1371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per initializa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828800" y="1523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0B680-BE9C-462F-9259-4B20FED94B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7: fig04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const object must be initializ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const int x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rror: x must be initializ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x = 7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rror: cannot modify a const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895480"/>
            <a:ext cx="7010280" cy="1067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07.cpp(6) : error C2734: 'x' 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nst object must be initialized if not ex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07.cpp(8) : error C2166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-value specifies const 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295280" y="457200"/>
            <a:ext cx="4572000" cy="1371600"/>
            <a:chOff x="1295280" y="457200"/>
            <a:chExt cx="4572000" cy="1371600"/>
          </a:xfrm>
        </p:grpSpPr>
        <p:grpSp>
          <p:nvGrpSpPr>
            <p:cNvPr id="205" name=""/>
            <p:cNvGrpSpPr/>
            <p:nvPr/>
          </p:nvGrpSpPr>
          <p:grpSpPr>
            <a:xfrm>
              <a:off x="1752480" y="457200"/>
              <a:ext cx="4114800" cy="1067400"/>
              <a:chOff x="1752480" y="457200"/>
              <a:chExt cx="4114800" cy="1067400"/>
            </a:xfrm>
          </p:grpSpPr>
          <p:sp>
            <p:nvSpPr>
              <p:cNvPr id="206" name=""/>
              <p:cNvSpPr/>
              <p:nvPr/>
            </p:nvSpPr>
            <p:spPr>
              <a:xfrm>
                <a:off x="3200400" y="457200"/>
                <a:ext cx="2666880" cy="1067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Uninitializ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ons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results in a syntax error. Attempting to modify the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ons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is another erro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1752480" y="609480"/>
                <a:ext cx="14479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flipH="1">
              <a:off x="1295280" y="609480"/>
              <a:ext cx="19051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C2684-39A1-4DD1-B975-26ADA343DD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8: fig04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ute the sum of the elements of the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m contents of array a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tal += a[ i ]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tal of array element values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ota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562720"/>
            <a:ext cx="70102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of array element values is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A9C77-9C37-49C2-814F-3646EADD48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9: fig04_0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istogram printing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lemen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istogr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or each element of array n, output a bar in hist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i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n[ i ]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n[ i ]; j++ )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one 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*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200400" y="4572000"/>
            <a:ext cx="4114800" cy="838080"/>
            <a:chOff x="3200400" y="4572000"/>
            <a:chExt cx="4114800" cy="838080"/>
          </a:xfrm>
        </p:grpSpPr>
        <p:sp>
          <p:nvSpPr>
            <p:cNvPr id="215" name=""/>
            <p:cNvSpPr/>
            <p:nvPr/>
          </p:nvSpPr>
          <p:spPr>
            <a:xfrm>
              <a:off x="4648320" y="4572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s asterisks corresponding to size of array element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[i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3200400" y="4724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DB594-AF53-4E78-A449-1F6EF64044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end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tart next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for struc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981080"/>
            <a:ext cx="7010280" cy="26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        Value       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19        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 3       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15        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 7        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11        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 9        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13        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 5        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17        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           1       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D5749-284E-4504-AA4A-E8C3B78663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s of related data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c entity (same size throughout progra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w typ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-based arrays (C-lik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as objects (C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A843-9192-4541-AE0D-59EC0C2B32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0: fig04_1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 a six-sided die 6000 tim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rand( 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ed random-number gen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oll die 6000 ti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l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ll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ll++ )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frequenc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s 20-line 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                   // of Fig. 3.8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200400" y="3060720"/>
            <a:ext cx="4114800" cy="3014280"/>
            <a:chOff x="3200400" y="3060720"/>
            <a:chExt cx="4114800" cy="3014280"/>
          </a:xfrm>
        </p:grpSpPr>
        <p:sp>
          <p:nvSpPr>
            <p:cNvPr id="223" name=""/>
            <p:cNvSpPr/>
            <p:nvPr/>
          </p:nvSpPr>
          <p:spPr>
            <a:xfrm>
              <a:off x="4648320" y="3060720"/>
              <a:ext cx="2666880" cy="3014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make of old program to roll dice. An array is used instead of 6 regular variables, and the proper element can be updated easily (without need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creates a number between 1 and 6, which determines the index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equency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hat should be incremen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200400" y="3774960"/>
              <a:ext cx="144792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61B2D-0964-438A-9854-0E8A004E6B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c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equenc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frequency elements 1-6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fac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face++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[ face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590920"/>
            <a:ext cx="701028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   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1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1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1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1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9C968-71E7-4996-B2B5-612BF47259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ig. 4.11: fig04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tudent poll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define array siz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response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ize of array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frequenc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ize of array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place survey responses in array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spons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response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initialize frequency counters to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requenc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frequenc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DC8D6-D3BE-4290-B05C-E8F77BBFB2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or each answer, select value of an element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ses and use that value as subscript in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requency to determine element to 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sw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answe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esponse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answer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frequency[ responses[answer]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Rat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equency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frequencies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ating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requenc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ating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a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[ rating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742840" y="1295280"/>
            <a:ext cx="3734280" cy="1067400"/>
            <a:chOff x="2742840" y="1295280"/>
            <a:chExt cx="3734280" cy="1067400"/>
          </a:xfrm>
        </p:grpSpPr>
        <p:sp>
          <p:nvSpPr>
            <p:cNvPr id="233" name=""/>
            <p:cNvSpPr/>
            <p:nvPr/>
          </p:nvSpPr>
          <p:spPr>
            <a:xfrm>
              <a:off x="3809880" y="129528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ponses[answer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rating (from 1 to 10). This determines the index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equency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incr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2742840" y="1295280"/>
              <a:ext cx="10666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1BFB8-59DC-46D1-9ED7-06A3540108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ng       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 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 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 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 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    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    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    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              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              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0C8A1-0D80-4CFC-913E-7FC5E1B983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 (more in ch.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of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strings en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\0'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1[] = "hello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haracter implicitly ad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as 6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1[] = { 'h', 'e', 'l', 'l',    'o', '\0’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scripting is the s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1[ 0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h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1[ 2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l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1BF9C-1436-4BAF-9E15-41580E7928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from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2[ 10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string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ts user input in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s at first whitespace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oo much text entered, data written beyond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ant to avoid this (section 5.12 explains h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&lt;&lt; string2 &lt;&lt; end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work for other array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s printed until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B6415-1513-4BC2-9650-44303641EF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_12: fig04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eating character arrays as string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erves 20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2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 liter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erves 15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string from user into array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he string \"hello there\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tring1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ads "hello" [space terminates input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str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1 with spaces between characters i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590560" y="1600200"/>
            <a:ext cx="4115160" cy="1067400"/>
            <a:chOff x="2590560" y="1600200"/>
            <a:chExt cx="4115160" cy="1067400"/>
          </a:xfrm>
        </p:grpSpPr>
        <p:sp>
          <p:nvSpPr>
            <p:cNvPr id="244" name=""/>
            <p:cNvSpPr/>
            <p:nvPr/>
          </p:nvSpPr>
          <p:spPr>
            <a:xfrm>
              <a:off x="4038480" y="16002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wo different ways to declare string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initialized, and its size determined automatically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590560" y="2057400"/>
              <a:ext cx="1447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133360" y="2666880"/>
            <a:ext cx="4115160" cy="1447920"/>
            <a:chOff x="2133360" y="2666880"/>
            <a:chExt cx="4115160" cy="1447920"/>
          </a:xfrm>
        </p:grpSpPr>
        <p:sp>
          <p:nvSpPr>
            <p:cNvPr id="247" name=""/>
            <p:cNvSpPr/>
            <p:nvPr/>
          </p:nvSpPr>
          <p:spPr>
            <a:xfrm>
              <a:off x="3581280" y="26668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amples of reading strings from the keyboard and printing them o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133360" y="3124080"/>
              <a:ext cx="1447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590560" y="3124080"/>
              <a:ext cx="9903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E2E30-713C-4CFB-A8C8-562C2A3E6E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haracters until null character is reach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string1[ i ]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tring1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tring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s "ther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1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362320"/>
            <a:ext cx="701028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string "hello there": hello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is: 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 is: string li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with spaces between characters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 e l l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is: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047760" y="825480"/>
            <a:ext cx="4115160" cy="1067400"/>
            <a:chOff x="3047760" y="825480"/>
            <a:chExt cx="4115160" cy="1067400"/>
          </a:xfrm>
        </p:grpSpPr>
        <p:sp>
          <p:nvSpPr>
            <p:cNvPr id="254" name=""/>
            <p:cNvSpPr/>
            <p:nvPr/>
          </p:nvSpPr>
          <p:spPr>
            <a:xfrm>
              <a:off x="4495680" y="82548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access the characters in a string using array notation. The loop ends whe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racter is fou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3047760" y="825480"/>
              <a:ext cx="144756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54900-CDFD-4307-8D92-31B7A25AFD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static storage (chapter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local variables save values between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sible only in function bo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declare local arrays to be st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d to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int array[3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d (and destroyed) in every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E2698-BB80-4B0E-A174-6FFB51E897B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ecutive group of memory loc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 and typ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fer to an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array name and position number (inde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: arrayname[ position number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element at position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-element array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0 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1 ]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n - 1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th element as position N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2713-E46C-4FC5-BFC1-0254F88F2D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3: fig04_1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arrays are initialized to zero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icArrayIni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omaticArrayIni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 call to each 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ticArrayIn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utomaticArrayIn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Second call to each 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ticArrayIn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utomaticArrayIn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0DE95-0E1C-4689-A7AC-DCBD33DA86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demonstrate a static local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icArrayIni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s elements to 0 first time function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alues on entering staticArrayIni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rray1[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rray1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alues on exiting staticArrayIni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dify and output contents of array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1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j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( array1[ j ]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staticArrayIn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133360" y="228600"/>
            <a:ext cx="4115160" cy="838080"/>
            <a:chOff x="2133360" y="228600"/>
            <a:chExt cx="4115160" cy="838080"/>
          </a:xfrm>
        </p:grpSpPr>
        <p:sp>
          <p:nvSpPr>
            <p:cNvPr id="263" name=""/>
            <p:cNvSpPr/>
            <p:nvPr/>
          </p:nvSpPr>
          <p:spPr>
            <a:xfrm>
              <a:off x="3581280" y="2286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ic array, initialized to zero on first function cal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133360" y="380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361960" y="2590920"/>
            <a:ext cx="4115160" cy="838080"/>
            <a:chOff x="2361960" y="2590920"/>
            <a:chExt cx="4115160" cy="838080"/>
          </a:xfrm>
        </p:grpSpPr>
        <p:sp>
          <p:nvSpPr>
            <p:cNvPr id="266" name=""/>
            <p:cNvSpPr/>
            <p:nvPr/>
          </p:nvSpPr>
          <p:spPr>
            <a:xfrm>
              <a:off x="3809880" y="25909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ray data is changed; the modified values st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361960" y="2743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5856B-DE06-4A67-9E74-F3EA5CB6AB5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demonstrate an automatic local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omaticArrayIni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s elements each time function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Values on entering automaticArrayIni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rray2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rray2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alues on exiting automaticArrayIni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dify and output contents of array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2[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j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( array2[ j ]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automaticArrayIn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581280" y="304920"/>
            <a:ext cx="4114800" cy="838080"/>
            <a:chOff x="3581280" y="304920"/>
            <a:chExt cx="4114800" cy="838080"/>
          </a:xfrm>
        </p:grpSpPr>
        <p:sp>
          <p:nvSpPr>
            <p:cNvPr id="271" name=""/>
            <p:cNvSpPr/>
            <p:nvPr/>
          </p:nvSpPr>
          <p:spPr>
            <a:xfrm>
              <a:off x="5029200" y="304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utomatic array, recreated with every function cal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581280" y="60948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895480" y="2590920"/>
            <a:ext cx="4114800" cy="1067400"/>
            <a:chOff x="2895480" y="2590920"/>
            <a:chExt cx="4114800" cy="1067400"/>
          </a:xfrm>
        </p:grpSpPr>
        <p:sp>
          <p:nvSpPr>
            <p:cNvPr id="274" name=""/>
            <p:cNvSpPr/>
            <p:nvPr/>
          </p:nvSpPr>
          <p:spPr>
            <a:xfrm>
              <a:off x="4343400" y="2590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though the array is changed, it will be destroyed when the function exits and the changes will be lo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2895480" y="297180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C3682-B34C-4997-B2F9-0CFB4F1B6F4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 call to each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ntering st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0] = 0  array1[1] = 0  array1[2] =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xiting st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0] = 5  array1[1] = 5  array1[2] =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ntering autom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2[0] = 1  array2[1] = 2  array2[2] =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xiting autom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2[0] = 6  array2[1] = 7  array2[2]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cond call to each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ntering st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0] = 5  array1[1] = 5  array1[2] =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xiting st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0] = 10  array1[1] = 10  array1[2]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ntering autom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2[0] = 1  array2[1] = 2  array2[2] =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xiting autom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2[0] = 6  array2[1] = 7  array2[2]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FACA6-F693-41B6-A00D-A1B059E9D16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name without brack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pass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Arr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Array[ 24 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unction( myArray, 24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size usually passed, but not requir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ful to iterate over all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6033-7541-4941-AD05-CFDCFB27BE4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passed-by-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can modify original array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 of name of array is address of first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knows where the array is 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hange original memory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array elements passed-by-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regular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quare( myArray[3]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E76A-393E-49E3-BC46-BB832FC8A25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taking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modifyArray( int b[], int arraySiz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modifyArray( int [], int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 optional in prot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take an integer array and a single 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need for array size between brac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nored by 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declare array parameter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 modified (compiler err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doNotModify( const int []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423D-778F-41CB-9926-1C10C0B875F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4: fig04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ssing arrays and individual array elements to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ears st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Elem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ffects of passing entire array by referenc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alues of the original array are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original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286000" y="1752480"/>
            <a:ext cx="4114800" cy="838440"/>
            <a:chOff x="2286000" y="1752480"/>
            <a:chExt cx="4114800" cy="838440"/>
          </a:xfrm>
        </p:grpSpPr>
        <p:sp>
          <p:nvSpPr>
            <p:cNvPr id="287" name=""/>
            <p:cNvSpPr/>
            <p:nvPr/>
          </p:nvSpPr>
          <p:spPr>
            <a:xfrm>
              <a:off x="3733920" y="17524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yntax for accepting an array in parameter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28600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D3558-1DBE-4879-B7C4-077EB2A21B7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 array a to modifyArray by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odifyArray( a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s of the modified array are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modified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value of a[ 3 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ffects of passing array element by value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alue of a[3]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 array element a[ 3 ] by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odifyElement(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value of a[ 3 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 of a[3]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133360" y="228600"/>
            <a:ext cx="4115160" cy="838080"/>
            <a:chOff x="2133360" y="228600"/>
            <a:chExt cx="4115160" cy="838080"/>
          </a:xfrm>
        </p:grpSpPr>
        <p:sp>
          <p:nvSpPr>
            <p:cNvPr id="292" name=""/>
            <p:cNvSpPr/>
            <p:nvPr/>
          </p:nvSpPr>
          <p:spPr>
            <a:xfrm>
              <a:off x="3581280" y="2286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array nam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and size to function. Arrays are passed-by-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133360" y="380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438280" y="3276720"/>
            <a:ext cx="4114800" cy="838080"/>
            <a:chOff x="2438280" y="3276720"/>
            <a:chExt cx="4114800" cy="838080"/>
          </a:xfrm>
        </p:grpSpPr>
        <p:sp>
          <p:nvSpPr>
            <p:cNvPr id="295" name=""/>
            <p:cNvSpPr/>
            <p:nvPr/>
          </p:nvSpPr>
          <p:spPr>
            <a:xfrm>
              <a:off x="3886200" y="3276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a single array element by value; the original cannot be modifi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438280" y="365760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73263-8BB0-41D2-A2CE-5708AA70468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function modifyArray, "b" points to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original array "a" in memory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OfArra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ultiply each array element by 2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or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 sizeOfArray; k++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[ k ] *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odifyArray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function modifyElement, "e" is a local copy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element a[ 3 ] passed from main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Elem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 )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ultiply parameter by 2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 in modifyElement is "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e *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endl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odifyElement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819520" y="152280"/>
            <a:ext cx="4495680" cy="824040"/>
            <a:chOff x="2819520" y="152280"/>
            <a:chExt cx="4495680" cy="824040"/>
          </a:xfrm>
        </p:grpSpPr>
        <p:sp>
          <p:nvSpPr>
            <p:cNvPr id="300" name=""/>
            <p:cNvSpPr/>
            <p:nvPr/>
          </p:nvSpPr>
          <p:spPr>
            <a:xfrm>
              <a:off x="4648320" y="152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though nam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the array points to the original arr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t can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819520" y="30492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743200" y="2209680"/>
            <a:ext cx="4114800" cy="838440"/>
            <a:chOff x="2743200" y="2209680"/>
            <a:chExt cx="4114800" cy="838440"/>
          </a:xfrm>
        </p:grpSpPr>
        <p:sp>
          <p:nvSpPr>
            <p:cNvPr id="303" name=""/>
            <p:cNvSpPr/>
            <p:nvPr/>
          </p:nvSpPr>
          <p:spPr>
            <a:xfrm>
              <a:off x="4191120" y="22096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dividual array elements are passed by value, and the originals cannot be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74320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10674-1B10-4AAC-8769-86AEBC2D41C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elements like other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ment, printing for an integer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0 ] =  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c[ 0 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perform operations inside sub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5 – 2 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4235-C2F2-4BB0-A1F7-8B8CA17302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ffects of passing entire array by referenc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s of the original array ar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1  2  3 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s of the modified array ar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2  4  6 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ffects of passing array element by valu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a[3] is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in modifyElement is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a[3] is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EB672-FD86-46A6-88FA-3DA156B21E3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5: fig04_1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const type qualifi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yToModify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yToModifyArray( a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895480" y="838080"/>
            <a:ext cx="4114800" cy="1067400"/>
            <a:chOff x="2895480" y="838080"/>
            <a:chExt cx="4114800" cy="1067400"/>
          </a:xfrm>
        </p:grpSpPr>
        <p:sp>
          <p:nvSpPr>
            <p:cNvPr id="310" name=""/>
            <p:cNvSpPr/>
            <p:nvPr/>
          </p:nvSpPr>
          <p:spPr>
            <a:xfrm>
              <a:off x="4343400" y="8380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ray parameter declared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Array cannot be modified, even though it is passed by 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95480" y="990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1FC24-9408-4603-BE71-6BE39A11120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function tryToModifyArray, "b" cannot be u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modify the original array "a" in main.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yToModify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] )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/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rror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/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rror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/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rror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tryToModifyArray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209680"/>
            <a:ext cx="7010280" cy="1524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15.cpp(26) : error C2166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-value specifies cons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15.cpp(27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-value specifies cons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15.cpp(28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-value specifies cons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90908-84E7-4B92-A9E1-7B3CB40A604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ortant computing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rtually every organization must sort some d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ive amounts must be s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bble sort (sinking sor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ral passes through the arra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ccessive pairs of elements are compa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creasing order (or identical), no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ecreasing order, elements ex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at these steps for every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F739-69E9-44AE-AEE2-26496E2BE0E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 left to right, and exchange elements as necess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ass for each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iginal:   3  4  2  7 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1:      3 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2  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6  7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elements exchang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2:     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2  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4  6  7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3:      2  3  4  6  7   (no changes need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4:      2  3  4  6  7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5:      2  3  4  6  7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all elements "bubble" to the top (like 2 in this examp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80BD-91AC-4420-94D9-0F2029D2A2D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ping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3, y = 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 =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th x and y are 3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ed a temporary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3, y = 4, temp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mp = x;  // temp gets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y;     // x gets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 = temp;  // y gets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E1B85-C896-47F7-B691-A21BE044A3A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6: fig04_1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program sorts an array's values into ascending ord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ld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orary location used to swap array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a items in original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original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A7E80-A22E-4C82-AE45-2CE0DDC45C8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ubble sort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to control number of passes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as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ass++ )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p to control number of comparisons per pass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mpare side-by-side elements and swap them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rst element is greater than second element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[ j ] &gt;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{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old = a[ j ]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[ j ] =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hold;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038480" y="76320"/>
            <a:ext cx="4114800" cy="590400"/>
            <a:chOff x="4038480" y="76320"/>
            <a:chExt cx="4114800" cy="590400"/>
          </a:xfrm>
        </p:grpSpPr>
        <p:sp>
          <p:nvSpPr>
            <p:cNvPr id="326" name=""/>
            <p:cNvSpPr/>
            <p:nvPr/>
          </p:nvSpPr>
          <p:spPr>
            <a:xfrm>
              <a:off x="5486400" y="763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 a pass for each element in the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038480" y="228600"/>
              <a:ext cx="144792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733560" y="1676520"/>
            <a:ext cx="4115160" cy="1554120"/>
            <a:chOff x="3733560" y="1676520"/>
            <a:chExt cx="4115160" cy="1554120"/>
          </a:xfrm>
        </p:grpSpPr>
        <p:sp>
          <p:nvSpPr>
            <p:cNvPr id="329" name=""/>
            <p:cNvSpPr/>
            <p:nvPr/>
          </p:nvSpPr>
          <p:spPr>
            <a:xfrm>
              <a:off x="5181480" y="1676520"/>
              <a:ext cx="266724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the element on the left (index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is larger than the element on the right (index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 + 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, then we swap them. Remember the need of a temp varia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733560" y="1981080"/>
              <a:ext cx="1447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6743F-29F7-4780-8C09-40F52220B55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ata items in ascending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sorted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k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259092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4   6   8  10  12  37  45  68  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FBFAF-8A77-4259-A878-10FC2CD5FF3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Computing Mean, Median and Mode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erage (sum/number of eleme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in middle of sorted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 2, 3, 4, 5  (3 is medi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even number of elements, take average of middle tw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that occurs most of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 1, 1, 2, 3, 3, 4, 5 (1 is mod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83E57-B053-496C-8862-085795B5559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429000" y="1066680"/>
            <a:ext cx="2437920" cy="5029200"/>
            <a:chOff x="3429000" y="1066680"/>
            <a:chExt cx="2437920" cy="5029200"/>
          </a:xfrm>
        </p:grpSpPr>
        <p:grpSp>
          <p:nvGrpSpPr>
            <p:cNvPr id="98" name=""/>
            <p:cNvGrpSpPr/>
            <p:nvPr/>
          </p:nvGrpSpPr>
          <p:grpSpPr>
            <a:xfrm>
              <a:off x="4216320" y="2098440"/>
              <a:ext cx="1288440" cy="3302280"/>
              <a:chOff x="4216320" y="2098440"/>
              <a:chExt cx="1288440" cy="3302280"/>
            </a:xfrm>
          </p:grpSpPr>
          <p:sp>
            <p:nvSpPr>
              <p:cNvPr id="99" name=""/>
              <p:cNvSpPr/>
              <p:nvPr/>
            </p:nvSpPr>
            <p:spPr>
              <a:xfrm>
                <a:off x="4216320" y="3749400"/>
                <a:ext cx="128844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0"/>
                    </a:moveTo>
                    <a:lnTo>
                      <a:pt x="19986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6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4216320" y="2098440"/>
                <a:ext cx="1288440" cy="3302280"/>
                <a:chOff x="4216320" y="2098440"/>
                <a:chExt cx="1288440" cy="3302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216320" y="20984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216320" y="23734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216320" y="26485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216320" y="29239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216320" y="31989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216320" y="34743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216320" y="402480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216320" y="42998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216320" y="45752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216320" y="48502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216320" y="51256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>
              <a:off x="3536640" y="37893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6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47960" y="2138400"/>
              <a:ext cx="356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-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62160" y="2412720"/>
              <a:ext cx="1425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62160" y="2689200"/>
              <a:ext cx="1425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55960" y="296388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39960" y="32385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154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47960" y="3514680"/>
              <a:ext cx="356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-8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62160" y="3789360"/>
              <a:ext cx="142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5960" y="406404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55960" y="434016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62160" y="4614840"/>
              <a:ext cx="142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39960" y="488952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64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55960" y="516564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7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65360" y="1066680"/>
              <a:ext cx="21459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ame of array (Note that all elements of this array have the same name,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52560" y="1765080"/>
              <a:ext cx="360" cy="366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36640" y="213840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36640" y="2412720"/>
              <a:ext cx="4647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36640" y="2689200"/>
              <a:ext cx="46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2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36640" y="296388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3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29000" y="5165640"/>
              <a:ext cx="572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1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29000" y="4889520"/>
              <a:ext cx="572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1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36640" y="461484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9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36640" y="43401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8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36640" y="406404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7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36640" y="3514680"/>
              <a:ext cx="46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5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36640" y="32385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4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65360" y="5767200"/>
              <a:ext cx="24015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Position number of the element within array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0160" y="5343480"/>
              <a:ext cx="360" cy="366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216320" y="2098440"/>
              <a:ext cx="1288440" cy="3302280"/>
              <a:chOff x="4216320" y="2098440"/>
              <a:chExt cx="1288440" cy="3302280"/>
            </a:xfrm>
          </p:grpSpPr>
          <p:sp>
            <p:nvSpPr>
              <p:cNvPr id="141" name=""/>
              <p:cNvSpPr/>
              <p:nvPr/>
            </p:nvSpPr>
            <p:spPr>
              <a:xfrm>
                <a:off x="4216320" y="3749400"/>
                <a:ext cx="128844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0"/>
                    </a:moveTo>
                    <a:lnTo>
                      <a:pt x="19986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4216320" y="2098440"/>
                <a:ext cx="1288440" cy="3302280"/>
                <a:chOff x="4216320" y="2098440"/>
                <a:chExt cx="1288440" cy="33022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216320" y="20984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216320" y="23734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216320" y="26485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216320" y="29239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216320" y="31989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16320" y="34743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216320" y="402480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216320" y="42998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216320" y="45752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216320" y="48502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16320" y="51256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4" name=""/>
          <p:cNvGrpSpPr/>
          <p:nvPr/>
        </p:nvGrpSpPr>
        <p:grpSpPr>
          <a:xfrm>
            <a:off x="0" y="57240"/>
            <a:ext cx="5486400" cy="5922360"/>
            <a:chOff x="0" y="57240"/>
            <a:chExt cx="5486400" cy="5922360"/>
          </a:xfrm>
        </p:grpSpPr>
        <p:sp>
          <p:nvSpPr>
            <p:cNvPr id="155" name=""/>
            <p:cNvSpPr/>
            <p:nvPr/>
          </p:nvSpPr>
          <p:spPr>
            <a:xfrm>
              <a:off x="0" y="950760"/>
              <a:ext cx="5486400" cy="50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57240"/>
              <a:ext cx="548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0" y="5979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53D9-3770-47BF-9F11-3A1D1E49F1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7: fig04_1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program introduces the topic of survey data analysi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t computes the mean, median, and mode of the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a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dia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bbleSor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ponse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ize of array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574F4-4CA3-4F0C-A90D-DF70046EA8C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rray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array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ponse[ responseSize ] =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ean( response, response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edian( response, response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ode( frequency, response, response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F94E2-1242-4F98-A92C-92E7A3260AE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verage of all respons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a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swer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********\n  Mean\n********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otal respons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rray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tal += answer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ormat and output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ean is the average value of the data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tems. The mean is equal to the total of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l the data items divided by the numb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f data items (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rraySiz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). The mean value for\nthis run is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tota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/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rraySiz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total ) / arraySiz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581280" y="3733920"/>
            <a:ext cx="4114800" cy="838080"/>
            <a:chOff x="3581280" y="3733920"/>
            <a:chExt cx="4114800" cy="838080"/>
          </a:xfrm>
        </p:grpSpPr>
        <p:sp>
          <p:nvSpPr>
            <p:cNvPr id="343" name=""/>
            <p:cNvSpPr/>
            <p:nvPr/>
          </p:nvSpPr>
          <p:spPr>
            <a:xfrm>
              <a:off x="5029200" y="3733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e cast to a double to get decimal points for the average (instead of an integer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581280" y="3886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AC6B9-27B7-4D63-8FF6-D7586613A27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array and determine median element's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dia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swer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********\n Median\n********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unsorted array of responses 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nswer, size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unsorted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ubbleSort( answer, size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sorted array 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nswer, size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orted arra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median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median is el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ize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\nthe sort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iz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element array.\nFor this run the median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answer[ size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edi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133360" y="1066680"/>
            <a:ext cx="4115160" cy="838440"/>
            <a:chOff x="2133360" y="1066680"/>
            <a:chExt cx="4115160" cy="838440"/>
          </a:xfrm>
        </p:grpSpPr>
        <p:sp>
          <p:nvSpPr>
            <p:cNvPr id="348" name=""/>
            <p:cNvSpPr/>
            <p:nvPr/>
          </p:nvSpPr>
          <p:spPr>
            <a:xfrm>
              <a:off x="3581280" y="10666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rt array by passing it to a function. This keeps the program modula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133360" y="1219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B7897-BFCD-432E-BF0F-672E416377E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952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most frequent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swer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rges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resents largest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e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resents most frequent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********\n  Mode\n********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frequencies to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eq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mmarize frequenc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size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freq[ answer[ j ]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headers for result colum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spons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equency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istogram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    1    2    2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    0    5    0    5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46041-1347-417E-8462-71193BFF2B1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ating &lt;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ating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ating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freq[ rating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    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keep track of mode value and largest fequency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req[ rating ] &gt; largest ) {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argest = freq[ rating ]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deValue = rating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utput histogram bar representing frequency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= freq[ rating ]; k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*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the mod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e mode is the most frequent value.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For this run the mod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mode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hich occurred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larges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times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438280" y="685800"/>
            <a:ext cx="4114800" cy="838080"/>
            <a:chOff x="2438280" y="685800"/>
            <a:chExt cx="4114800" cy="838080"/>
          </a:xfrm>
        </p:grpSpPr>
        <p:sp>
          <p:nvSpPr>
            <p:cNvPr id="355" name=""/>
            <p:cNvSpPr/>
            <p:nvPr/>
          </p:nvSpPr>
          <p:spPr>
            <a:xfrm>
              <a:off x="3886200" y="6858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mode is the value that occurs most often (has the highest valu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eq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438280" y="838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F3519-5383-486C-90CC-D5DA79BEC0F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7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hat sorts an array with bubble sort algorith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bbleSor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ld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orary location used to swap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to control number of p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ass &lt; size; pass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p to control number of comparisons per p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size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wap elements if out of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[ j ] &gt;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old = a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[ j ] =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ho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bubbleSo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3C9B3-D581-47E0-95A5-0D883648611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8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contents (20 values per row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new line every 20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63808-1B28-498B-A139-9A515AAFF90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ean is the average value of th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s. The mean is equal to the total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the data items divided by the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f data items (99). The mean value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run is: 681 / 99 = 6.878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di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unsorted array of responses 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7 8 9 8 7 8 9 8 9 7 8 9 5 9 8 7 8 7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7 8 9 3 9 8 7 8 7 7 8 9 8 9 8 9 7 8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7 8 7 8 7 9 8 9 2 7 8 9 8 9 8 9 7 5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6 7 2 5 3 9 4 6 4 7 8 9 6 8 7 8 9 7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4 4 2 5 3 8 7 5 6 4 5 6 1 6 5 7 8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orted array 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2 2 3 3 3 3 4 4 4 4 4 5 5 5 5 5 5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6 6 6 6 6 6 6 6 6 7 7 7 7 7 7 7 7 7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7 7 7 7 7 7 7 7 7 7 7 7 8 8 8 8 8 8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8 8 8 8 8 8 8 8 8 8 8 8 8 8 8 8 8 8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9 9 9 9 9 9 9 9 9 9 9 9 9 9 9 9 9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edian is element 49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orted 99 element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this run the median is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661FE-8EA9-407F-B561-F270B51BD16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  Frequency        Hist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1    2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0    5    0   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1         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3          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4          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5          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8          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9          *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23          ***************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27          *******************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        19          ***********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ode is the most frequent valu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this run the mode is 8 which occurred 27 tim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2F1A2-D281-438C-9B33-30A5DA13F55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claring 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eclaring arrays, spec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of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data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ype array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rraySiz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[ 10 ];  // array of 10 inte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d[ 3284 ]; // array of 3284 flo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ing multiple arrays of sam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comma separated list, like regular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b[ 100 ], x[ 27 ]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6CEE-F93C-44F2-9C63-825367C7FE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arching Arrays: Linear Search and Binary Search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rray for a ke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 each element of array with key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at one end, go to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for small and unsorted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earch key not present, examines every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DB8B-F7F5-42D3-8FB4-1558C28746D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arching Arrays: Linear Search and Binary Search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used with sorted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 middle element with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qual, match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key &lt; mid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 search on first half of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key &gt; mid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 search on last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y fa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most N steps, where 2     &gt; # of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element array takes at most 5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    &gt; 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95600" y="4692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11480" y="5378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ED30-4513-42BD-95B9-BE51687CE9B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9: fig04_1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near search of an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arSearc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reate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rchKey;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value to locate in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om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nter integer search key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earchKe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ttempt to locate searchKey in array a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= linearSearch( a, searchKey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286000" y="1066680"/>
            <a:ext cx="4114800" cy="838440"/>
            <a:chOff x="2286000" y="1066680"/>
            <a:chExt cx="4114800" cy="838440"/>
          </a:xfrm>
        </p:grpSpPr>
        <p:sp>
          <p:nvSpPr>
            <p:cNvPr id="374" name=""/>
            <p:cNvSpPr/>
            <p:nvPr/>
          </p:nvSpPr>
          <p:spPr>
            <a:xfrm>
              <a:off x="373392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kes array, search key, and array siz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228600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D394B-B70D-44C3-9F3E-18DE2A65CB5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lement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und value in el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lemen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e key to every element of array until location is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und or until end of array is reached; return subscript 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lement if key or -1 if key not found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arSearc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OfArra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sizeOfArray; j++ )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ray[ j ] == key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found,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;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location of key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key not found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linearSearch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E8666-D431-4341-A205-32AB5373850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integer search key: 3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value in element 1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integer search key: 3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not fou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4D66C-01B6-4D59-A111-BA8C27804E5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20: fig04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inary search of an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Searc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Hea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Row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reate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value to locate in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om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i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2DAE4-EB44-4C68-8FFD-F5B856788D0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number between 0 and 28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ke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Hea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arch for key in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narySearch( a, key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ke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found in array elemen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resul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ke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B6283-110D-4B8F-9C19-146BE358F86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perform binary search of an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Searc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rchKe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ig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dd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p until low subscript is greater than high subscri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hile ( low &lt;= high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middle element of subarray being search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iddle = ( low + high )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ubarray used in this loop it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Row( b, low, middle, high, 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361960" y="1523880"/>
            <a:ext cx="4115160" cy="838440"/>
            <a:chOff x="2361960" y="1523880"/>
            <a:chExt cx="4115160" cy="838440"/>
          </a:xfrm>
        </p:grpSpPr>
        <p:sp>
          <p:nvSpPr>
            <p:cNvPr id="387" name=""/>
            <p:cNvSpPr/>
            <p:nvPr/>
          </p:nvSpPr>
          <p:spPr>
            <a:xfrm>
              <a:off x="3809880" y="152388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termine middle el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361960" y="1676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C0717-4616-43F0-B882-591A36D2AD1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searchKey matches middle element, return midd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archKey == b[ middle ]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dd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searchKey less than middle ele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high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archKey &lt; b[ middle 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igh = middle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low end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searchKey greater than middle ele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low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w = middl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high end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Key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binarySear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123720" y="609480"/>
            <a:ext cx="3886560" cy="1554120"/>
            <a:chOff x="3123720" y="609480"/>
            <a:chExt cx="3886560" cy="1554120"/>
          </a:xfrm>
        </p:grpSpPr>
        <p:sp>
          <p:nvSpPr>
            <p:cNvPr id="392" name=""/>
            <p:cNvSpPr/>
            <p:nvPr/>
          </p:nvSpPr>
          <p:spPr>
            <a:xfrm>
              <a:off x="4343400" y="60948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the rule of binary search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key equals middle, ma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less, search low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greater, search high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3123720" y="60948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2362320"/>
            <a:ext cx="4114800" cy="1067400"/>
            <a:chOff x="2895480" y="2362320"/>
            <a:chExt cx="4114800" cy="1067400"/>
          </a:xfrm>
        </p:grpSpPr>
        <p:sp>
          <p:nvSpPr>
            <p:cNvPr id="395" name=""/>
            <p:cNvSpPr/>
            <p:nvPr/>
          </p:nvSpPr>
          <p:spPr>
            <a:xfrm>
              <a:off x="4343400" y="23623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op sets low, middle and high dynamically. If searching the high end, the new low is the element above the midd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2895480" y="2514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59CF8-374C-43C3-9EB4-9898020177F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header for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Hea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ubscript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olumn hea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size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j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line of -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size; k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-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ED20F-D465-4F30-B410-1D77B0B25BD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ing arra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each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each element when array decl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 5 ] = { 1, 2, 3, 4, 5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t enough initializers, rightmost elements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oo many 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set every element to same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 5 ] = { 0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rray size omitted, initializers determine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] = { 1, 2, 3, 4, 5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initializers, therefore 5 element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D311-9205-4657-B270-134CDE9C48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one row of output showing the curr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rt of the array being proces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Row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d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ig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p through entir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m &lt; size; m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paces if outside current subarray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 &lt; low || m &gt; high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middle element marked with a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 == mid )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rk middl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b[ m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*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other elements in sub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b[ m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R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85F5D-0D93-4F49-8664-2DD6CE41CA0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8: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p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1   2   3   4   5   6   7   8   9  10  11  12  13  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   8  10  12  14* 16  18  20  22  24  26 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*  8  10 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found in array element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8: 2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p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1   2   3   4   5   6   7   8   9  10  11  12  13  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   8  10  12  14* 16  18  20  22  24  26 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18  20  22* 24  26 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  26*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5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FBF81-C67A-4F73-A524-51A96ABB256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8: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p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1   2   3   4   5   6   7   8   9  10  11  12  13  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   8  10  12  14* 16  18  20  22  24  26 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*  8  10 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10*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found in array element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039E9-88D9-4069-96BD-B65E7A67EBD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subscrip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[ i ][ j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bles with rows and colum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row, then colum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of array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0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array of 4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0][0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first element of that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914400" y="4316400"/>
            <a:ext cx="6124680" cy="973080"/>
            <a:chOff x="914400" y="4316400"/>
            <a:chExt cx="6124680" cy="973080"/>
          </a:xfrm>
        </p:grpSpPr>
        <p:sp>
          <p:nvSpPr>
            <p:cNvPr id="408" name=""/>
            <p:cNvSpPr/>
            <p:nvPr/>
          </p:nvSpPr>
          <p:spPr>
            <a:xfrm>
              <a:off x="914400" y="456444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Row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14400" y="483228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Row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14400" y="510012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Row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99720" y="4316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Column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10120" y="4316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Column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20520" y="4316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Column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31280" y="4316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Column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1797120" y="4486680"/>
              <a:ext cx="1310400" cy="802800"/>
              <a:chOff x="1797120" y="4486680"/>
              <a:chExt cx="1310400" cy="80280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1797120" y="4486680"/>
                <a:ext cx="1310400" cy="267480"/>
                <a:chOff x="1797120" y="4486680"/>
                <a:chExt cx="1310400" cy="2674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797120" y="4486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850400" y="4525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0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797120" y="4754160"/>
                <a:ext cx="1310400" cy="267480"/>
                <a:chOff x="1797120" y="4754160"/>
                <a:chExt cx="1310400" cy="2674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797120" y="4754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850400" y="4792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1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1797120" y="5022000"/>
                <a:ext cx="1310400" cy="267480"/>
                <a:chOff x="1797120" y="5022000"/>
                <a:chExt cx="1310400" cy="2674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1797120" y="5022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850400" y="5060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2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5" name=""/>
            <p:cNvGrpSpPr/>
            <p:nvPr/>
          </p:nvGrpSpPr>
          <p:grpSpPr>
            <a:xfrm>
              <a:off x="3107520" y="4486680"/>
              <a:ext cx="1310400" cy="802800"/>
              <a:chOff x="3107520" y="4486680"/>
              <a:chExt cx="1310400" cy="80280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3107520" y="4486680"/>
                <a:ext cx="1310400" cy="267480"/>
                <a:chOff x="3107520" y="4486680"/>
                <a:chExt cx="1310400" cy="26748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107520" y="4486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160800" y="4525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0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107520" y="4754160"/>
                <a:ext cx="1310400" cy="267480"/>
                <a:chOff x="3107520" y="4754160"/>
                <a:chExt cx="1310400" cy="2674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107520" y="4754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160800" y="4792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1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3107520" y="5022000"/>
                <a:ext cx="1310400" cy="267480"/>
                <a:chOff x="3107520" y="5022000"/>
                <a:chExt cx="1310400" cy="2674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107520" y="5022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160800" y="5060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2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5" name=""/>
            <p:cNvGrpSpPr/>
            <p:nvPr/>
          </p:nvGrpSpPr>
          <p:grpSpPr>
            <a:xfrm>
              <a:off x="4418280" y="4486680"/>
              <a:ext cx="1310400" cy="802800"/>
              <a:chOff x="4418280" y="4486680"/>
              <a:chExt cx="1310400" cy="80280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4418280" y="4486680"/>
                <a:ext cx="1310400" cy="267480"/>
                <a:chOff x="4418280" y="4486680"/>
                <a:chExt cx="1310400" cy="2674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418280" y="4486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471560" y="452520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0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4418280" y="4754160"/>
                <a:ext cx="1310400" cy="267480"/>
                <a:chOff x="4418280" y="4754160"/>
                <a:chExt cx="1310400" cy="2674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418280" y="4754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471560" y="479268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1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4418280" y="5022000"/>
                <a:ext cx="1310400" cy="267480"/>
                <a:chOff x="4418280" y="5022000"/>
                <a:chExt cx="1310400" cy="2674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4418280" y="5022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471560" y="506052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2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5" name=""/>
            <p:cNvGrpSpPr/>
            <p:nvPr/>
          </p:nvGrpSpPr>
          <p:grpSpPr>
            <a:xfrm>
              <a:off x="5728680" y="4486680"/>
              <a:ext cx="1310400" cy="802800"/>
              <a:chOff x="5728680" y="4486680"/>
              <a:chExt cx="1310400" cy="802800"/>
            </a:xfrm>
          </p:grpSpPr>
          <p:grpSp>
            <p:nvGrpSpPr>
              <p:cNvPr id="446" name=""/>
              <p:cNvGrpSpPr/>
              <p:nvPr/>
            </p:nvGrpSpPr>
            <p:grpSpPr>
              <a:xfrm>
                <a:off x="5728680" y="4486680"/>
                <a:ext cx="1310400" cy="267480"/>
                <a:chOff x="5728680" y="4486680"/>
                <a:chExt cx="1310400" cy="26748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728680" y="4486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781960" y="4525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0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5728680" y="4754160"/>
                <a:ext cx="1310400" cy="267480"/>
                <a:chOff x="5728680" y="4754160"/>
                <a:chExt cx="1310400" cy="26748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5728680" y="4754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781960" y="4792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1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5728680" y="5022000"/>
                <a:ext cx="1310400" cy="267480"/>
                <a:chOff x="5728680" y="5022000"/>
                <a:chExt cx="1310400" cy="2674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728680" y="5022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781960" y="5060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2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55" name=""/>
          <p:cNvSpPr/>
          <p:nvPr/>
        </p:nvSpPr>
        <p:spPr>
          <a:xfrm>
            <a:off x="3152880" y="6145200"/>
            <a:ext cx="1760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w sub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390760" y="5916600"/>
            <a:ext cx="136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ay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00720" y="5564160"/>
            <a:ext cx="21524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umn sub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228840" y="5230800"/>
            <a:ext cx="76320" cy="685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84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304440" y="5246640"/>
            <a:ext cx="74520" cy="8985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77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86040" y="5230800"/>
            <a:ext cx="74880" cy="4572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62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686040" y="5612760"/>
            <a:ext cx="762120" cy="745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25" y="0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4B53-C8A2-4427-A2CB-44C4C431F7D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rs grouped by row in br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 2 ][ 2 ] = { { 1, 2 }, { 3, 4 }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 2 ][ 2 ] = { { 1 }, { 3, 4 }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7772400" y="2362320"/>
            <a:ext cx="914400" cy="631440"/>
            <a:chOff x="7772400" y="2362320"/>
            <a:chExt cx="914400" cy="631440"/>
          </a:xfrm>
        </p:grpSpPr>
        <p:sp>
          <p:nvSpPr>
            <p:cNvPr id="465" name=""/>
            <p:cNvSpPr/>
            <p:nvPr/>
          </p:nvSpPr>
          <p:spPr>
            <a:xfrm>
              <a:off x="7772400" y="2362320"/>
              <a:ext cx="914400" cy="63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3   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229600" y="23623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72400" y="26672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7772400" y="3809880"/>
            <a:ext cx="914400" cy="631440"/>
            <a:chOff x="7772400" y="3809880"/>
            <a:chExt cx="914400" cy="631440"/>
          </a:xfrm>
        </p:grpSpPr>
        <p:sp>
          <p:nvSpPr>
            <p:cNvPr id="469" name=""/>
            <p:cNvSpPr/>
            <p:nvPr/>
          </p:nvSpPr>
          <p:spPr>
            <a:xfrm>
              <a:off x="7772400" y="3809880"/>
              <a:ext cx="914400" cy="63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3   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29600" y="38098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72400" y="4114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4554360" y="281952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w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925960" y="281952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w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10F9-A4C0-479F-ADE6-B791EE36ACD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d lik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b[ 0 ][ 1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reference using com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b[ 0, 1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specify sizes of subscrip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subscript not necessary, as with single-scripted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intArray( int [][ 3 ]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5867280" y="1805040"/>
            <a:ext cx="914400" cy="631440"/>
            <a:chOff x="5867280" y="1805040"/>
            <a:chExt cx="914400" cy="631440"/>
          </a:xfrm>
        </p:grpSpPr>
        <p:sp>
          <p:nvSpPr>
            <p:cNvPr id="477" name=""/>
            <p:cNvSpPr/>
            <p:nvPr/>
          </p:nvSpPr>
          <p:spPr>
            <a:xfrm>
              <a:off x="5867280" y="1805040"/>
              <a:ext cx="914400" cy="63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3   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24480" y="1805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67280" y="21099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135C-BFB9-4002-AA52-83F719049C8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22: fig04_2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ing multidimensional array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3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}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in array1 by row are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rray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in array2 by row are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rray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in array3 by row ar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rray3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200400" y="1447920"/>
            <a:ext cx="4114800" cy="1067400"/>
            <a:chOff x="3200400" y="1447920"/>
            <a:chExt cx="4114800" cy="1067400"/>
          </a:xfrm>
        </p:grpSpPr>
        <p:sp>
          <p:nvSpPr>
            <p:cNvPr id="483" name=""/>
            <p:cNvSpPr/>
            <p:nvPr/>
          </p:nvSpPr>
          <p:spPr>
            <a:xfrm>
              <a:off x="4648320" y="1447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various initialization styles. The elements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rray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e assigned to the first row and then the seco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3200400" y="1828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742840" y="762120"/>
            <a:ext cx="4115160" cy="838080"/>
            <a:chOff x="2742840" y="762120"/>
            <a:chExt cx="4115160" cy="838080"/>
          </a:xfrm>
        </p:grpSpPr>
        <p:sp>
          <p:nvSpPr>
            <p:cNvPr id="486" name=""/>
            <p:cNvSpPr/>
            <p:nvPr/>
          </p:nvSpPr>
          <p:spPr>
            <a:xfrm>
              <a:off x="4190760" y="7621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format of the proto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742840" y="914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DD81E-4F35-4E8E-864F-F664FD516B7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output array with two rows and three columns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for each row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olumn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a[ i ][ j ]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end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line of output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for structure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Array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27672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in array1 by row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5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in array2 by row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5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in array3 by row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819160" y="216000"/>
            <a:ext cx="4115160" cy="1067400"/>
            <a:chOff x="2819160" y="216000"/>
            <a:chExt cx="4115160" cy="1067400"/>
          </a:xfrm>
        </p:grpSpPr>
        <p:sp>
          <p:nvSpPr>
            <p:cNvPr id="492" name=""/>
            <p:cNvSpPr/>
            <p:nvPr/>
          </p:nvSpPr>
          <p:spPr>
            <a:xfrm>
              <a:off x="4267080" y="2160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 loops are often used to iterate through arrays. Nested loops are helpful with multiple-subscripted array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819160" y="368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B9337-F0CC-4CB0-B0DE-5688D9644F2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program showing init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fter, program to keep track of students gra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-subscripted array (tab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ws are stud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umns are gra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790880" y="3048120"/>
            <a:ext cx="2292840" cy="1175400"/>
            <a:chOff x="4790880" y="3048120"/>
            <a:chExt cx="2292840" cy="1175400"/>
          </a:xfrm>
        </p:grpSpPr>
        <p:grpSp>
          <p:nvGrpSpPr>
            <p:cNvPr id="497" name=""/>
            <p:cNvGrpSpPr/>
            <p:nvPr/>
          </p:nvGrpSpPr>
          <p:grpSpPr>
            <a:xfrm>
              <a:off x="5891400" y="3589560"/>
              <a:ext cx="914400" cy="631440"/>
              <a:chOff x="5891400" y="3589560"/>
              <a:chExt cx="914400" cy="631440"/>
            </a:xfrm>
          </p:grpSpPr>
          <p:sp>
            <p:nvSpPr>
              <p:cNvPr id="498" name=""/>
              <p:cNvSpPr/>
              <p:nvPr/>
            </p:nvSpPr>
            <p:spPr>
              <a:xfrm>
                <a:off x="5891400" y="3589560"/>
                <a:ext cx="914400" cy="631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95  8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89  8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348600" y="35895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891400" y="38944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5589360" y="306396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iz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351480" y="304812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iz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25800" y="3537000"/>
              <a:ext cx="104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udent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90880" y="3886200"/>
              <a:ext cx="104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uden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A532-4E54-457A-93D4-283702E30A2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23: fig04_2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uble-subscripted array examp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umber of stud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umber of exam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ver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65813-767A-487C-8A48-8A47E8627B2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3: fig04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ing an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 is an array of 10 integ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elements of array n to 0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element at location i to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lem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 n in tabular format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j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n[ j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828800" y="2209680"/>
            <a:ext cx="4114800" cy="838440"/>
            <a:chOff x="1828800" y="2209680"/>
            <a:chExt cx="4114800" cy="838440"/>
          </a:xfrm>
        </p:grpSpPr>
        <p:sp>
          <p:nvSpPr>
            <p:cNvPr id="165" name=""/>
            <p:cNvSpPr/>
            <p:nvPr/>
          </p:nvSpPr>
          <p:spPr>
            <a:xfrm>
              <a:off x="3276720" y="2209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a 10-element array of integ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82880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590560" y="2895480"/>
            <a:ext cx="3733920" cy="835200"/>
            <a:chOff x="2590560" y="2895480"/>
            <a:chExt cx="3733920" cy="835200"/>
          </a:xfrm>
        </p:grpSpPr>
        <p:sp>
          <p:nvSpPr>
            <p:cNvPr id="168" name=""/>
            <p:cNvSpPr/>
            <p:nvPr/>
          </p:nvSpPr>
          <p:spPr>
            <a:xfrm>
              <a:off x="3657600" y="2895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itialize array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ing a for loop. Note that the array has elemen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[0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[9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590560" y="3276720"/>
              <a:ext cx="106668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561BA-CD08-4FE6-AEB2-D4E98FFEDC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student grades for three students (rows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dentGrad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studentGr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array i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studentGrade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smallest and largest grad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Lowest grade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inimum( studentGrade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Highest grade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studentGrade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2070B-3663-4810-879F-4EEE41CB281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verage grade for each stud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s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erson &lt; students; person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average grade for stud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pers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average( studentGrades[ person ]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minimum gra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es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pil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Grad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to highest possible gra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pupils; i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tests; j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rades[ i ][ j ] &lt; lowGrad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wGrade = grades[ i ]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Grad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in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276360" y="1447560"/>
            <a:ext cx="3810240" cy="1554480"/>
            <a:chOff x="3276360" y="1447560"/>
            <a:chExt cx="3810240" cy="1554480"/>
          </a:xfrm>
        </p:grpSpPr>
        <p:sp>
          <p:nvSpPr>
            <p:cNvPr id="512" name=""/>
            <p:cNvSpPr/>
            <p:nvPr/>
          </p:nvSpPr>
          <p:spPr>
            <a:xfrm>
              <a:off x="4419720" y="144792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termines the average for one student. We pass the array/row containing the student’s grades. Note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udentGrades[0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itself an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276360" y="144756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1545C-B144-4658-94E9-56C0E9A1A11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maximum gra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es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pil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ighGrad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to lowest possible gra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pupils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tests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rades[ i ][ j ] &gt; highGrad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ighGrade = grades[ i ]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ighGrad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DE352-8886-4154-AD2F-97C60523F27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average grade for particular student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ver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fGrades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s )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tal all grades for one student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tests; i++ )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tal += setOfGrades[ i ]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total ) / test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ver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BF39F-2332-401F-A9E3-A6B582ECBCD0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h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es[][ exams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pil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left justification and output column hea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ef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              [0]  [1]  [2]  [3]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grades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pupils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label for r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udentGrades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one grades for one stud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tests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grades[ i ]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D84B1-5F08-4669-A298-34A857DF53F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rray i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0]  [1]  [2]  [3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Grades[0] 77   68   86   7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Grades[1] 96   87   89   7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Grades[2] 70   90   86   8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st grade: 6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ighest grade: 9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grade for student 0 is 76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grade for student 1 is 87.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grade for student 2 is 81.7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D5537-FE1D-4ACA-95D6-B5B1AAF85F6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838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838080"/>
            <a:ext cx="701028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       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          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75472-A94D-4EA7-97E9-7963A23FCE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18:48:54Z</dcterms:created>
  <dc:creator>kalid</dc:creator>
  <dc:description/>
  <dc:language>en-US</dc:language>
  <cp:lastModifiedBy>Pearson Education</cp:lastModifiedBy>
  <dcterms:modified xsi:type="dcterms:W3CDTF">2002-08-05T13:01:44Z</dcterms:modified>
  <cp:revision>478</cp:revision>
  <dc:subject/>
  <dc:title>Chapter 4 - Arrays</dc:title>
</cp:coreProperties>
</file>