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9D29-3D90-4204-B55E-651BFFFB4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F23D-9069-433A-9C18-D306836D8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5BA4-183E-46F2-887A-996DA8688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0D09-CD6B-43EC-944A-B762C0226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33EF-5A88-4C95-9809-016B3FD2E3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D20A-1264-44FF-A07F-007D8A4F4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4197-3666-407D-88CB-3530D92F18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4E7C-5B4F-4C18-93C4-204771FF32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7A28-3FDD-4D8A-BA7F-9C4BC7215C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26FC-F7C4-4CB5-812A-BA076B08CD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C604-2684-4234-A25F-A927DDE77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6C04-8185-4CD6-BD30-255FACA8E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D99B-2F0D-4E10-83FD-F737374234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58DC-FECF-49B3-BFDB-A37ADBE0A0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65AB-BF67-476C-BF0F-28A4A6BBF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85F8-49F0-4B6D-913B-856D1295AD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F48B-5390-47B1-B735-EA71D5CBA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986C-DC84-4E83-B60E-EB064D8EF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7CCF-C497-425B-A572-1C4950E01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A672-666C-4FF4-83FC-279E1F630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F1FC-4CCE-4DA1-9400-243D0EEF8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B8D8-3429-44F8-B2F4-A8481B872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6B9C-D324-4AE6-92A9-E7540C794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A230-F963-4A7E-86FA-94674CA36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8609-C2B4-4073-B8F8-C95321706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E91-8907-488C-AEDA-B563E5F1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9EF4-2F7C-498C-98F3-2A7DBE47E5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compiler argument type and return typ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ake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ained in more detail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/invoking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an operator used to call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argumen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gets its own copy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finished, passes back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9384-4F39-49CE-949B-AF8F8A141D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turn-value-type  function-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arameter-li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 separated list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needed for each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arguments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leave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-value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of result returned (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hing retur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76D7-5E69-411C-90AB-94EA51095A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 *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data, and control goes to function’s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data to return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ends when reaches right br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goes to c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nnot be defined inside oth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EE97-08E7-445E-97DA-368A1F0503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3: fig03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nd using a programmer-defined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 and calculate and out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quare of x each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quare( x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90560" y="2362320"/>
            <a:ext cx="4115160" cy="838080"/>
            <a:chOff x="2590560" y="2362320"/>
            <a:chExt cx="4115160" cy="838080"/>
          </a:xfrm>
        </p:grpSpPr>
        <p:sp>
          <p:nvSpPr>
            <p:cNvPr id="115" name=""/>
            <p:cNvSpPr/>
            <p:nvPr/>
          </p:nvSpPr>
          <p:spPr>
            <a:xfrm>
              <a:off x="403848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he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use function to be called. When done, it returns th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5905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76160" y="762120"/>
            <a:ext cx="4115160" cy="1310760"/>
            <a:chOff x="1676160" y="762120"/>
            <a:chExt cx="4115160" cy="1310760"/>
          </a:xfrm>
        </p:grpSpPr>
        <p:sp>
          <p:nvSpPr>
            <p:cNvPr id="118" name=""/>
            <p:cNvSpPr/>
            <p:nvPr/>
          </p:nvSpPr>
          <p:spPr>
            <a:xfrm>
              <a:off x="3124080" y="762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: specifies data types of arguments and return value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6761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A8A2-659D-4289-A07D-10320DF4A8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 function definition returns square of an inte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is a copy of argument to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s square of y as an in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765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57400" y="990720"/>
            <a:ext cx="4495680" cy="1122480"/>
            <a:chOff x="2057400" y="990720"/>
            <a:chExt cx="4495680" cy="1122480"/>
          </a:xfrm>
        </p:grpSpPr>
        <p:sp>
          <p:nvSpPr>
            <p:cNvPr id="124" name=""/>
            <p:cNvSpPr/>
            <p:nvPr/>
          </p:nvSpPr>
          <p:spPr>
            <a:xfrm>
              <a:off x="3886200" y="12891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copy of the argument passed.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 * 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qu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057400" y="99072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910C-1137-42BB-901B-B6E3067ED2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4: fig03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ing the maximum of three floating-point nu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ree floating-point numb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1 &gt;&gt; number2 &gt;&gt;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1, number2 and number3 are argument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aximum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number1, number2, number3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440" y="2209320"/>
            <a:ext cx="3810240" cy="1434240"/>
            <a:chOff x="1828440" y="2209320"/>
            <a:chExt cx="3810240" cy="1434240"/>
          </a:xfrm>
        </p:grpSpPr>
        <p:sp>
          <p:nvSpPr>
            <p:cNvPr id="129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3 arguments (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828440" y="220932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AED0-6685-4F3C-BE68-C3FBC5FC4E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ximum definition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, y and z are parameter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 = x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 x is largest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y &gt; max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f y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y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y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 &gt; max )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z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z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z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 is largest valu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670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99.32 37.3 27.19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99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1.1 3.333 2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27.9 14.31 88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88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457200"/>
            <a:ext cx="4114800" cy="838080"/>
            <a:chOff x="2514600" y="457200"/>
            <a:chExt cx="4114800" cy="838080"/>
          </a:xfrm>
        </p:grpSpPr>
        <p:sp>
          <p:nvSpPr>
            <p:cNvPr id="135" name=""/>
            <p:cNvSpPr/>
            <p:nvPr/>
          </p:nvSpPr>
          <p:spPr>
            <a:xfrm>
              <a:off x="3962520" y="457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a separated list for multiple parame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EE55-8412-4D5E-A57D-9C409E7CC3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 (number and data typ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returns not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needed if function definition after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must match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 x, double y, double z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C1CD-039D-478D-B50C-58C6410265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prototype with name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Coe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 arguments to be of prop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)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qrt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usually conver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trunc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4 t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xed type goes to highest type (promo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43200" y="2286000"/>
            <a:ext cx="4038480" cy="503640"/>
            <a:chOff x="2743200" y="2286000"/>
            <a:chExt cx="4038480" cy="503640"/>
          </a:xfrm>
        </p:grpSpPr>
        <p:sp>
          <p:nvSpPr>
            <p:cNvPr id="142" name=""/>
            <p:cNvSpPr/>
            <p:nvPr/>
          </p:nvSpPr>
          <p:spPr>
            <a:xfrm>
              <a:off x="3352680" y="2482560"/>
              <a:ext cx="31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ion sign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743200" y="2514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16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9670-CCD2-4BE7-B76C-30CB9A7E36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1120" y="1338120"/>
          <a:ext cx="776592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338120"/>
                    <a:ext cx="776592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03FC-70D4-4C77-8212-6390079896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F0F4-0689-46D5-9040-8DC2F406AB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co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s of data types and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ending with .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-defined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header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4F7B-9190-46F8-93BF-206B3D47B3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unsigned integer between 0 and RAND_MAX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and sh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remainder) operator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%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–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() % 6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es a number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ca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1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s the range 1 to 6 (shi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xt: program to roll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C0F6-DEA9-4F8A-A7AB-29130FECA4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7: fig03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ed, scaled integers produced by 1 + rand() % 6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2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9880" y="3505320"/>
            <a:ext cx="4114800" cy="838080"/>
            <a:chOff x="3809880" y="3505320"/>
            <a:chExt cx="4114800" cy="838080"/>
          </a:xfrm>
        </p:grpSpPr>
        <p:sp>
          <p:nvSpPr>
            <p:cNvPr id="156" name=""/>
            <p:cNvSpPr/>
            <p:nvPr/>
          </p:nvSpPr>
          <p:spPr>
            <a:xfrm>
              <a:off x="5257800" y="3505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caled and shifted to be a number between 1 and 6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098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C6E8-0C7A-4F12-971E-F5237D1007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066680"/>
            <a:ext cx="70102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5         5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         1         5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2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2         3         4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DE0E-EE25-411A-A564-25225AAB27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show distribu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6000 rolls of a 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number of 1’s, 2’s, 3’s, etc. ro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roughly 1000 of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1402-40F5-4F74-A815-13D8DABBBA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8: fig03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4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5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6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one roll of the d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81A2-DE9E-413B-AD6C-DDD16312D0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6000 times and summarize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 number from 1 to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face value and increment appropriate 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4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5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828E-E512-4315-B39C-D61A3D7D75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6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value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should never get her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6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05120" y="1676520"/>
            <a:ext cx="3962160" cy="1296000"/>
            <a:chOff x="1905120" y="1676520"/>
            <a:chExt cx="3962160" cy="1296000"/>
          </a:xfrm>
        </p:grpSpPr>
        <p:sp>
          <p:nvSpPr>
            <p:cNvPr id="170" name=""/>
            <p:cNvSpPr/>
            <p:nvPr/>
          </p:nvSpPr>
          <p:spPr>
            <a:xfrm>
              <a:off x="3200400" y="1905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case included even though it should never be reached. This is a matter of good coding sty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905120" y="1676520"/>
              <a:ext cx="1295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A9F6-303E-4F4A-AC50-FB34E2296B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8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0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FA32-8CC5-471B-B932-527D6E9B22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rand() repeate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s the same sequence of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t sequence of "random"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sequence generated whenever program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different random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 see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random starting point in th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ed will give the sam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seed)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ef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et the 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7F47-0B36-4DA6-831D-C29898D61F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and conq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F4CA-0E93-459A-A3F5-19BBDE76B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9: fig03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izing die-roll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functio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see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 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4760" y="4114800"/>
            <a:ext cx="3505320" cy="838080"/>
            <a:chOff x="1904760" y="4114800"/>
            <a:chExt cx="3505320" cy="838080"/>
          </a:xfrm>
        </p:grpSpPr>
        <p:sp>
          <p:nvSpPr>
            <p:cNvPr id="179" name=""/>
            <p:cNvSpPr/>
            <p:nvPr/>
          </p:nvSpPr>
          <p:spPr>
            <a:xfrm>
              <a:off x="3352680" y="4114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se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047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637A-626D-46EA-89B3-6B6E437637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05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6         3         1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1         5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819520"/>
            <a:ext cx="4114800" cy="2743200"/>
            <a:chOff x="1523880" y="2819520"/>
            <a:chExt cx="4114800" cy="2743200"/>
          </a:xfrm>
        </p:grpSpPr>
        <p:sp>
          <p:nvSpPr>
            <p:cNvPr id="185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ives the same sequence if it has the same initial se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523880" y="320076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523880" y="3200760"/>
              <a:ext cx="144792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FE86-738C-4732-9362-DA629B0745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the current time to set the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to explicitly set seed ever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 time( 0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time in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shifting and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hiftingValu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caling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ingValue = first number in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ingFactor = width of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94D7-106C-4671-BD32-0B792AB027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integers with identif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0 (default), incremented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need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assign integer to enumeration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use a previously defined enumer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 enumVa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Var = WON; // cannot do enumVar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94ED-2EC9-489B-8EBE-6267BEA3CC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prese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 Months { JAN = 1, FEB, MAR, APR, MAY, JUN, JUL, AUG, SEP, OCT, NOV, DEC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s at 1, increments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craps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 or 11 on first throw: player w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 3, or 12 on first throw: player lo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9E02-9B70-458E-B305-341182BA79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0: fig03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ap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 for function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umeration constants represent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u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us gameStat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 contain CONTINUE, WON or L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981080"/>
            <a:ext cx="4114800" cy="838440"/>
            <a:chOff x="2057400" y="1981080"/>
            <a:chExt cx="4114800" cy="838440"/>
          </a:xfrm>
        </p:grpSpPr>
        <p:sp>
          <p:nvSpPr>
            <p:cNvPr id="197" name=""/>
            <p:cNvSpPr/>
            <p:nvPr/>
          </p:nvSpPr>
          <p:spPr>
            <a:xfrm>
              <a:off x="35053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o roll 2 dice and return the result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5740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52480" y="3048120"/>
            <a:ext cx="4114800" cy="838080"/>
            <a:chOff x="1752480" y="3048120"/>
            <a:chExt cx="4114800" cy="838080"/>
          </a:xfrm>
        </p:grpSpPr>
        <p:sp>
          <p:nvSpPr>
            <p:cNvPr id="200" name=""/>
            <p:cNvSpPr/>
            <p:nvPr/>
          </p:nvSpPr>
          <p:spPr>
            <a:xfrm>
              <a:off x="32004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umeration to keep track of the current g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52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40F0-6D37-44D2-BD0E-F52A236BE3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andomize random number generator using curren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rollDic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roll of the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game status and point based o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in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se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28800" y="685800"/>
            <a:ext cx="4114800" cy="838080"/>
            <a:chOff x="1828800" y="685800"/>
            <a:chExt cx="4114800" cy="838080"/>
          </a:xfrm>
        </p:grpSpPr>
        <p:sp>
          <p:nvSpPr>
            <p:cNvPr id="205" name=""/>
            <p:cNvSpPr/>
            <p:nvPr/>
          </p:nvSpPr>
          <p:spPr>
            <a:xfrm>
              <a:off x="327672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determines outcome based on die ro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82880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F0DA-58FB-41AF-BF57-D1D8F3E8F3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ember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Point =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yPoi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ptio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ile game not complete ..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m = rollDice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 dice ag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myPoint )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n by making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se by rolling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6B6C-4EE7-486A-938D-FAB7DCF2C6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won or los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win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lose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dice, calculate sum and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1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2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orkSum = die1 + die2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um die1 and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1080" y="1752480"/>
            <a:ext cx="4114800" cy="838440"/>
            <a:chOff x="1981080" y="1752480"/>
            <a:chExt cx="4114800" cy="838440"/>
          </a:xfrm>
        </p:grpSpPr>
        <p:sp>
          <p:nvSpPr>
            <p:cNvPr id="212" name=""/>
            <p:cNvSpPr/>
            <p:nvPr/>
          </p:nvSpPr>
          <p:spPr>
            <a:xfrm>
              <a:off x="3429000" y="1752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ollD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no arguments, so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98108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6CC3-B1D9-4F1B-A268-E405453856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this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roll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workSum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roll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5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6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3 + 3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1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5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921A-CA16-43E3-B745-A1BD064C7A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: function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use new and “prepackaged”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: programmer-defined functions,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ackaged: from the standard libra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voked by function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and information (arguments) i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den from oth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223E-8759-45EB-9C49-E86CCF60C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3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6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4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3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1 =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4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3 =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BC49-011A-4027-AA64-5E93483C103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hav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seen name, type, size,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ong variable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variable can be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ultiple-file program (see Ch. 6), which files can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9C4A-E09D-4725-A416-C74831DBF21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reated when program enters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destroyed when program leave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ocal variables of functions can be autom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declares 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 to place variable in high-speed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often-used items (loop cou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unnecessary, compiler optim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eith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ot bo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er 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0BC8-3939-4A35-BD41-7BE7CDF223A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functions, name exists for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not be accessible, scope rules still apply (more la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i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eps value between function cal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n in ow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for global variables/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s: defined outside of a function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in any function that comes afte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733D-08B7-4512-8C4F-33A690B929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ion of program where identifier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, function definitions and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defining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, e.g., identifiers with a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D30E-58BD-40CD-B3C2-6519D3968A9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s at declaration, ends at righ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referenced in thi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, function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still have block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lass separate from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-prototyp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 of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prototype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gn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single prototype, name can be used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F0EA-DA6B-4DF4-BB1C-529D11A805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2: fig03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coping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l variable to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scope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inn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new scope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560" y="1752480"/>
            <a:ext cx="4115160" cy="838080"/>
            <a:chOff x="1447560" y="1752480"/>
            <a:chExt cx="4115160" cy="838080"/>
          </a:xfrm>
        </p:grpSpPr>
        <p:sp>
          <p:nvSpPr>
            <p:cNvPr id="232" name=""/>
            <p:cNvSpPr/>
            <p:nvPr/>
          </p:nvSpPr>
          <p:spPr>
            <a:xfrm>
              <a:off x="2895480" y="1752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d outside of function; global variable with file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447560" y="213336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752480" y="2666880"/>
            <a:ext cx="4114800" cy="838440"/>
            <a:chOff x="1752480" y="2666880"/>
            <a:chExt cx="4114800" cy="838440"/>
          </a:xfrm>
        </p:grpSpPr>
        <p:sp>
          <p:nvSpPr>
            <p:cNvPr id="235" name=""/>
            <p:cNvSpPr/>
            <p:nvPr/>
          </p:nvSpPr>
          <p:spPr>
            <a:xfrm>
              <a:off x="320040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variable with function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752480" y="297180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81080" y="3886200"/>
            <a:ext cx="4114800" cy="914400"/>
            <a:chOff x="1981080" y="3886200"/>
            <a:chExt cx="4114800" cy="914400"/>
          </a:xfrm>
        </p:grpSpPr>
        <p:sp>
          <p:nvSpPr>
            <p:cNvPr id="238" name=""/>
            <p:cNvSpPr/>
            <p:nvPr/>
          </p:nvSpPr>
          <p:spPr>
            <a:xfrm>
              <a:off x="3429000" y="3886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block, gi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scope. When the block ends,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stroy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9810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C166-10AB-4E90-AB1B-ADEBBF258F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ha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has static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uses glob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seLocal reinitializes it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local x retains its pri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x also retains it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ocal x in main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C0C7-0E17-4FCA-8822-31C49A2811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reinitializes loc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each time use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828800" y="1142640"/>
            <a:ext cx="3962520" cy="1311120"/>
            <a:chOff x="1828800" y="1142640"/>
            <a:chExt cx="3962520" cy="1311120"/>
          </a:xfrm>
        </p:grpSpPr>
        <p:sp>
          <p:nvSpPr>
            <p:cNvPr id="245" name=""/>
            <p:cNvSpPr/>
            <p:nvPr/>
          </p:nvSpPr>
          <p:spPr>
            <a:xfrm>
              <a:off x="3124080" y="11430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variable (local variable of function). This is destroyed when the function exits, and reinitialized when the function beg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1828800" y="114264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8B6D-454D-43F5-9F82-04B4DF813E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initializes static local variable x only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time the function is called; value of x is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tween calls to this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d only first time useStatic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828800" y="1676160"/>
            <a:ext cx="4419720" cy="1823400"/>
            <a:chOff x="1828800" y="1676160"/>
            <a:chExt cx="4419720" cy="1823400"/>
          </a:xfrm>
        </p:grpSpPr>
        <p:sp>
          <p:nvSpPr>
            <p:cNvPr id="250" name=""/>
            <p:cNvSpPr/>
            <p:nvPr/>
          </p:nvSpPr>
          <p:spPr>
            <a:xfrm>
              <a:off x="3581280" y="243216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local variable of function; it is initialized only once, and retains its value between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828800" y="1676160"/>
              <a:ext cx="17524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31EA-D0B4-4F34-A327-2A48F0B27D7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ss to worke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3998-7E66-4E38-A357-133B043197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modifies glob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4382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inner scope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0 on enter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xit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 on enter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xit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76360" y="762120"/>
            <a:ext cx="4115160" cy="1067400"/>
            <a:chOff x="3276360" y="762120"/>
            <a:chExt cx="4115160" cy="1067400"/>
          </a:xfrm>
        </p:grpSpPr>
        <p:sp>
          <p:nvSpPr>
            <p:cNvPr id="256" name=""/>
            <p:cNvSpPr/>
            <p:nvPr/>
          </p:nvSpPr>
          <p:spPr>
            <a:xfrm>
              <a:off x="4724280" y="762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function does not declare any variables. It use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in the beginning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763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BAEB-8E71-42AA-BC43-5C222CC9E19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nter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2 on exit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nter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0 on exit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 is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C3BB-9004-4C30-9377-8A1FE6480A7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a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problem into smaller problem(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new copy of function to work on the smaller problem (recursive call/recursive ste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ly converges towards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makes call to itself inside the retur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base case gets s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works way back up, solves entir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CED9-1653-440A-8B97-04CA0DCEE3E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n! = n * ( n – 1 )!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1! = 0! = 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2609-EC57-4693-996E-773C674B25C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4: fig03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actorial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. During each iteration, calcul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ial( i ) and display resul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actorial( i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6360" y="1676520"/>
            <a:ext cx="4115160" cy="838080"/>
            <a:chOff x="3276360" y="1676520"/>
            <a:chExt cx="4115160" cy="838080"/>
          </a:xfrm>
        </p:grpSpPr>
        <p:sp>
          <p:nvSpPr>
            <p:cNvPr id="267" name=""/>
            <p:cNvSpPr/>
            <p:nvPr/>
          </p:nvSpPr>
          <p:spPr>
            <a:xfrm>
              <a:off x="47242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hold an integer from 0 to 4 bill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76360" y="1828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A74F-8C27-4028-A8A3-B2C37B23E14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actorial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case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 factorial( 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actorial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12408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!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!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! =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!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! =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! = 5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! = 403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! = 3628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! = 3628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514600" y="457200"/>
            <a:ext cx="4114800" cy="1067400"/>
            <a:chOff x="2514600" y="457200"/>
            <a:chExt cx="4114800" cy="1067400"/>
          </a:xfrm>
        </p:grpSpPr>
        <p:sp>
          <p:nvSpPr>
            <p:cNvPr id="273" name=""/>
            <p:cNvSpPr/>
            <p:nvPr/>
          </p:nvSpPr>
          <p:spPr>
            <a:xfrm>
              <a:off x="3962520" y="457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base case occurs when we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ll other cases must be split up (recursive step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BA75-1198-41BE-A3CE-9C654574327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Fibonac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ibonacci( n - 1 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bonacci( n – 2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57F6-7F92-44EA-A289-B961F502676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52480" y="2389320"/>
            <a:ext cx="4571640" cy="1954080"/>
            <a:chOff x="1752480" y="2389320"/>
            <a:chExt cx="4571640" cy="1954080"/>
          </a:xfrm>
        </p:grpSpPr>
        <p:sp>
          <p:nvSpPr>
            <p:cNvPr id="280" name=""/>
            <p:cNvSpPr/>
            <p:nvPr/>
          </p:nvSpPr>
          <p:spPr>
            <a:xfrm>
              <a:off x="2226960" y="405144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6360" y="405144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8520" y="349236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2480" y="349236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4880" y="294156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4160" y="238932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6696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020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03080" y="35560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352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768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440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804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48360" y="262404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2960" y="323388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4400" y="323064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6892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6016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8080" y="241776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86640" y="30304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9160" y="30290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4400" y="358920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240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520" y="35892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0912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9944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232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95600" y="359424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5240" y="303048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17440" y="302724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668A-A234-45CB-98A7-29EAC370802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ibonacci( n - 1 ) + fibonacci( n -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know which one execut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spec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&amp;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uaranteed left-to-right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level of recursion doubles the number of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= 2^30 ~ 4 billion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nenti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5440-AD7C-4CBD-909F-17C366FC44C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5: fig03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ibonacci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,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integer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culate fibonacci value for number input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fibonacci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bonacci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76360" y="1038240"/>
            <a:ext cx="4115160" cy="1310760"/>
            <a:chOff x="3276360" y="1038240"/>
            <a:chExt cx="4115160" cy="1310760"/>
          </a:xfrm>
        </p:grpSpPr>
        <p:sp>
          <p:nvSpPr>
            <p:cNvPr id="315" name=""/>
            <p:cNvSpPr/>
            <p:nvPr/>
          </p:nvSpPr>
          <p:spPr>
            <a:xfrm>
              <a:off x="4724280" y="103824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ibonacci numbers get large very quickly, and are all non-negative integers. Thus, we 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76360" y="1190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1DF2-CB4F-462A-B79F-C0BD6026464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ommon mathematical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the header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 (argume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(argument1, argument2, …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qrt( 900.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rt (square root) function The preceding statement would print 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functions in math library retur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D767-22CC-4B50-A564-299B7D74C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ibonacci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 case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els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bonacci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505320"/>
            <a:ext cx="701028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)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58D7-21B7-4F9E-9B44-E89B909A66D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4)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5)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6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0) = 5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0) = 67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0) = 8320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5) = 92274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B6CD-B3CD-4715-8C0C-81F3D762EB5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 vs. It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6734-1BFB-43AA-A3A3-CB91A29D3AF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 with Empty Parameter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leave parameter list emp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D5DF-BABE-4791-BD67-A3958EACFA3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8: fig03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s that take no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void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1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1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2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13EE-D7AA-478D-958C-A5141402236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uses an empty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1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uses a void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2 also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ECFB-BC3C-44C2-B2C6-35309FDE003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lin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in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making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function-call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for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lls compiler that function does not mod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chapters 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6CF6-9A24-4C74-A602-28A51B21090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9: fig03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nline function to calcu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volume of a cub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inline function cube. Definition of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before function is called, so a function prototyp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not required. First line of function definition acts a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prototy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line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* side * sid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A72C-1CA9-4132-99EB-F96952A2D53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ide length of your cub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sideValue and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lume of cube with sid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deValu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ube( sideValue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ide length of your cube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of cube with side 3.5 is 42.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0306-0C71-4028-A629-8289B3AC871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FC52-EFB1-4940-B0D1-F51378DEAF5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sqrt( x )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48CC-B6D6-4EF6-B335-A81A50339C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argument in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s parameter by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fter data type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yFunction( int &amp;dat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reference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 format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original can now b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C2C6-2351-4DB1-86BE-9D836B416B3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0: fig03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pass-by-value and pass-by-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referen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returned by squareByValu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quareByValue( x ) &lt;&lt; end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895480" y="1295280"/>
            <a:ext cx="4114800" cy="838440"/>
            <a:chOff x="2895480" y="1295280"/>
            <a:chExt cx="4114800" cy="838440"/>
          </a:xfrm>
        </p:grpSpPr>
        <p:sp>
          <p:nvSpPr>
            <p:cNvPr id="345" name=""/>
            <p:cNvSpPr/>
            <p:nvPr/>
          </p:nvSpPr>
          <p:spPr>
            <a:xfrm>
              <a:off x="434340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, indicating pass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8954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46DD-A486-43E8-83E6-2DC271198F5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quareByReference( z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Value multiplies number by itself, stores th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in number and returns the new value of numbe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= numb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no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Value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Reference multiplies numberRef by itself an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s the result in the variable to which numberRef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s in function main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numberRef 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Ref *= numberRef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Referenc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4114800" cy="838440"/>
            <a:chOff x="2895480" y="1523880"/>
            <a:chExt cx="4114800" cy="838440"/>
          </a:xfrm>
        </p:grpSpPr>
        <p:sp>
          <p:nvSpPr>
            <p:cNvPr id="350" name=""/>
            <p:cNvSpPr/>
            <p:nvPr/>
          </p:nvSpPr>
          <p:spPr>
            <a:xfrm>
              <a:off x="434340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but original parame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954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52680" y="3429000"/>
            <a:ext cx="4114800" cy="1067400"/>
            <a:chOff x="3352680" y="3429000"/>
            <a:chExt cx="4114800" cy="1067400"/>
          </a:xfrm>
        </p:grpSpPr>
        <p:sp>
          <p:nvSpPr>
            <p:cNvPr id="353" name=""/>
            <p:cNvSpPr/>
            <p:nvPr/>
          </p:nvSpPr>
          <p:spPr>
            <a:xfrm>
              <a:off x="4800600" y="3429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alias for the original parameter. Thu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3526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713F-3E32-4478-9958-B5BE891D51E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befor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returned by squareByValue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after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4 befor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6 after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9AEB-F274-4D60-87EA-31142E2C2D8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(chapter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other way to pass-by-refer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as aliases to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 to same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within a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ount = 1; // declare integer variable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&amp;cRef = count; // create cRef as an alias for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cRef; // increment count (using its ali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must be initialized when decl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ngling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undefined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40C6-6C04-43CC-A732-38F4FB62CDB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1: fig03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y refers to (is an alias for)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y = x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0060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800" y="2057400"/>
            <a:ext cx="4114800" cy="838080"/>
            <a:chOff x="1828800" y="2057400"/>
            <a:chExt cx="4114800" cy="838080"/>
          </a:xfrm>
        </p:grpSpPr>
        <p:sp>
          <p:nvSpPr>
            <p:cNvPr id="363" name=""/>
            <p:cNvSpPr/>
            <p:nvPr/>
          </p:nvSpPr>
          <p:spPr>
            <a:xfrm>
              <a:off x="3276720" y="20574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as a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A7F4-63A6-4FDE-AFF7-3EB5A1CCBAA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2: fig03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y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: y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4340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2304 Fig03_22.cpp 11: Reference variable 'y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d­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3\Fig03_22.cpp(11) : error C2530: 'y'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ferences must be initi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371600" y="1600200"/>
            <a:ext cx="4114800" cy="838080"/>
            <a:chOff x="1371600" y="1600200"/>
            <a:chExt cx="4114800" cy="838080"/>
          </a:xfrm>
        </p:grpSpPr>
        <p:sp>
          <p:nvSpPr>
            <p:cNvPr id="369" name=""/>
            <p:cNvSpPr/>
            <p:nvPr/>
          </p:nvSpPr>
          <p:spPr>
            <a:xfrm>
              <a:off x="28195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initialized reference – compiler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3716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8CB9-E4CA-48BB-A836-F33FDC6416D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fault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 with omitte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Function( int x = 1, int y = 2, int z = 3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 defaults (right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,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8DD2-CD70-4E65-B306-41E8C75AD42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3: fig03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efault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 that specifies default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 arguments--use default values for all dim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default box volum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; default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1 and height 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 and width; default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5 and height 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1066680"/>
            <a:ext cx="4114800" cy="838440"/>
            <a:chOff x="2438280" y="1066680"/>
            <a:chExt cx="4114800" cy="838440"/>
          </a:xfrm>
        </p:grpSpPr>
        <p:sp>
          <p:nvSpPr>
            <p:cNvPr id="376" name=""/>
            <p:cNvSpPr/>
            <p:nvPr/>
          </p:nvSpPr>
          <p:spPr>
            <a:xfrm>
              <a:off x="38862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default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4382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724280" y="2654280"/>
            <a:ext cx="4114800" cy="1231920"/>
            <a:chOff x="4724280" y="2654280"/>
            <a:chExt cx="4114800" cy="1231920"/>
          </a:xfrm>
        </p:grpSpPr>
        <p:sp>
          <p:nvSpPr>
            <p:cNvPr id="379" name=""/>
            <p:cNvSpPr/>
            <p:nvPr/>
          </p:nvSpPr>
          <p:spPr>
            <a:xfrm>
              <a:off x="6172200" y="2654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s with some parameters missing – the rightmost parameters get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7242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B22B-F629-4C77-BD01-D975903A8E3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all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idth 5 and height 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boxVolume calculates the volume of a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* width * height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oxVolume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5053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06DE-1E88-4A6D-AC7C-B9FA388C9F5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3960" y="380880"/>
          <a:ext cx="8425080" cy="69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380880"/>
                    <a:ext cx="842508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9CED-9B2C-4BAD-85C7-C495CB4C03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nitary Scope Resolution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 if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::x +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to avoid using same names for locals and glob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4BE0-D557-4AD2-A29E-706934AB34D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4: fig03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unary scope resolution oper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global constant PI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26535897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 local constant P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s of local and global PI consta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cal float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lobal double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733560" y="2209680"/>
            <a:ext cx="4115160" cy="2040840"/>
            <a:chOff x="3733560" y="2209680"/>
            <a:chExt cx="4115160" cy="2040840"/>
          </a:xfrm>
        </p:grpSpPr>
        <p:sp>
          <p:nvSpPr>
            <p:cNvPr id="389" name=""/>
            <p:cNvSpPr/>
            <p:nvPr/>
          </p:nvSpPr>
          <p:spPr>
            <a:xfrm>
              <a:off x="5181480" y="2209680"/>
              <a:ext cx="26672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t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the 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example will show the difference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335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F7A6-30CD-4524-8BDA-F7A2807EB8C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762120"/>
            <a:ext cx="701028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5F03-14FA-4281-964D-03DBF3B489A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functions distinguished by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name and parameter types (order mat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mang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s function identifier with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-safe 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proper overloaded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B58A-EAF2-4D29-B74F-276CBA94E80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5: fig03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overloaded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int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double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uble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09680" y="1066680"/>
            <a:ext cx="4114800" cy="2667240"/>
            <a:chOff x="2209680" y="1066680"/>
            <a:chExt cx="4114800" cy="2667240"/>
          </a:xfrm>
        </p:grpSpPr>
        <p:sp>
          <p:nvSpPr>
            <p:cNvPr id="399" name=""/>
            <p:cNvSpPr/>
            <p:nvPr/>
          </p:nvSpPr>
          <p:spPr>
            <a:xfrm>
              <a:off x="36576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oaded functions have the same name, but the different parameters distinguish th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209680" y="16765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167652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80B6-4B83-455E-BEF9-DCAD65DC88E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s int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double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square of integer 7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quare of double 7.5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Resul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81952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int argument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double argument: 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double 7.5 is 56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48120" y="1143000"/>
            <a:ext cx="3124080" cy="976320"/>
            <a:chOff x="3048120" y="1143000"/>
            <a:chExt cx="3124080" cy="976320"/>
          </a:xfrm>
        </p:grpSpPr>
        <p:sp>
          <p:nvSpPr>
            <p:cNvPr id="406" name=""/>
            <p:cNvSpPr/>
            <p:nvPr/>
          </p:nvSpPr>
          <p:spPr>
            <a:xfrm>
              <a:off x="350532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per function is called based upon the argumen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048120" y="1143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4F15-1BC6-4B01-8EF5-C2F321DEA10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6: fig03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mangl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, float, char and int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hing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function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6686-2C4E-439A-98D3-54BCAFCA5EB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, int, float * and double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nothing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89548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2$qcipf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1$qifc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752480" y="2514600"/>
            <a:ext cx="4114800" cy="2040840"/>
            <a:chOff x="1752480" y="2514600"/>
            <a:chExt cx="4114800" cy="2040840"/>
          </a:xfrm>
        </p:grpSpPr>
        <p:sp>
          <p:nvSpPr>
            <p:cNvPr id="414" name=""/>
            <p:cNvSpPr/>
            <p:nvPr/>
          </p:nvSpPr>
          <p:spPr>
            <a:xfrm>
              <a:off x="3200400" y="251460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gled names produced in assembly langu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$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parates the function name from its parameter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pointer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7524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07EB-28FB-41A9-834D-DB75F53DFD8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separate function for different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l type parameters in brack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type parameter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ynony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holders for built-in type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r user-defined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rguments types, return types, declar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like normal, except formal type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3D1C-3D90-4F7F-BC67-39BD9188DF7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 // or template&lt; typename T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formal type, used as paramet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function returns variable of same type as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function call, T replaced by real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62BB-D66F-49E2-8D78-63E7C37F799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function multiple ti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passed to function when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50C0-C2B2-4CCB-8261-A40721C5B0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7: fig03_2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function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function template maximum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 template &lt; typename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 maximum( T value1, T value2, T value3 )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max = value1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2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2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3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3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emplate maximum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981080" y="1295280"/>
            <a:ext cx="4114800" cy="838440"/>
            <a:chOff x="1981080" y="1295280"/>
            <a:chExt cx="4114800" cy="838440"/>
          </a:xfrm>
        </p:grpSpPr>
        <p:sp>
          <p:nvSpPr>
            <p:cNvPr id="423" name=""/>
            <p:cNvSpPr/>
            <p:nvPr/>
          </p:nvSpPr>
          <p:spPr>
            <a:xfrm>
              <a:off x="342900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l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laceholder for type of data to be test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10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90560" y="2590920"/>
            <a:ext cx="3733920" cy="1128600"/>
            <a:chOff x="2590560" y="2590920"/>
            <a:chExt cx="3733920" cy="1128600"/>
          </a:xfrm>
        </p:grpSpPr>
        <p:sp>
          <p:nvSpPr>
            <p:cNvPr id="426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ll parameters to be of the same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2590560" y="25909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EE22-8AD8-4526-9245-5CD2AD43CA3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1, int2,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hree integer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1 &gt;&gt; int2 &gt;&gt;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int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integ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int1, int2, int3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, double2,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Input three double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double1 &gt;&gt; double2 &gt;&gt;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double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double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double1, double2, double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733560" y="1447920"/>
            <a:ext cx="4115160" cy="3047760"/>
            <a:chOff x="3733560" y="1447920"/>
            <a:chExt cx="4115160" cy="3047760"/>
          </a:xfrm>
        </p:grpSpPr>
        <p:sp>
          <p:nvSpPr>
            <p:cNvPr id="431" name=""/>
            <p:cNvSpPr/>
            <p:nvPr/>
          </p:nvSpPr>
          <p:spPr>
            <a:xfrm>
              <a:off x="51814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ed with various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733560" y="1600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419720" y="1600200"/>
              <a:ext cx="7617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F381-D920-4FA2-BCC1-3BECC2BF1BB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cha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1, char2,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 three charact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char1 &gt;&gt; char2 &gt;&gt;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char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charact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char1, char2, char3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7672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integer values: 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integer value is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double values: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double value is: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characters: A C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character value is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A74A-D9A0-456C-86D7-17B74849081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7:44:31Z</dcterms:created>
  <dc:creator>kalid</dc:creator>
  <dc:description/>
  <dc:language>en-US</dc:language>
  <cp:lastModifiedBy>Pearson Education</cp:lastModifiedBy>
  <dcterms:modified xsi:type="dcterms:W3CDTF">2002-08-05T13:02:33Z</dcterms:modified>
  <cp:revision>636</cp:revision>
  <dc:subject/>
  <dc:title>Chapter 3 - Functions</dc:title>
</cp:coreProperties>
</file>