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BBC9-F677-48F3-9311-E197B3C8C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64FA-5601-44DA-A75F-2D8C724AF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F8AD-7521-43E1-8231-E40F9EE10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FBA0-61DC-4708-870F-6125C8AC7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888E9-EAF8-42A6-B27A-8ADBF17591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2849D-6D90-493D-ADEA-4B94EFBD3B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8DD57-3750-4CB3-B19C-529E0255FD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63DD-C7A8-48D7-B076-BE04B5CAE3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18C5-F91A-465C-A495-97BC86FA69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5E85-0404-4645-A8C5-8C46BAEF79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6EB26-DDBE-4C8E-AF9E-FC4141EAB4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B415-AEF2-4295-94DB-907AE5EEF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3044-8795-4607-9D5D-F41CDC8637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F99F-D748-4F0E-98F3-1337A72696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E0A99-915B-4B45-8019-577C46CE9A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EA86-04A7-403A-80DA-71A8949A6D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F94AC-61BB-48CE-B472-E766B3B3BD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594F0-E51C-43B6-9F64-85CBEFA03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1848-6659-4FBD-9446-20F9344E6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F78F-27FB-4B9D-87A0-B377A2EB8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F74D-5E73-4024-B1C4-4D2260571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2028-D2BE-41E0-8B66-E998CA4DC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9D9D-DCAE-41B0-8A11-0509AC2E3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1823-5973-41E7-B481-EF3235CFB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1DCD-015C-4283-88C3-18385CAE0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4DFD-A489-49F0-9F95-145B630A1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w3.org/Consortium/Process/Process-19991111/process.html#RecsCR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8916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hat is a Computer?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mputer Organiz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volution of Operating System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ersonal Computing, Distributed Computing an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ient/Server Comput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achine Languages, Assembly Languages, and High-Level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Languag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istory of C and C++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++ Standard Librar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Jav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Visual Basic, Visual C++ and C#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ther High-Level Languag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uctured Programm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Key Software Trend: Object Technolog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Basics of a Typical C++ Environ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ardware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9762-DEEE-4352-85EF-6228FE39F2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5 Personal Computing, Distributed Computing, and Client/Server Comput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compu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77: Apple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conomical enough for individ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81: IBM Personal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lone”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 telephone 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area networks (LANs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comput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ganization’s computing distributed over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B080-0BE8-4808-92D3-DC9488F133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5 Personal Computing, Distributed Computing, and Client/Server Comput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enormous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shared across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/server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er common store of programs an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comput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file servers acros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X, Linux, Microsoft’s Window-bas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A106-22D6-4B15-AA95-DEFB4721BA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compute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language computer directly underst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 language” of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by hard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-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 consist of strings of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imately 0s and 1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 computers to perform elementary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mbersome for hu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30004277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40059341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2002740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E377-2106-4892-B2BC-8D7B0A9759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compute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embly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-like abbreviations representing elementary computer 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rer to hu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mprehensible to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or programs (assemb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to machin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EP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VERP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SS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3260-62E7-4AD7-A7A0-67A606E342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compute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-level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everyday English, use common mathematical 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statements accomplish substantial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y language requires many instructions to accomplish simple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or programs (compi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to machin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reter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ly execute high-level languag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ssPay = basePay + overTime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B2EA1-9C74-4EDF-8CC7-7101B6AB13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7 History of C and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olved from two other programming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PL and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less”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nnis Ritchie (Bell Laborator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ed data typing, other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ment language of UN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rdware independ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abl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89: ANSI stand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0: ANSI and ISO standard publ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I/ISO 9899: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C925-CDD4-4A32-8426-E025F16176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7 History of C and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of C+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sion of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rly 1980s: Bjarne Stroustrup (Bell Laborator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ruces up”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capabilities for object-orient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: reusable software compon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items in rea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-oriented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understand, correct and mod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ybrid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-like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-oriented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58F5-A114-40F4-A474-4A668E7588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8 C++ Standard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t from pieces called classes an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tandard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ch collections of existing classes an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block approach” to creating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4FD6-4251-4BAC-A227-4896AC2616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9 Jav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1: Sun Microsystem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5: Sun Micro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ly announced Java at trade 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pages with dynamic and interactive con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large-scale enterprise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hance functionality of web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pplications for consumer devic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 phones, pagers, personal digital assistant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09D0-3299-49FA-993A-D9AEB698A1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0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isual Basic, Visual C++ and C#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ner’s All-Purpose Symbolic Instruction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-1960s: Prof. John Kemeny and Thomas Kurtz (Dartmouth Colle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of Microsoft Windows graphical user interface (GU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late 1980s, early 199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 fea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, event handling, access to Win32 API, object-oriented programming, error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sual Basic .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77CC-AC8F-466D-A5B8-CCBB1A5A26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371600"/>
            <a:ext cx="784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istory of the Intern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istory of the World Wide Web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orld Wide Web Consortium (W3C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General Notes About C++ and This Book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 to C++ Programm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 Simple Program: Printing a Line of Tex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nother Simple Program: Adding Two Integ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emory Concep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rithmetic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cision Making: Equality and Relational Opera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inking About Objects: Introduction to Object Technology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nd the Unified Modeling Langu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1683-73E8-419A-89F5-04521965BD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0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isual Basic, Visual C++ and C#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rosoft’s implementation of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soft Foundation Classes (MF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libr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, graphics, networking, multithreading,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d among Visual Basic, Visual C++, C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NET plat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-based applic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to great variety of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 phones, desktop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ications in disparate languages can communic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85CD-4EDF-43B9-B98E-149567187F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0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isual Basic, Visual C++ and C#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ers Hejlsberg and Scott Wiltamuth (Microsof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ed specifically for .NET plat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ots in C, C++ and J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migration to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-driven, fully object-oriented, visual programming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rated Development Environment (I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, run, test and debug C#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pplication Development (R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guage interoper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F6E8-F647-4C85-83B3-925300933A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1 Other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R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ula TRANs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54-1957: I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 mathematical compu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tific and engineering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Business Oriented Langua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59: computer manufacturers, government and industrial computer us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ise and efficient manipulation of large amounts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rcial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E2CC-B8D5-45D9-B3F6-5637C75F30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1 Other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c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f. Niklaus Wir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ademic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FCC5-D167-44A9-94A4-2B84A24E09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2 Structured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 (1960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iplined approach to writing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ear, easy to test and debug, and easy to mod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71: Niklaus Wir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70s - early 1980s: US Department of Defense (Do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tas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er can specify many activities to run in parall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777F-7C02-4195-A9CA-39A53F5B6F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3 The Key Software Trend: Object Technolog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able software components that model real world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ningful software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objects, time objects, paycheck objects, invoice objects, audio objects, video objects, file objects, record objec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noun can be represented as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understandable, better organized and easier to maintain than procedural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vor modula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FC (Microsoft Foundation Cla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gue 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1B40-8132-41E5-8DBC-840993AF41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Basics of a 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-development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Standard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2408-7076-4112-A284-36C7859470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Basics of a 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143000"/>
            <a:ext cx="4724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187880" y="1057320"/>
            <a:ext cx="4656240" cy="5572080"/>
            <a:chOff x="4187880" y="1057320"/>
            <a:chExt cx="4656240" cy="5572080"/>
          </a:xfrm>
        </p:grpSpPr>
        <p:sp>
          <p:nvSpPr>
            <p:cNvPr id="142" name="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14760" y="3772080"/>
              <a:ext cx="542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91000" y="12956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91000" y="1919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91000" y="38563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05440" y="35146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1000" y="5456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6676920" y="3504600"/>
              <a:ext cx="342720" cy="1524600"/>
              <a:chOff x="6676920" y="3504600"/>
              <a:chExt cx="342720" cy="1524600"/>
            </a:xfrm>
          </p:grpSpPr>
          <p:sp>
            <p:nvSpPr>
              <p:cNvPr id="152" name=""/>
              <p:cNvSpPr/>
              <p:nvPr/>
            </p:nvSpPr>
            <p:spPr>
              <a:xfrm>
                <a:off x="6676920" y="350532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6676920" y="426600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6848280" y="426708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6848280" y="350424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6676920" y="5104800"/>
              <a:ext cx="342720" cy="1524600"/>
              <a:chOff x="6676920" y="5104800"/>
              <a:chExt cx="342720" cy="1524600"/>
            </a:xfrm>
          </p:grpSpPr>
          <p:sp>
            <p:nvSpPr>
              <p:cNvPr id="157" name=""/>
              <p:cNvSpPr/>
              <p:nvPr/>
            </p:nvSpPr>
            <p:spPr>
              <a:xfrm>
                <a:off x="6676920" y="510552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676920" y="586620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848280" y="586728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848280" y="510444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676920" y="1065960"/>
              <a:ext cx="342720" cy="458640"/>
              <a:chOff x="6676920" y="1065960"/>
              <a:chExt cx="342720" cy="458640"/>
            </a:xfrm>
          </p:grpSpPr>
          <p:sp>
            <p:nvSpPr>
              <p:cNvPr id="162" name=""/>
              <p:cNvSpPr/>
              <p:nvPr/>
            </p:nvSpPr>
            <p:spPr>
              <a:xfrm>
                <a:off x="6676920" y="10670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676920" y="12938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6848280" y="129528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6848280" y="106560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676920" y="1681200"/>
              <a:ext cx="1713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676920" y="1909440"/>
              <a:ext cx="17136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848640" y="190980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6848640" y="168084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15320" y="1096920"/>
              <a:ext cx="1823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gram is created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he editor and sto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n disk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15320" y="1781280"/>
              <a:ext cx="182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eprocessor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cesses the cod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0000" y="4138560"/>
              <a:ext cx="18241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ader puts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 memory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15320" y="5432400"/>
              <a:ext cx="18237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PU takes ea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struction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xecutes it, possib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oring new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alues as the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xecut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29080" y="2443320"/>
              <a:ext cx="714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91000" y="252900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6676920" y="2288160"/>
              <a:ext cx="342720" cy="458640"/>
              <a:chOff x="6676920" y="2288160"/>
              <a:chExt cx="342720" cy="458640"/>
            </a:xfrm>
          </p:grpSpPr>
          <p:sp>
            <p:nvSpPr>
              <p:cNvPr id="178" name=""/>
              <p:cNvSpPr/>
              <p:nvPr/>
            </p:nvSpPr>
            <p:spPr>
              <a:xfrm>
                <a:off x="6676920" y="22892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676920" y="25160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6848280" y="251748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6848280" y="228780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7015320" y="2260800"/>
              <a:ext cx="1823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iler cre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bject code and st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 on disk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1000" y="31370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76920" y="2897280"/>
              <a:ext cx="1713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676920" y="3125520"/>
              <a:ext cx="17136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848640" y="312588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6848640" y="289692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15320" y="2895840"/>
              <a:ext cx="1823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inker links the 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de with the librarie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reates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.out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ores it on di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4187880" y="1057320"/>
              <a:ext cx="1200240" cy="457200"/>
              <a:chOff x="4187880" y="1057320"/>
              <a:chExt cx="1200240" cy="457200"/>
            </a:xfrm>
          </p:grpSpPr>
          <p:sp>
            <p:nvSpPr>
              <p:cNvPr id="190" name="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15840" y="120132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187880" y="1690920"/>
              <a:ext cx="1200240" cy="457200"/>
              <a:chOff x="4187880" y="1690920"/>
              <a:chExt cx="1200240" cy="457200"/>
            </a:xfrm>
          </p:grpSpPr>
          <p:sp>
            <p:nvSpPr>
              <p:cNvPr id="194" name=""/>
              <p:cNvSpPr/>
              <p:nvPr/>
            </p:nvSpPr>
            <p:spPr>
              <a:xfrm>
                <a:off x="4187880" y="169092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4187880" y="1690920"/>
                <a:ext cx="1200240" cy="457200"/>
                <a:chOff x="4187880" y="1690920"/>
                <a:chExt cx="1200240" cy="4572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187880" y="169092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258440" y="182484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4187880" y="2908440"/>
              <a:ext cx="1200240" cy="457200"/>
              <a:chOff x="4187880" y="2908440"/>
              <a:chExt cx="1200240" cy="457200"/>
            </a:xfrm>
          </p:grpSpPr>
          <p:sp>
            <p:nvSpPr>
              <p:cNvPr id="199" name=""/>
              <p:cNvSpPr/>
              <p:nvPr/>
            </p:nvSpPr>
            <p:spPr>
              <a:xfrm>
                <a:off x="4187880" y="290844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4187880" y="2908440"/>
                <a:ext cx="1200240" cy="457200"/>
                <a:chOff x="4187880" y="2908440"/>
                <a:chExt cx="1200240" cy="457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187880" y="290844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515840" y="304308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187880" y="5227920"/>
              <a:ext cx="1200240" cy="457200"/>
              <a:chOff x="4187880" y="5227920"/>
              <a:chExt cx="1200240" cy="45720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772880" y="550728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644360" y="5380200"/>
                  <a:ext cx="28656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CP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0" name=""/>
            <p:cNvSpPr/>
            <p:nvPr/>
          </p:nvSpPr>
          <p:spPr>
            <a:xfrm>
              <a:off x="5905440" y="51022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905440" y="5367600"/>
              <a:ext cx="773280" cy="1212840"/>
              <a:chOff x="5905440" y="5367600"/>
              <a:chExt cx="773280" cy="1212840"/>
            </a:xfrm>
          </p:grpSpPr>
          <p:sp>
            <p:nvSpPr>
              <p:cNvPr id="212" name=""/>
              <p:cNvSpPr/>
              <p:nvPr/>
            </p:nvSpPr>
            <p:spPr>
              <a:xfrm>
                <a:off x="6227640" y="613116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905440" y="5367600"/>
                <a:ext cx="767160" cy="1212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06520" y="53686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06520" y="5521320"/>
                <a:ext cx="77220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06520" y="56710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906520" y="582300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906520" y="597420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906520" y="6126120"/>
                <a:ext cx="772200" cy="303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58"/>
                    </a:lnTo>
                    <a:lnTo>
                      <a:pt x="0" y="19958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906520" y="642924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49240" y="612612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905440" y="3780000"/>
              <a:ext cx="773280" cy="1214280"/>
              <a:chOff x="5905440" y="3780000"/>
              <a:chExt cx="773280" cy="1214280"/>
            </a:xfrm>
          </p:grpSpPr>
          <p:sp>
            <p:nvSpPr>
              <p:cNvPr id="223" name=""/>
              <p:cNvSpPr/>
              <p:nvPr/>
            </p:nvSpPr>
            <p:spPr>
              <a:xfrm>
                <a:off x="5905440" y="3780000"/>
                <a:ext cx="767160" cy="121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906520" y="37810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906520" y="3933360"/>
                <a:ext cx="77220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5906520" y="4086000"/>
                <a:ext cx="772200" cy="908280"/>
                <a:chOff x="5906520" y="4086000"/>
                <a:chExt cx="772200" cy="9082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6227640" y="454536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906520" y="4086000"/>
                  <a:ext cx="77220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06520" y="4237200"/>
                  <a:ext cx="772200" cy="150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906520" y="4388400"/>
                  <a:ext cx="77220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06520" y="4540320"/>
                  <a:ext cx="772200" cy="302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58"/>
                      </a:lnTo>
                      <a:lnTo>
                        <a:pt x="0" y="19958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906520" y="4843440"/>
                  <a:ext cx="772200" cy="150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248880" y="454032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5905440" y="1141560"/>
              <a:ext cx="771480" cy="309600"/>
              <a:chOff x="5905440" y="1141560"/>
              <a:chExt cx="771480" cy="30960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5905440" y="1142640"/>
                <a:ext cx="771480" cy="308520"/>
                <a:chOff x="5905440" y="1142640"/>
                <a:chExt cx="771480" cy="3085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5905440" y="13741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06160" y="118188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905440" y="11426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5905440" y="13737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906160" y="1180800"/>
                <a:ext cx="77076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13000" y="137304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105240" y="12427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10840" y="117432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05440" y="11415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905440" y="1764000"/>
              <a:ext cx="771480" cy="309240"/>
              <a:chOff x="5905440" y="1764000"/>
              <a:chExt cx="771480" cy="3092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5905440" y="1765080"/>
                <a:ext cx="771480" cy="308160"/>
                <a:chOff x="5905440" y="1765080"/>
                <a:chExt cx="771480" cy="3081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905440" y="199656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906160" y="180432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905440" y="176508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5905440" y="199584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906160" y="1803240"/>
                <a:ext cx="770760" cy="22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913000" y="199512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05240" y="186480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10840" y="179676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905440" y="17640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905440" y="2379960"/>
              <a:ext cx="771480" cy="309240"/>
              <a:chOff x="5905440" y="2379960"/>
              <a:chExt cx="771480" cy="30924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5905440" y="2381040"/>
                <a:ext cx="771480" cy="308160"/>
                <a:chOff x="5905440" y="2381040"/>
                <a:chExt cx="771480" cy="3081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905440" y="261252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906160" y="242028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905440" y="238104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5905440" y="26118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06160" y="2419200"/>
                <a:ext cx="770760" cy="22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13000" y="261108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05240" y="248076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10840" y="241272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905440" y="2379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905440" y="2982960"/>
              <a:ext cx="771480" cy="309600"/>
              <a:chOff x="5905440" y="2982960"/>
              <a:chExt cx="771480" cy="30960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5905440" y="2984040"/>
                <a:ext cx="771480" cy="308520"/>
                <a:chOff x="5905440" y="2984040"/>
                <a:chExt cx="771480" cy="3085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905440" y="32155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906160" y="302328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905440" y="29840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5905440" y="32151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906160" y="3022200"/>
                <a:ext cx="77076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913000" y="321444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05240" y="30841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10840" y="301572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905440" y="2982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405320" y="4357800"/>
              <a:ext cx="773280" cy="309600"/>
              <a:chOff x="4405320" y="4357800"/>
              <a:chExt cx="773280" cy="30960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4405680" y="4358160"/>
                <a:ext cx="772920" cy="309240"/>
                <a:chOff x="4405680" y="4358160"/>
                <a:chExt cx="772920" cy="3092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405680" y="45903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406040" y="4397400"/>
                  <a:ext cx="772560" cy="229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405680" y="43581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4405320" y="458928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405680" y="4397040"/>
                <a:ext cx="7722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12880" y="4589280"/>
                <a:ext cx="75780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05480" y="4458240"/>
                <a:ext cx="372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411440" y="4390200"/>
                <a:ext cx="76356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405320" y="435780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4791240" y="4084920"/>
              <a:ext cx="360" cy="30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6CD9-590D-4B6D-8BB8-B0ABCBD934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Basics of a 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/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in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key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out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computer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er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error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error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3AC0-B4B7-4B20-86C5-FA6CC6D9DF0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5 Hardware Tr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ies of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roximately double every year or tw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used to execute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ount of secondary sto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 programs and data over long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or sp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ed at which computers execut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38D4-AD20-44CE-B5F9-5BA4DC3BC2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ructions to command computer to perform actions and make dec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 version of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National Standards Institute (AN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Organization for Standardization (I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D1213-23F3-4419-88F2-A8E73D1E27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6 History of the Intern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 1960s: AR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ced Research Projects Ag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Def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PA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ctronic mail (e-mai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witc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fer digital data via small pac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multiple users to send/receive data simultaneously over same communication path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entralize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one part of network fails, other parts can still ope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75FE-22B8-46D4-B98D-CDB13BFAD84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6 History of the Intern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mission Control Protocol (TC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routed prope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arrived i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et Protocol (I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 among variety of networking hardware and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architecture of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rying capacity of communications 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C4A2-63BD-4DF3-BA78-90B5C34471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7 History of the World Wide Web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Wide We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0: Tim Berners-Lee (CER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e and view multimedia-based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instantly and conveniently accessible 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sible worldwide expos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s and small 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ing way business d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BEDE-CB73-4322-A0BC-822FF23FEB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8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orld Wide Web Consortium (W3C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orld Wide Web Consortium (W3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4: Tim Berners-L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nonproprietary, interoperable technolog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ization organ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ee h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achusetts Institute of Technology (M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e’s INRIA (Institut National de Recherche en Informatique et Automat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io University of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 400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fin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tegic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6EF2-14A1-43E8-B114-79C5B131BA2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8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orld Wide Web Consortium (W3C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 ph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evolving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idate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le version that industry can begin to imp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d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ably mature Candidate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F43D-4FD4-4A19-ABEC-6ED63BB0B91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9 General Notes About C++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d This Book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 geared toward novice 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ss programming clarit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and C++ are portable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and C++ programs can run on many different compu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features of current versions of C++ not compatible with older implemen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5406-69C4-4E5A-9A4B-6054C2160AA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0 Introduction to C++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cilitates structured and disciplined approach to computer program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several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llustrate many important features of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analyzed one statement at a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9153-29C4-433D-95B7-24C32DE87B0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1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cument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rove program read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gnored by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line com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rocessor dir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ed by preprocessor before comp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6F98-2BD4-402C-921F-C11E29753FE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2: fig01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first program in C++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 to C++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289548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elcome to C++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971800" y="228600"/>
            <a:ext cx="3505320" cy="337320"/>
            <a:chOff x="2971800" y="228600"/>
            <a:chExt cx="3505320" cy="337320"/>
          </a:xfrm>
        </p:grpSpPr>
        <p:sp>
          <p:nvSpPr>
            <p:cNvPr id="314" name=""/>
            <p:cNvSpPr/>
            <p:nvPr/>
          </p:nvSpPr>
          <p:spPr>
            <a:xfrm>
              <a:off x="4419720" y="2286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ngle-line com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2971800" y="30456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971800" y="38088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209680" y="665280"/>
            <a:ext cx="4114800" cy="824040"/>
            <a:chOff x="2209680" y="665280"/>
            <a:chExt cx="4114800" cy="824040"/>
          </a:xfrm>
        </p:grpSpPr>
        <p:sp>
          <p:nvSpPr>
            <p:cNvPr id="318" name=""/>
            <p:cNvSpPr/>
            <p:nvPr/>
          </p:nvSpPr>
          <p:spPr>
            <a:xfrm>
              <a:off x="3657600" y="665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processor directive to include input/output stream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iostream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209680" y="74124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447920" y="993600"/>
            <a:ext cx="4114800" cy="824040"/>
            <a:chOff x="1447920" y="993600"/>
            <a:chExt cx="4114800" cy="824040"/>
          </a:xfrm>
        </p:grpSpPr>
        <p:sp>
          <p:nvSpPr>
            <p:cNvPr id="321" name=""/>
            <p:cNvSpPr/>
            <p:nvPr/>
          </p:nvSpPr>
          <p:spPr>
            <a:xfrm>
              <a:off x="2895840" y="993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ppears exactly once in every C++ program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447920" y="1145880"/>
              <a:ext cx="144792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33160" y="457200"/>
            <a:ext cx="4115160" cy="838080"/>
            <a:chOff x="533160" y="457200"/>
            <a:chExt cx="4115160" cy="838080"/>
          </a:xfrm>
        </p:grpSpPr>
        <p:sp>
          <p:nvSpPr>
            <p:cNvPr id="324" name=""/>
            <p:cNvSpPr/>
            <p:nvPr/>
          </p:nvSpPr>
          <p:spPr>
            <a:xfrm>
              <a:off x="1981080" y="4572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an integer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33160" y="609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09480" y="741240"/>
            <a:ext cx="4114800" cy="838440"/>
            <a:chOff x="609480" y="741240"/>
            <a:chExt cx="4114800" cy="838440"/>
          </a:xfrm>
        </p:grpSpPr>
        <p:sp>
          <p:nvSpPr>
            <p:cNvPr id="327" name=""/>
            <p:cNvSpPr/>
            <p:nvPr/>
          </p:nvSpPr>
          <p:spPr>
            <a:xfrm>
              <a:off x="2057400" y="7412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f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gins function bod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09480" y="893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33160" y="1828800"/>
            <a:ext cx="4115160" cy="838080"/>
            <a:chOff x="533160" y="1828800"/>
            <a:chExt cx="4115160" cy="838080"/>
          </a:xfrm>
        </p:grpSpPr>
        <p:sp>
          <p:nvSpPr>
            <p:cNvPr id="330" name=""/>
            <p:cNvSpPr/>
            <p:nvPr/>
          </p:nvSpPr>
          <p:spPr>
            <a:xfrm>
              <a:off x="1981080" y="18288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responding righ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nds function bod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33160" y="1981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886200" y="990720"/>
            <a:ext cx="4114800" cy="837720"/>
            <a:chOff x="3886200" y="990720"/>
            <a:chExt cx="4114800" cy="837720"/>
          </a:xfrm>
        </p:grpSpPr>
        <p:sp>
          <p:nvSpPr>
            <p:cNvPr id="333" name=""/>
            <p:cNvSpPr/>
            <p:nvPr/>
          </p:nvSpPr>
          <p:spPr>
            <a:xfrm>
              <a:off x="5334120" y="990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ements end with a semicol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886200" y="114300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066680" y="1920960"/>
            <a:ext cx="4114800" cy="980640"/>
            <a:chOff x="1066680" y="1920960"/>
            <a:chExt cx="4114800" cy="980640"/>
          </a:xfrm>
        </p:grpSpPr>
        <p:sp>
          <p:nvSpPr>
            <p:cNvPr id="336" name=""/>
            <p:cNvSpPr/>
            <p:nvPr/>
          </p:nvSpPr>
          <p:spPr>
            <a:xfrm>
              <a:off x="2514600" y="2320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longs to namesp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1066680" y="1920960"/>
              <a:ext cx="144792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1905120"/>
            <a:ext cx="4114800" cy="683280"/>
            <a:chOff x="1752480" y="1905120"/>
            <a:chExt cx="4114800" cy="683280"/>
          </a:xfrm>
        </p:grpSpPr>
        <p:sp>
          <p:nvSpPr>
            <p:cNvPr id="339" name=""/>
            <p:cNvSpPr/>
            <p:nvPr/>
          </p:nvSpPr>
          <p:spPr>
            <a:xfrm>
              <a:off x="3200400" y="22510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am insertion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1752480" y="1905120"/>
              <a:ext cx="144792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447560" y="2403000"/>
            <a:ext cx="4191120" cy="1727280"/>
            <a:chOff x="1447560" y="2403000"/>
            <a:chExt cx="4191120" cy="1727280"/>
          </a:xfrm>
        </p:grpSpPr>
        <p:sp>
          <p:nvSpPr>
            <p:cNvPr id="342" name=""/>
            <p:cNvSpPr/>
            <p:nvPr/>
          </p:nvSpPr>
          <p:spPr>
            <a:xfrm>
              <a:off x="2971800" y="28195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one of several means to exit function; val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dicates program terminated successful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1447560" y="2403000"/>
              <a:ext cx="152388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29E15-AE02-40FA-AE5C-CA14857BF4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1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output stream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ed” to 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 insertion ope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to right (right operand) inserted into output str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pecifies using name that belongs to “namespace”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moved through us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pe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“special” character outp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0177-4FA8-42D6-84FE-E9F143BC3F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    What is a Computer?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ice capable of performing computations and making logical dec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of instructions that control computer’s processing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ous devices comprising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board, screen, mouse, disks, memory, CD-ROM, processing units,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that run on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C24B-1B27-48EE-8389-7914576343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1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063800" y="1879560"/>
          <a:ext cx="708948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879560"/>
                    <a:ext cx="70894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7316-A067-40B7-94A5-9146D9458F4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4: fig01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a line with multiple statem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 C++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048120"/>
            <a:ext cx="70102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elcome to C++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971800" y="990720"/>
            <a:ext cx="4114800" cy="990360"/>
            <a:chOff x="2971800" y="990720"/>
            <a:chExt cx="4114800" cy="990360"/>
          </a:xfrm>
        </p:grpSpPr>
        <p:sp>
          <p:nvSpPr>
            <p:cNvPr id="354" name=""/>
            <p:cNvSpPr/>
            <p:nvPr/>
          </p:nvSpPr>
          <p:spPr>
            <a:xfrm>
              <a:off x="4419720" y="990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ltiple stream insertion statements produce one line of out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971800" y="1143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123720" y="1143000"/>
              <a:ext cx="1295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7C765-017C-4F1F-9FDE-1BEC5702B65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5: fig01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multiple lines with a single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\nto\n\nC++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28195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++!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666880" y="914400"/>
            <a:ext cx="4114800" cy="837720"/>
            <a:chOff x="2666880" y="914400"/>
            <a:chExt cx="4114800" cy="837720"/>
          </a:xfrm>
        </p:grpSpPr>
        <p:sp>
          <p:nvSpPr>
            <p:cNvPr id="361" name=""/>
            <p:cNvSpPr/>
            <p:nvPr/>
          </p:nvSpPr>
          <p:spPr>
            <a:xfrm>
              <a:off x="4114800" y="914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newline characters to print on multiple lin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666880" y="106668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047760" y="1066680"/>
              <a:ext cx="10670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3352320" y="1066680"/>
              <a:ext cx="7621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809520" y="1066680"/>
              <a:ext cx="304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A1A6-9848-435B-8DDE-186C45AF9BF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 in memory where value can be st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integer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floating point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variables with name and data type before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teger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tege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declare several variables of same type in one decla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a-separa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teger1, integer2, s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8147-7660-4D9D-93C0-30E77C83BC4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es of characters (letters, digits, undersc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gin with di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sen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564F-F92D-4C71-BEE4-3D440DF1D1C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stream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tream extraction operator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s for user to input value, then pres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eturn)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s value in variable to right of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value to variable dat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ssignment oper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s value to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operator (two oper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variable1 + variabl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BB35-BF28-4C25-95A9-1926DB73997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6: fig01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ition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number to be input by user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cond number to be input by user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ariable in which sum will be sto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first integ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m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in &gt;&gt; integer1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ad a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second integ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m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in &gt;&gt; integer2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a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um = integer1 + integer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result to s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m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um &lt;&lt; std::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523880" y="1336680"/>
            <a:ext cx="4648320" cy="949320"/>
            <a:chOff x="1523880" y="1336680"/>
            <a:chExt cx="4648320" cy="949320"/>
          </a:xfrm>
        </p:grpSpPr>
        <p:sp>
          <p:nvSpPr>
            <p:cNvPr id="375" name=""/>
            <p:cNvSpPr/>
            <p:nvPr/>
          </p:nvSpPr>
          <p:spPr>
            <a:xfrm>
              <a:off x="3505320" y="13366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integer variab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057400" y="1523880"/>
              <a:ext cx="144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057400" y="152388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1523880" y="1523880"/>
              <a:ext cx="19814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676160" y="1981080"/>
            <a:ext cx="4115160" cy="838440"/>
            <a:chOff x="1676160" y="1981080"/>
            <a:chExt cx="4115160" cy="838440"/>
          </a:xfrm>
        </p:grpSpPr>
        <p:sp>
          <p:nvSpPr>
            <p:cNvPr id="380" name=""/>
            <p:cNvSpPr/>
            <p:nvPr/>
          </p:nvSpPr>
          <p:spPr>
            <a:xfrm>
              <a:off x="3124080" y="1981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stream extraction operator with standard input stream to obtain user in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1676160" y="2133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343400" y="3484440"/>
            <a:ext cx="4114800" cy="1067400"/>
            <a:chOff x="4343400" y="3484440"/>
            <a:chExt cx="4114800" cy="1067400"/>
          </a:xfrm>
        </p:grpSpPr>
        <p:sp>
          <p:nvSpPr>
            <p:cNvPr id="383" name=""/>
            <p:cNvSpPr/>
            <p:nvPr/>
          </p:nvSpPr>
          <p:spPr>
            <a:xfrm>
              <a:off x="5791320" y="348444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am manipul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::end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s a newline, then “flushes output buff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34340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828440" y="4543560"/>
            <a:ext cx="5677200" cy="1400040"/>
            <a:chOff x="1828440" y="4543560"/>
            <a:chExt cx="5677200" cy="1400040"/>
          </a:xfrm>
        </p:grpSpPr>
        <p:sp>
          <p:nvSpPr>
            <p:cNvPr id="386" name=""/>
            <p:cNvSpPr/>
            <p:nvPr/>
          </p:nvSpPr>
          <p:spPr>
            <a:xfrm>
              <a:off x="4838760" y="51195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catenating, chaining or cascading stream insertion opera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3543480" y="4543560"/>
              <a:ext cx="129528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2971800" y="4543560"/>
              <a:ext cx="186696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1828440" y="4543560"/>
              <a:ext cx="300996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676160" y="3400560"/>
            <a:ext cx="7086960" cy="1006560"/>
            <a:chOff x="1676160" y="3400560"/>
            <a:chExt cx="7086960" cy="1006560"/>
          </a:xfrm>
        </p:grpSpPr>
        <p:sp>
          <p:nvSpPr>
            <p:cNvPr id="391" name=""/>
            <p:cNvSpPr/>
            <p:nvPr/>
          </p:nvSpPr>
          <p:spPr>
            <a:xfrm>
              <a:off x="3124080" y="3400560"/>
              <a:ext cx="5639040" cy="1006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ations can be performed in output statements: alternative for lines 18 and 20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d::cout &lt;&lt; </a:t>
              </a:r>
              <a:r>
                <a:rPr b="1" lang="en-US" sz="1200" spc="-1" strike="noStrike">
                  <a:solidFill>
                    <a:srgbClr val="0099ff"/>
                  </a:solidFill>
                  <a:latin typeface="Courier New"/>
                  <a:ea typeface="Courier New"/>
                </a:rPr>
                <a:t>"Sum is "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&lt;&lt; integer1 + integer2 &lt;&lt; std::end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676160" y="35528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8ED0-9BA4-4847-9061-31A921B5811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first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cond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 is 1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C685E-8C94-4C0A-A0C3-11E3712CFFE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Memory Concep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rrespond to actual locations in computer's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variable has name, type, size and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new value placed into variable, overwrites previous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ing variables from memory nondestru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F762-EBA4-4E2D-B6E0-AAEC12D72BA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815080" y="2406600"/>
            <a:ext cx="2109600" cy="1022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15080" y="1219320"/>
            <a:ext cx="21096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15080" y="4038480"/>
            <a:ext cx="2109600" cy="1479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Memory Concep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d::cin &gt;&gt; integer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ume user entered 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d::cin &gt;&gt; integer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ume user entered 7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= integer1 + integer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890680" y="1371600"/>
            <a:ext cx="1957680" cy="321120"/>
            <a:chOff x="5890680" y="1371600"/>
            <a:chExt cx="1957680" cy="321120"/>
          </a:xfrm>
        </p:grpSpPr>
        <p:sp>
          <p:nvSpPr>
            <p:cNvPr id="403" name=""/>
            <p:cNvSpPr/>
            <p:nvPr/>
          </p:nvSpPr>
          <p:spPr>
            <a:xfrm>
              <a:off x="7251480" y="137160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57680" y="138888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90680" y="138744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89000" y="137160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890680" y="2527200"/>
            <a:ext cx="1957680" cy="321120"/>
            <a:chOff x="5890680" y="2527200"/>
            <a:chExt cx="1957680" cy="321120"/>
          </a:xfrm>
        </p:grpSpPr>
        <p:sp>
          <p:nvSpPr>
            <p:cNvPr id="408" name=""/>
            <p:cNvSpPr/>
            <p:nvPr/>
          </p:nvSpPr>
          <p:spPr>
            <a:xfrm>
              <a:off x="7251480" y="252720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57680" y="254448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890680" y="254304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89000" y="252720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890680" y="3000240"/>
            <a:ext cx="1957680" cy="321120"/>
            <a:chOff x="5890680" y="3000240"/>
            <a:chExt cx="1957680" cy="321120"/>
          </a:xfrm>
        </p:grpSpPr>
        <p:sp>
          <p:nvSpPr>
            <p:cNvPr id="413" name=""/>
            <p:cNvSpPr/>
            <p:nvPr/>
          </p:nvSpPr>
          <p:spPr>
            <a:xfrm>
              <a:off x="7251480" y="300024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57680" y="301752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90680" y="301608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89000" y="300024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890680" y="4159080"/>
            <a:ext cx="1957680" cy="321120"/>
            <a:chOff x="5890680" y="4159080"/>
            <a:chExt cx="1957680" cy="321120"/>
          </a:xfrm>
        </p:grpSpPr>
        <p:sp>
          <p:nvSpPr>
            <p:cNvPr id="418" name=""/>
            <p:cNvSpPr/>
            <p:nvPr/>
          </p:nvSpPr>
          <p:spPr>
            <a:xfrm>
              <a:off x="7251480" y="415908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57680" y="417636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90680" y="417492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89000" y="415908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890680" y="4616280"/>
            <a:ext cx="1957680" cy="321120"/>
            <a:chOff x="5890680" y="4616280"/>
            <a:chExt cx="1957680" cy="321120"/>
          </a:xfrm>
        </p:grpSpPr>
        <p:sp>
          <p:nvSpPr>
            <p:cNvPr id="423" name=""/>
            <p:cNvSpPr/>
            <p:nvPr/>
          </p:nvSpPr>
          <p:spPr>
            <a:xfrm>
              <a:off x="7251480" y="461628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57680" y="463356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90680" y="463212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89000" y="461628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458040" y="5089680"/>
            <a:ext cx="1390680" cy="320760"/>
            <a:chOff x="6458040" y="5089680"/>
            <a:chExt cx="1390680" cy="320760"/>
          </a:xfrm>
        </p:grpSpPr>
        <p:sp>
          <p:nvSpPr>
            <p:cNvPr id="428" name=""/>
            <p:cNvSpPr/>
            <p:nvPr/>
          </p:nvSpPr>
          <p:spPr>
            <a:xfrm>
              <a:off x="7251840" y="5089680"/>
              <a:ext cx="596880" cy="301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58040" y="5106600"/>
              <a:ext cx="630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77200" y="5105160"/>
              <a:ext cx="51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389720" y="508968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A154-76A6-4AC4-BCD4-FA7E48B4D82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of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ing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s information from input de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board, mouse, microphone, scanner, network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ping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information processed by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s information on outpu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een, printer, networks,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used to control other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00F2-C5CB-4314-988A-A0EFBB1EA0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division truncates rema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/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us operator returns remain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%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1D0F-862C-4578-8EE0-A1CDDA8C0E5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of operator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s in parentheses evaluated fir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/embedded paren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in innermost pair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ication, division, modulus applied n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applied from left to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ition, subtraction applied 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applied from left to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33240" y="4108320"/>
          <a:ext cx="782496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4108320"/>
                    <a:ext cx="78249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FACE-BC64-4143-B844-2F93B22B44A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5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 decision based on truth or falsity of con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ondition met, body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, body not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ity and relation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ality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level of prece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onal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level of prece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e left to r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B30D-EC1D-4097-9C5B-521E4E1F69A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5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-1295280" y="1447920"/>
          <a:ext cx="11734560" cy="44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95280" y="1447920"/>
                    <a:ext cx="117345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9E5C-ACD8-4024-9605-21E2F6C5A38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5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iminate us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ef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2323-9BE7-45E5-B78A-C4FC11E45AF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14: fig01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if statements, relation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perators, and equality op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uses c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uses c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uses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number to be read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cond number to be read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wo integers, and I will tell you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relationships they satisf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num1 &gt;&gt; num2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two integ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== num2 )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equal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!=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not equal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905120" y="1371240"/>
            <a:ext cx="4991040" cy="657360"/>
            <a:chOff x="1905120" y="1371240"/>
            <a:chExt cx="4991040" cy="657360"/>
          </a:xfrm>
        </p:grpSpPr>
        <p:sp>
          <p:nvSpPr>
            <p:cNvPr id="448" name=""/>
            <p:cNvSpPr/>
            <p:nvPr/>
          </p:nvSpPr>
          <p:spPr>
            <a:xfrm>
              <a:off x="4229280" y="1447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s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s eliminate ne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refi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1905120" y="1600200"/>
              <a:ext cx="23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1905120" y="1371240"/>
              <a:ext cx="2324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1905120" y="1600200"/>
              <a:ext cx="23241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990360" y="2670120"/>
            <a:ext cx="4305600" cy="1292400"/>
            <a:chOff x="990360" y="2670120"/>
            <a:chExt cx="4305600" cy="1292400"/>
          </a:xfrm>
        </p:grpSpPr>
        <p:sp>
          <p:nvSpPr>
            <p:cNvPr id="453" name=""/>
            <p:cNvSpPr/>
            <p:nvPr/>
          </p:nvSpPr>
          <p:spPr>
            <a:xfrm>
              <a:off x="2629080" y="2670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wri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ou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refi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1181160" y="2822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990360" y="2822400"/>
              <a:ext cx="1638360" cy="11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1599840" y="2038320"/>
            <a:ext cx="3200760" cy="1085760"/>
            <a:chOff x="1599840" y="2038320"/>
            <a:chExt cx="3200760" cy="1085760"/>
          </a:xfrm>
        </p:grpSpPr>
        <p:sp>
          <p:nvSpPr>
            <p:cNvPr id="457" name=""/>
            <p:cNvSpPr/>
            <p:nvPr/>
          </p:nvSpPr>
          <p:spPr>
            <a:xfrm>
              <a:off x="3124080" y="2038320"/>
              <a:ext cx="1676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variab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676160" y="2190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599840" y="2190600"/>
              <a:ext cx="152388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676160" y="3508200"/>
            <a:ext cx="4115160" cy="838440"/>
            <a:chOff x="1676160" y="3508200"/>
            <a:chExt cx="4115160" cy="838440"/>
          </a:xfrm>
        </p:grpSpPr>
        <p:sp>
          <p:nvSpPr>
            <p:cNvPr id="461" name=""/>
            <p:cNvSpPr/>
            <p:nvPr/>
          </p:nvSpPr>
          <p:spPr>
            <a:xfrm>
              <a:off x="3124080" y="35082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ucture compares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est for equali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676160" y="36608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895480" y="3768840"/>
            <a:ext cx="4114800" cy="838080"/>
            <a:chOff x="2895480" y="3768840"/>
            <a:chExt cx="4114800" cy="838080"/>
          </a:xfrm>
        </p:grpSpPr>
        <p:sp>
          <p:nvSpPr>
            <p:cNvPr id="464" name=""/>
            <p:cNvSpPr/>
            <p:nvPr/>
          </p:nvSpPr>
          <p:spPr>
            <a:xfrm>
              <a:off x="4343400" y="37688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condition is true (i.e., values are equal), execute this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895480" y="3921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676160" y="4191120"/>
            <a:ext cx="4115160" cy="837720"/>
            <a:chOff x="1676160" y="4191120"/>
            <a:chExt cx="4115160" cy="837720"/>
          </a:xfrm>
        </p:grpSpPr>
        <p:sp>
          <p:nvSpPr>
            <p:cNvPr id="467" name=""/>
            <p:cNvSpPr/>
            <p:nvPr/>
          </p:nvSpPr>
          <p:spPr>
            <a:xfrm>
              <a:off x="3124080" y="4191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ucture compares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est for inequali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676160" y="434340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895480" y="4419720"/>
            <a:ext cx="4114800" cy="838080"/>
            <a:chOff x="2895480" y="4419720"/>
            <a:chExt cx="4114800" cy="838080"/>
          </a:xfrm>
        </p:grpSpPr>
        <p:sp>
          <p:nvSpPr>
            <p:cNvPr id="470" name=""/>
            <p:cNvSpPr/>
            <p:nvPr/>
          </p:nvSpPr>
          <p:spPr>
            <a:xfrm>
              <a:off x="4343400" y="4419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condition is true (i.e., values are not equal), execute this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2895480" y="4572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3320E-B637-4FC1-8FF7-13F2F3F57EB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lt;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less tha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gt;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greater tha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lt;=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less than or equal to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gt;=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is greater than or equal to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88620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lationships they satisfy: 22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 is not equal to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 is greater than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2 is greater than or equal to 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952880" y="1066680"/>
            <a:ext cx="4114800" cy="838440"/>
            <a:chOff x="4952880" y="1066680"/>
            <a:chExt cx="4114800" cy="838440"/>
          </a:xfrm>
        </p:grpSpPr>
        <p:sp>
          <p:nvSpPr>
            <p:cNvPr id="476" name=""/>
            <p:cNvSpPr/>
            <p:nvPr/>
          </p:nvSpPr>
          <p:spPr>
            <a:xfrm>
              <a:off x="640080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ements may be split over several lin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95288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72F5-292D-450E-ABCB-DA8295D808A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, and I will tell you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lationships they satisfy: 7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is equal to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is less than or equal to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is greater than or equal to 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70A8-82E0-4CB2-ACFB-0BC18719164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oriented programming (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real-world objects with software counterp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ibutes (state) - properties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, shape, color, weigh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haviors (operations) - 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all rolls, bounces, inflates and def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can perform actions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of objects absorb characteristics from existing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apsulate data 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h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e across well-defined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2F1A-FDAA-4E15-9282-7291DE493A8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-defined types (classes, compon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components of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components of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e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5B99-6125-4162-8184-2225CF6953C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of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u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ccess, relatively low capacity “warehouse” s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ns information from input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ediately available for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ns processed in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l placed on outpu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, primar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hmetic and logic unit (ALU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ufacturing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arithmetic calculations and logic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667D-D5FA-4E00-A975-409EB0A6F3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analysis and design (OOAD)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alysis of project’s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 for satisfying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eudoc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l means of expressing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line to guid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7E11-9EDD-4444-AAC3-1FDA8B1B45E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ied Modeling Language (U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001: Object Management Group (OM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ased UML version 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object-oriented systems and aid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of many OOAD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tandard set of 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, feature-rich graphical langua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0DDD-46ED-4E06-A042-F5D7355F030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of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 processing unit (CPU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ve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vises and coordinates other sections of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ary storage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-term, high-capacity “warehouse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ctive programs o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 storage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er to access than primar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expensive per unit than primar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EC77-DA10-45FD-809D-271F33BC6C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4 Evolution of Operating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user batch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one job or task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data in groups (batch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ks of punched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e transitions between jo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ed through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 of work computers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D329-3A48-43CE-837A-740540B1EB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4 Evolution of Operating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jobs or tasks sharing computer’s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taneous” operation of many jo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60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case of multi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s access computer through termin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ces with keyboards and scre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zens, even hundreds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small portion of one user’s job, then moves on to service next 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tag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receives almost immediate responses to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189D-7184-4B70-B84A-1094ECCD7A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20:42:50Z</dcterms:created>
  <dc:creator>Audrey Lee</dc:creator>
  <dc:description/>
  <dc:language>en-US</dc:language>
  <cp:lastModifiedBy>Pearson Education</cp:lastModifiedBy>
  <dcterms:modified xsi:type="dcterms:W3CDTF">2002-08-01T20:29:32Z</dcterms:modified>
  <cp:revision>147</cp:revision>
  <dc:subject/>
  <dc:title>Chapter 1 – Introduction to Computers and C++ Programming</dc:title>
</cp:coreProperties>
</file>