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18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180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9296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50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9296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50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180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180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18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180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18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853160" y="3176640"/>
            <a:ext cx="47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ità degli Studi di Parm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40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agionamen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n conoscenza incer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101592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gola di Bayes</a:t>
            </a:r>
            <a:br>
              <a:rPr sz="36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binazione delle pro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22840" indent="-222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pponiamo di avere due probabilità condizionate relative alla carie (ci sono due sintomi per la carie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arie|MalDi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arie|Colpi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lpi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Il dente fa male se colpito dal sondino del dentis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remo interessati a conoscere la probabilita` della Carie dati Mal Di Denti e Colpi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arie|Mal Di Denti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lpi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ssia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are la distribuzione delle probabilità congiunt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are la regola di Bay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arie|Mal Di Denti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lpi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al Di Denti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lpire|Car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ar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/ P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al Di Denti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lpi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biamo cioe` bisogno di conoscere le probabilita` condizionali d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al Di Denti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lpi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o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Carie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 n sintomi avrei n*n copp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gola di Bayes</a:t>
            </a:r>
            <a:br>
              <a:rPr sz="36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ggiornamento Bayesia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incorpora un pezzo di prova alla vol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iziamo a considerare il mal di denti applican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e|MalDiD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al Di Denti|Car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/ 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al Di D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ideriamo adess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lpi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e|Mal Di D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lpi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e|MalDiD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lpi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al Di D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/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lpire|Mal Di D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(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al Di Denti|Car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/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al Di D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) 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 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lpire|Mal Di D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) /P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lpire|Mal Di D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’ osservazione di ogni nuovo sintomo la credenza della variabile ignota e’ moltiplicata da un fattore contenente il nuovo sin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via il fattore di moltiplicazione dipende anche dai sintomi gia` considerati in preced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gola di Bayes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dipendenza condiziona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ssiamo pensare ch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l Di D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Colpi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ano ambedue causati dall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ari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siano indipendenti fra lor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lpire|Carie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Mal Di Denr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= P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lpire|Cari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l Di Denti|Carie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Colpi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l Di Denti|Cari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o ca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arie|Mal Di D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lpi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ari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(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l Di Denti|Cari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/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l Di D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) 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 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lpire|Mal Di D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a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) /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lpire|Mal Di D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)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ari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(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l Di Denti|Cari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/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l Di D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) 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 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lpire|Cari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/P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lpire|Mal Di D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o un dominio, se abbiamo a disposizione la distribuzione delle probabilità congiunte, possiamo rispondere ad ogni domanda che lo riguard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via il dominio diventa intrattabile al crescere del numero delle varia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uso della regola di Bayes e della relazione di indipendenza condizionale può permettere d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lificare il calcolo di una risposta ad una domand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durre il numero di probabilità condizionate necessari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ttenere ciò viene usata una struttura dati detta rete Bayesian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rete Bayesiana ha le seguenti proprietà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nodo rappresenta una variabile casual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nodi sono connessi da archi indicanti le influenze tra i nod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nodo ha una tabella delle probabilità condizionate che quantificano gli effetti che i nodi genitori hanno sul nod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te è un grafo aciclic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8440" y="4578480"/>
            <a:ext cx="82548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urg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92480" y="5416560"/>
            <a:ext cx="97776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59080" y="5111640"/>
            <a:ext cx="8258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16480" y="4578480"/>
            <a:ext cx="93996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John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16480" y="5492880"/>
            <a:ext cx="93996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ry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9560" y="5348160"/>
            <a:ext cx="96372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90760" y="4890960"/>
            <a:ext cx="811440" cy="20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95880" y="4865400"/>
            <a:ext cx="963720" cy="2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67080" y="5322600"/>
            <a:ext cx="735120" cy="2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21080" y="2139840"/>
            <a:ext cx="82548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urg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44760" y="2978280"/>
            <a:ext cx="97776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87680" y="2597040"/>
            <a:ext cx="8258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69120" y="2139840"/>
            <a:ext cx="939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John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69120" y="3054240"/>
            <a:ext cx="939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ry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2200" y="2909880"/>
            <a:ext cx="96336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43400" y="2452680"/>
            <a:ext cx="811080" cy="20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48160" y="2427120"/>
            <a:ext cx="963720" cy="2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19360" y="2884320"/>
            <a:ext cx="735120" cy="2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11280" y="4483080"/>
          <a:ext cx="78732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4483080"/>
                    <a:ext cx="7873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34960" y="5397480"/>
          <a:ext cx="7876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4960" y="5397480"/>
                    <a:ext cx="787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91120" y="3898800"/>
          <a:ext cx="1511280" cy="119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898800"/>
                    <a:ext cx="151128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7264440" y="4394160"/>
          <a:ext cx="115560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64440" y="4394160"/>
                    <a:ext cx="11556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264440" y="5460840"/>
          <a:ext cx="1155600" cy="81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64440" y="5460840"/>
                    <a:ext cx="11556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una rete bayesiana possiamo calcolare ogni elemento della distribuzione delle probabilità congiunte attraverso la form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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| Parents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indi la probabilità che l’allarme suoni senza intrusione o terremoto e che entrambi John e Mary abbiano chiamino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J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) = P(J|A)P(M|A)P(A|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)P(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P(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0.90 x 0.70 x 0.001 x 0.999 x 0.998 = 0.0006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sando la definizione di probabilità condizionata si ha ch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= P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... P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P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è equivalente 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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|Parents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ents(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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 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}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oè una rete bayesiana è una corretta rappresentazione se un suo nodo è condizionatamente indipendente dai nodi che lo precedono nell’ordine dei no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cedura generale per costruire una rete Bayesiana è la segu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gliere le variabili che definisco il dominio del problem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gliere un ordine per le variabil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nché ci sono variabili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ndere la prima variabile e aggiungere il nodo corrispondente alla ret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re al nodo l’insieme minimo dei nodi già nella rete da cui il nodo dipend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re la tabella delle probabilità condizionate per il nodo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efinizione delle tabelle delle probabilità condizionate può richiedere un gran tempo se le relazioni tra i nodi sono del tutto arbitrari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esso tuttavia possono essere rappresentate attraverso delle distribuzioni canonich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lazioni deterministiche, i nodi figli assumono i valori dei nodi genitori senza nessuna aggiunta di incertez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lazioni noisy-OR, se un nodo E  (effetto) dipende solo dai nodi elencati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cause) e questi sono indipendenti, indicando con il nome di noise parameter P(NP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) = 1 - P(E|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) si ha ch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E) = 0 se le cause sono tutte fals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E) = 1 -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:c</a:t>
            </a:r>
            <a:r>
              <a:rPr b="0" lang="it-IT" sz="1200" spc="-1" strike="noStrike" baseline="-60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 baseline="-6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=tru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NP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robabilit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abilità incondizionata o a priori P(A) è la probabilità che la proposizione A sia ve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abilità condizionata o a posteriori P(A| B) è la probabilità che A sia vera dato B vero. P(A| B) si può essere definita co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(A| B) = P(A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) / P(B) per P(B) &gt; 0 che si può scrive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= P(A| B)P(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teoria delle probabilità si basa sui seguenti assiom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A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True) = 1 allora P(False)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= P(A) + P(B) - P(A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da cui segue P(A) = 1 - P(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ano (fra parentesi gli ‘inibitori’ o parametri di rumore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Fever|Cold) = 0.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0.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Fever|Flu) = 0.8 (0.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Fever|Malaria) = 0.9 (O.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niamo che esse siano le uniche possibili cause (Per un nodo di uscita faso si moltiplicano tutti I parametri di rumore dei nodi ver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981080" y="3657600"/>
          <a:ext cx="500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500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349880" y="4578480"/>
            <a:ext cx="7491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9560" y="4578480"/>
            <a:ext cx="74916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9840" y="4578480"/>
            <a:ext cx="74952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poter fare delle inferenze può essere utile sapere se due insiemi di nodo X e Y sono indipendenti tra loro dato un set di un set di osservazioni 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o è possibile grazie al metodo della separazione della dipendenza diretta detta anche d-separ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8440" y="4654440"/>
            <a:ext cx="29232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8440" y="5187960"/>
            <a:ext cx="29232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8440" y="5721480"/>
            <a:ext cx="29232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2840" y="4654440"/>
            <a:ext cx="29232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82840" y="5187960"/>
            <a:ext cx="29232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82840" y="5721480"/>
            <a:ext cx="29232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7600" y="4800600"/>
            <a:ext cx="4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57600" y="5867280"/>
            <a:ext cx="4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57600" y="5334120"/>
            <a:ext cx="4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8480" y="4654440"/>
            <a:ext cx="29196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8480" y="51879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8480" y="572148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73760" y="4654440"/>
            <a:ext cx="29196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73760" y="51879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73760" y="572148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8160" y="4654440"/>
            <a:ext cx="29196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8160" y="51879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8160" y="572148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2560" y="4800600"/>
            <a:ext cx="4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62560" y="5867280"/>
            <a:ext cx="4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62560" y="5334120"/>
            <a:ext cx="4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72000" y="4800600"/>
            <a:ext cx="73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3600" y="4800600"/>
            <a:ext cx="73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3600" y="5334120"/>
            <a:ext cx="73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72000" y="5867280"/>
            <a:ext cx="73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43600" y="5867280"/>
            <a:ext cx="73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5334120"/>
            <a:ext cx="73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7960" y="6026040"/>
            <a:ext cx="29196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44960" y="6102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331880" y="6033960"/>
            <a:ext cx="252360" cy="12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90960" y="6033960"/>
            <a:ext cx="201600" cy="4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3920" y="5715000"/>
            <a:ext cx="30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18960" y="59436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38680" y="59436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29000" y="5334120"/>
            <a:ext cx="30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6520" y="4648320"/>
            <a:ext cx="41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6520" y="5181480"/>
            <a:ext cx="41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6520" y="5715000"/>
            <a:ext cx="41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una rete Bayesiana possiamo fare diversi tipi di infer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erenza diagnostica (dagli effetti alle cau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Burglary|JohnCalls) = 0.0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erenza causale (dalle cause agli effett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JohnCalls|Burglary) = 0.8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MaryCalls|Burglary) = 0.6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erenza intercausale (tra le cause di un effetto comu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Burglary|Alarm) = 0.37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Burglary|Alarm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arthquake) = 0.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erenza mista (combinazione delle inferenze precedent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Alarm|JohnCalls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arthquake) = 0.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stono vari algoritmi per fare delle inferenze nelle reti Bayesia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an parte di questi algoritmi possono essere applicati solo su reti in cui esiste un unico percorso per unire due nodi (polytre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412128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63880" y="4883040"/>
            <a:ext cx="29196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82840" y="4730760"/>
            <a:ext cx="29232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7040" y="5645160"/>
            <a:ext cx="29232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55840" y="4425840"/>
            <a:ext cx="31752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8280" y="4425840"/>
            <a:ext cx="29196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92480" y="5264280"/>
            <a:ext cx="2919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889000" y="5111640"/>
            <a:ext cx="39348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o degli algoritmi più utilizzati calcola una probabilità P(X|E) scomponendo il contributo delle evidenze E 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tributo causale, dovuto a evidenze connesse a X tramite i genitori di X, 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tributo evidenziale, dovuto a evidenze connesse a X tramite i figli di 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di potrò scrive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|E) = P(X|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 P(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X,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P(X|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P(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o che X d-separa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lora possiamo scrive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|E)  = P(X|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 P(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X,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P(X|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P(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(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X)P(X|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/ P(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X)P(X|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ti Bayesi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si può ragionare con reti che non sono polytre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diti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ochastic simulation: se le probabilità a priori e le probabilità condizionate di una rete sono corrette dopo un ciclo infinito di simulazioni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8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D|A) = P(A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) / P(A) = Occ(A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) / Occ(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11440" y="3054240"/>
            <a:ext cx="29232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73560" y="3968640"/>
            <a:ext cx="29196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3560" y="45021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8840" y="3054240"/>
            <a:ext cx="29232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9880" y="2978280"/>
            <a:ext cx="6728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+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92680" y="3117600"/>
            <a:ext cx="368280" cy="8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1640" y="3124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35680" y="42735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11440" y="3892680"/>
            <a:ext cx="36828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11440" y="4425840"/>
            <a:ext cx="36828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92680" y="41148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4440" y="4197240"/>
            <a:ext cx="292320" cy="13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54440" y="4489560"/>
            <a:ext cx="29232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92680" y="46483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9560" y="3968640"/>
            <a:ext cx="29196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9560" y="45021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21680" y="42735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7440" y="3892680"/>
            <a:ext cx="36828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7440" y="4425840"/>
            <a:ext cx="36828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8680" y="41148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0440" y="4197240"/>
            <a:ext cx="292320" cy="13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940440" y="4489560"/>
            <a:ext cx="292320" cy="16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8680" y="46483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Gli assiomi sono ragionevoli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i i tre eventi: A, B e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) se seguiamo la logica, uno dei tre deve essere falso e quindi è irragionevole credere a tutti e t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assegniamo i seguenti valori si violano gli assiom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A) =0.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B) = 0.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= 0.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atti: P(A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= P(A) + P(B) - P(A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91120" y="3657600"/>
            <a:ext cx="4038480" cy="1752480"/>
            <a:chOff x="4191120" y="3657600"/>
            <a:chExt cx="4038480" cy="1752480"/>
          </a:xfrm>
        </p:grpSpPr>
        <p:sp>
          <p:nvSpPr>
            <p:cNvPr id="47" name=""/>
            <p:cNvSpPr/>
            <p:nvPr/>
          </p:nvSpPr>
          <p:spPr>
            <a:xfrm>
              <a:off x="4724640" y="3962160"/>
              <a:ext cx="1523880" cy="12189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19920" y="3962160"/>
              <a:ext cx="1523880" cy="12189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3657600"/>
              <a:ext cx="4038480" cy="1752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 rot="5400000">
              <a:off x="4871880" y="3814200"/>
              <a:ext cx="352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 rot="5400000">
              <a:off x="7310160" y="3890520"/>
              <a:ext cx="352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stribuzione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 probabilità congiun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no 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.. 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un insieme di variabili che mi definiscono un modello probabilistico del dominio in cui op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co con il nome d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evento atomic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’assegnamento di un particolare valore a tutte le varia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istribuzione delle probabilità congiunte P(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.. 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assegna le probabilità a tutti i possibili eventi atom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zione della probabilita` congiun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438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876920" y="1676520"/>
          <a:ext cx="4572000" cy="297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676520"/>
                    <a:ext cx="457200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3520" y="1828800"/>
            <a:ext cx="35812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mpio: due variabili boolea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ie e Mal Di 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971800"/>
            <a:ext cx="861084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mare lungo una riga o lungo una colonna fornisce la probabilita` incondizionata: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04 + 0.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ure: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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al Di Den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0.04 + 0.01 + 0.06 = 0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ssiamo trovare le probabilita`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diziona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a quel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giu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ari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al Di Den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ari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al Di Denti)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 P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al Di Den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.04 / ( 0.04 + 0.01) = 0.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gola di Bay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e le due for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= P(A| B)P(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) = P(B| A)P(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guagliando e dividendo per P(A) otteniamo la probabilità che l’evento B sia vero dato 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B| A) = P(A| B)P(B) / P(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a forma indica La regola può essere estesa al caso siano dati per veri più eventi, ad esempio, A ed 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B| A,E) = P(A| B,E)P(B|E) / P(A|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gola di Bay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uo` legare conoscenza causale e diagnos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, un medico sa che la meningite induce nel 50% dei casi un irrigidimento del collo (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oscenza caus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osce anche la probabilita` incondizionate di avere un irrigidimento del collo e’ di 1/20 e per la mengite di 1/50000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S) = 0.05 la probabilità che un paziente abbia un irrigidimento del coll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M) = 0.00002 la probabilità che un paziente abbia la meningit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S|M) = 0.5 la probabilità che un paziente con abbia un irrigidimento del collo data la meningite 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egola di Bayes permette di calcolare la probabilità che un paziente abbia la meningite in presenza di un irrigidimento del collo (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oscenza diagnostic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M|S) = P(S|M) P(M) / P(S) = 0.5 x 0.00002 / 0.05 = 0.000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gola di Bay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pponiamo che in alternativa alla meningite, il paziente possa avere un irrigidimento del collo per un colpo di frus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bbiamo le due equazion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M|S) = P(S| M)P(M) / P(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W|S) = P(S| W)P(W) / P(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frontando le due equazioni possiamo calcolare la probabilità relativ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M|S) / P(W|S)= P(S| M)P(M) / P(S| W)P(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pe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S|W) = 0.8 e P(W) = 0.001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sume il valo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M|S) / P(W|S)= 0.5 x 0.00002 / (0.8 x 0.001) = 1 / 8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ssiamo interpretare questo valore come la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verosimiglianza relativ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a meningite e del colpo di frusta dato un irrigidimento del co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gola di Bay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abbiamo un insieme esaustivo dei casi e’ possibile calcolare P(M|S)=P(S|M) P(M)/P(S) senza conoscere la probabilita` a priori del sintomo P(S).  Tenendo conto ch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 S) = P(S| M)P(M) + P(S|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)P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egola di Bay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M| S) = P(S| M)P(M) / P(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uò anche scrivere nella form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M| S) = P(S| M)P(M) /(P(S| M)P(M) + P(S|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)P(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disponiamo di P(S|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) possiamo evitare di calcolare direttamente P(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5T16:29:33Z</dcterms:created>
  <dc:creator>Agostino Poggi</dc:creator>
  <dc:description/>
  <dc:language>en-US</dc:language>
  <cp:lastModifiedBy>Dario Bianchi</cp:lastModifiedBy>
  <dcterms:modified xsi:type="dcterms:W3CDTF">2002-05-15T15:54:00Z</dcterms:modified>
  <cp:revision>13</cp:revision>
  <dc:subject/>
  <dc:title>                Università degli Studi di Parma      </dc:title>
</cp:coreProperties>
</file>