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4D8-9E89-41A5-8A37-2E7167DB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A0B-ECD9-4BEB-9F30-8ADD7F26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590-CB8C-49CB-8FFD-E9ADD6D7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E91-AEB2-478A-95E8-C0B32FEE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68E-C7BA-401F-A988-E46BCCB4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EFD-A428-4C92-99B5-0AA4F00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AC7-807A-4ED7-BB81-79AE1CE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3B7-B45E-4266-BB77-492774D6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ECE-C006-4FFE-BEE7-DEDCDD42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6DE-8CD8-4627-8D4F-A761E43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7AE-3BE6-41A3-890A-24BE0D1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42B-EB8E-4B5D-B92D-0E6CECF3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5766-C13D-4239-81F5-43297A85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oscenza e ragion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52280" y="457200"/>
                <a:ext cx="52675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genti Logic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Mario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Luc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può chiede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risposta sarà s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risposta sarà: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Mario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ppure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Luc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" name="fig07_02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43340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fig07_0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477040" cy="5114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248520" y="1371600"/>
            <a:ext cx="2895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 calcolo delle situazioni, il mondo è una sequenza di azioni collegate da 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6200" y="5867280"/>
                <a:ext cx="8293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</m:t>
                        </m:r>
                        <m:r>
                          <m:t xml:space="preserve">,</m:t>
                        </m:r>
                        <m:r>
                          <m:t xml:space="preserve">[</m:t>
                        </m:r>
                        <m:r>
                          <m:t xml:space="preserve">1,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</m:t>
                        </m:r>
                        <m:r>
                          <m:t xml:space="preserve">,</m:t>
                        </m:r>
                        <m:r>
                          <m:t xml:space="preserve">[</m:t>
                        </m:r>
                        <m:r>
                          <m:t xml:space="preserve">2,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isult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vanz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Risult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r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r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Risult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vanz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06668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e stimolo -ri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presentiamo una percezione come una li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cezione([Fetore,Brezza,Luccichio],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cezione([Nulla,Nulla,Nulla]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ioni: Avanza, Gira(Destra), Gira(Sinistra), Afferra, Spara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14400" y="3886200"/>
                <a:ext cx="640080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gole stimolo - risposta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ercezione</m:t>
                        </m:r>
                        <m:r>
                          <m:t xml:space="preserve">(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cichio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llOro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AllOro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zio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fferra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terrogazione KB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Azione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isposta: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fferr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olo delle situ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09480" y="1219320"/>
                <a:ext cx="8153640" cy="45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iomi degli effetti 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ffetto delle azioni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 è una situazione, a una azione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s Detie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sult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fferra,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Detie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sult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lascia,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iomi di frame 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ò che non cambia nel mondo dopo l'azione a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Detien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Rilascia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etie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sult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Detien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fferra</m:t>
                        </m:r>
                        <m:r>
                          <m:t xml:space="preserve">⇒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Detie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sult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ien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ignifica che l'agente ha l'oro nella situazione 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3880" y="685800"/>
                <a:ext cx="6019920" cy="57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l,s 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,l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Brezz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Ventos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l,s 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,l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Feto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etid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gole causali: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l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umpus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Adiacente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etid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l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uc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Adiacente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Ventos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l,s 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,l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Feto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etid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gole diagnostiche: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l,s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Brezz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Ventos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l,s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Feto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etid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 dedurre la presenza di un Wumpus: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s </m:t>
                        </m:r>
                        <m:r>
                          <m:rPr>
                            <m:lit/>
                            <m:nor/>
                          </m:rPr>
                          <m:t xml:space="preserve">Fetida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umpus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Adiacente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durre che una locazione è sicura: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l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,g,s </m:t>
                        </m:r>
                        <m:r>
                          <m:rPr>
                            <m:lit/>
                            <m:nor/>
                          </m:rPr>
                          <m:t xml:space="preserve">Percezione</m:t>
                        </m:r>
                        <m:r>
                          <m:t xml:space="preserve">(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ull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ulla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nte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Adiacente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curo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6520" y="22860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85800"/>
            <a:ext cx="853416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ogica dei predicati del primo ordine permette di rappresent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getti: persone, cose, numer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zioni: fratello, maggiore, parte d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à: rosso, primo, grand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: successore, somma, padre d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o più due uguale tre” - uno,due,tre sono oggetti, più è una funzione, uguale è un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diabolico Re Giovanni imperversò in Inghilterra nel 1200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ovanni, Inghilterra e 1200 sono oggetti, imperversò è una relazione, re e diabolico sono proprietà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79440"/>
            <a:ext cx="85341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costante: A,B,C,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predicato: Tondo, Frat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funzione: Padre_di, Quad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in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imboli di costante sono termini es. 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ndo una funzione n-adica a una n-pla di termini si ottiene un termine es. Padre_di(Giov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ule atomic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ormata da un simbnolo di predicato seguito da una lista di termini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tello(Riccardo,Giov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sati(Madre_di(Riccardo),Padre_di(Riccardo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279440"/>
            <a:ext cx="85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ule comples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ottengono dalle formule atomiche usando i connetivi logi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71800" y="2362320"/>
                <a:ext cx="2895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⇒</m:t>
                    </m:r>
                    <m:r>
                      <m:t xml:space="preserve">,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3200400"/>
                <a:ext cx="7924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ccard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iccard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ùGrand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PiùGiova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ig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ùGrand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PiùGiova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066680"/>
            <a:ext cx="80769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dare un significato a una formula bisogna interpretarla come una affermazione sul dominio del disco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minio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insieme non vuoto (anche infinito) ad es. Insieme di persone, l’insieme dei natural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pret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 ottiene associ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simbolo costante un elemento 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simbolo di funzione una funzione s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predicato n-ario una relazione n-aria s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formula atomica si assegnare un valo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formula complessa si assegna un valo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tilizzando le tavole di ve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066680"/>
            <a:ext cx="80769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mpio di interpre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a data la 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a,f(b,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possibile interpretazione è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il dominio degli int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a funzi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a relazi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ggior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questa interpretazione si afferma che: 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è maggiore di 4 +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.In questa interpretazione la formula ha valo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a seconda interpretazione possiamo di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11e la formula assume valore v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5800" y="2819520"/>
                <a:ext cx="66499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33520" y="15238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icat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niamo che P sia la relazione MaggioreUg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0760" y="4038480"/>
            <a:ext cx="5606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icat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istenzi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niamo che Q sia una qualche propri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057400" y="5486400"/>
                <a:ext cx="33465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43000" y="1600200"/>
                <a:ext cx="5684760" cy="460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uantificatori annidati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'elemento y che esiste dipende a 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lgono le segeunti equivalenze</m:t>
                        </m:r>
                      </m:e>
                      <m:e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3840" y="882720"/>
                <a:ext cx="8280360" cy="453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ENTELE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d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emmina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igli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n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inferisc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7:10:17Z</dcterms:created>
  <dc:creator>Dario Bianchi</dc:creator>
  <dc:description/>
  <dc:language>en-US</dc:language>
  <cp:lastModifiedBy>Dario Bianchi</cp:lastModifiedBy>
  <cp:lastPrinted>1999-03-17T18:13:09Z</cp:lastPrinted>
  <dcterms:modified xsi:type="dcterms:W3CDTF">1999-04-28T15:49:16Z</dcterms:modified>
  <cp:revision>9</cp:revision>
  <dc:subject/>
  <dc:title>No Slide Title</dc:title>
</cp:coreProperties>
</file>