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F8D-EDA8-4874-8536-C06FD789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6C6-E111-481C-B771-8AB3D0A2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9EB-B05D-4E8C-AFD3-BF9C5C9D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E71B-26AD-4193-AA5D-52A4A7D2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1FE-35C1-4E27-9907-343DF296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8011-05EC-4ABF-AEBF-D441DDCA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D37-2E67-45E7-84BA-EE87629D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2B2-6B57-47AF-88AD-98A4D725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928-5F3C-4F19-B05A-05CCD5FE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E5A-7719-41B1-97BF-768007B5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67A-3C50-4582-9F2A-DBDB8DF3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754-C50E-4CB0-9574-2AA65AD0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89E2-595F-44B5-9D60-6DB2818B9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05596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oscenza e ragion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352680" y="1066680"/>
                <a:ext cx="201312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B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066680" y="1752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base di conoscenza K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562720" y="18288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1143000" y="213372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 e solo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vero in tutti I mondi dobe KB è v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523880" y="274320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838080" y="32767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. La KB contenente “I Giants hanno vinto” e “I Reds hanno vinto” implica “Sia I Giants che I Reds hanno vi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fig06_05" descr=""/>
          <p:cNvPicPr/>
          <p:nvPr/>
        </p:nvPicPr>
        <p:blipFill>
          <a:blip r:embed="rId1"/>
          <a:stretch/>
        </p:blipFill>
        <p:spPr>
          <a:xfrm>
            <a:off x="1371600" y="4191120"/>
            <a:ext cx="65818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er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7524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roposizione     può essere derivata dal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 la procedur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362320" y="18288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200400" y="1066680"/>
                <a:ext cx="22096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B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−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57200" y="2514600"/>
            <a:ext cx="8077320" cy="52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rocedur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et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ni volta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anche vero 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rocedur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ni volta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anche vero 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14600" y="3124080"/>
                <a:ext cx="2286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B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−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666880" y="5791320"/>
                <a:ext cx="22100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B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−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743200" y="5181480"/>
                <a:ext cx="201312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B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90920" y="3886200"/>
                <a:ext cx="20127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B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 proposizionale - Sint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51460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371600"/>
            <a:ext cx="83818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simboli           e le costanti                     sono proposizi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      è una proposizione anche         è una proposi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    e        sono proposizioni anche               è una proposi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    e        sono proposizioni anche               è una proposi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    e        sono proposizioni anche               è una proposi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    e        sono proposizioni anche               è una proposi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752480" y="1447920"/>
                <a:ext cx="60984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038480" y="1447920"/>
                <a:ext cx="1179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u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914400" y="1981080"/>
                <a:ext cx="299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914400" y="2438280"/>
                <a:ext cx="3510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511280" y="2438280"/>
                <a:ext cx="3780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105520" y="2514600"/>
                <a:ext cx="9810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838080" y="3048120"/>
                <a:ext cx="3510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838080" y="3581280"/>
                <a:ext cx="3510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838080" y="4114800"/>
                <a:ext cx="3510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447920" y="2971800"/>
                <a:ext cx="377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447920" y="3581280"/>
                <a:ext cx="377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523880" y="4114800"/>
                <a:ext cx="3780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029200" y="3048120"/>
                <a:ext cx="9810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960800" y="3581280"/>
                <a:ext cx="1117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952880" y="4114800"/>
                <a:ext cx="11685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⇔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41760" y="1981080"/>
                <a:ext cx="5144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 proposizionale - Sema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51460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fig06_08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8229600" cy="1687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4400" y="1600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vole di ver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 proposizionale - Sema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51460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fig06_09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229600" cy="1658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3733920"/>
            <a:ext cx="8458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rare mediante le tavole di verità che la 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lid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era in ogni interpretazion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438280" y="4495680"/>
                <a:ext cx="42674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∨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¬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 proposizion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51460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slide06_24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8216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 proposizion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51460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slide06_25" descr=""/>
          <p:cNvPicPr/>
          <p:nvPr/>
        </p:nvPicPr>
        <p:blipFill>
          <a:blip r:embed="rId1"/>
          <a:stretch/>
        </p:blipFill>
        <p:spPr>
          <a:xfrm>
            <a:off x="733320" y="1504800"/>
            <a:ext cx="767736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 proposizionale - Regole di infer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51460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33720" y="1371600"/>
                <a:ext cx="472104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   si può scrivere come   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dus Ponens: 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⇒</m:t>
                            </m:r>
                            <m:r>
                              <m:t xml:space="preserve">β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isoluzione unitaria: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∨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¬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isoluzione: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∨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¬</m:t>
                            </m:r>
                            <m:r>
                              <m:t xml:space="preserve">β</m:t>
                            </m:r>
                            <m:r>
                              <m:t xml:space="preserve">∨</m:t>
                            </m:r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α</m:t>
                            </m:r>
                            <m:r>
                              <m:t xml:space="preserve">∨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ppure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¬</m:t>
                            </m:r>
                            <m:r>
                              <m:t xml:space="preserve">α</m:t>
                            </m:r>
                            <m:r>
                              <m:t xml:space="preserve">⇒</m:t>
                            </m:r>
                            <m:r>
                              <m:t xml:space="preserve">β</m:t>
                            </m:r>
                            <m:r>
                              <m:t xml:space="preserve">,</m:t>
                            </m:r>
                            <m:r>
                              <m:t xml:space="preserve">β</m:t>
                            </m:r>
                            <m:r>
                              <m:t xml:space="preserve">⇒</m:t>
                            </m:r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¬</m:t>
                            </m:r>
                            <m:r>
                              <m:t xml:space="preserve">α</m:t>
                            </m:r>
                            <m:r>
                              <m:t xml:space="preserve">⇒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 proposiz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251460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slide06_26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532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 proposiz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51460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slide06_27" descr=""/>
          <p:cNvPicPr/>
          <p:nvPr/>
        </p:nvPicPr>
        <p:blipFill>
          <a:blip r:embed="rId1"/>
          <a:stretch/>
        </p:blipFill>
        <p:spPr>
          <a:xfrm>
            <a:off x="1057320" y="1195560"/>
            <a:ext cx="702936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 di conosc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048120"/>
            <a:ext cx="822960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 di conoscen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Knowledge Base o KB). Un insieme di rappresentazioni relative ad aspetti del mondo espresso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u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guaggio di rappresentazione della conoscen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ccio dichiarativ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può asserire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alcosa nella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può interrogare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la KB. Le risposte devono essere conseguenza della dell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vello dell’implement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tture d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mi per manipolar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523880"/>
            <a:ext cx="32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765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ore inferen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09680"/>
            <a:ext cx="3276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09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 di conosc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7339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73392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1600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mi indipendenti dal domi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22860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uto specifico del domi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 proposiz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51460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slide06_29" descr=""/>
          <p:cNvPicPr/>
          <p:nvPr/>
        </p:nvPicPr>
        <p:blipFill>
          <a:blip r:embed="rId1"/>
          <a:stretch/>
        </p:blipFill>
        <p:spPr>
          <a:xfrm>
            <a:off x="923760" y="1800360"/>
            <a:ext cx="72964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 proposizionale per il mondo dei wum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51460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fig06_14" descr=""/>
          <p:cNvPicPr/>
          <p:nvPr/>
        </p:nvPicPr>
        <p:blipFill>
          <a:blip r:embed="rId1"/>
          <a:stretch/>
        </p:blipFill>
        <p:spPr>
          <a:xfrm>
            <a:off x="1757520" y="1405080"/>
            <a:ext cx="4948200" cy="3557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066680" y="5181480"/>
                <a:ext cx="60962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ule di percezione:</m:t>
                        </m:r>
                      </m:e>
                      <m:e>
                        <m:r>
                          <m:t xml:space="preserve">¬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2</m:t>
                            </m:r>
                          </m:sub>
                        </m:sSub>
                        <m:r>
                          <m:t xml:space="preserve">¬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 proposizionale per il mondo dei wum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51460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789200" y="838080"/>
                <a:ext cx="5929200" cy="582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gol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 un quadrato non ha fetore né nel quadrat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é nei quadrati adiacenti c`é un wumpu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1: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1 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,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2: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1 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,1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3: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2 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,3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 c`é del fetore ci deve essere un wumpus  nel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uadrato o in uno di quelli confinanti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4:   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2 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,3</m:t>
                            </m:r>
                          </m:sub>
                        </m:sSub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ando le regole di inferenza si puó derivare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       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3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oé nel quadrato 1,3 cé un wumpu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 proposizionale per il mondo dei wum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251460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fig06_15" descr=""/>
          <p:cNvPicPr/>
          <p:nvPr/>
        </p:nvPicPr>
        <p:blipFill>
          <a:blip r:embed="rId1"/>
          <a:stretch/>
        </p:blipFill>
        <p:spPr>
          <a:xfrm>
            <a:off x="2133720" y="4114800"/>
            <a:ext cx="5286240" cy="244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2120" y="99072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uzione della conoscenza in az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 il wumpus è nel quadrato di fronte avanzare è una cattiva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838080" y="2438280"/>
                <a:ext cx="762012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,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Avanz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'agente é in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,1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rivolto ad Est e c'é un wumpus in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2,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762120" y="3581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’agente proposiz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28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miti della logica proposizionale per il mondo dei wum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51460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29528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egole che abbiamo scritto devono essere ripetute per ogni quadrato e per ogni orientamento dell’ag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consideriamo una griglia 4*4 e 4 diverse orientazioni dell’agente abbiamo 4*4*4=64 copie della stessa reg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secondo problema riguarda il tempo. Se p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’a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in [1,1] e va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 tempo t =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à dimenti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re sara v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 l’agente si sposta in quel quadrato. Dobbiamo cioè tenere conto del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vremo ricorrere a una logica più ricca: l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514600" y="3657600"/>
                <a:ext cx="50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641680" y="4191120"/>
                <a:ext cx="560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,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181480" y="3657600"/>
                <a:ext cx="50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fig06_01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343400" cy="2238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agente basato sulla conosc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733920"/>
            <a:ext cx="8229600" cy="28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gente deve essere in grado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presentare stati, azioni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porare nuove perce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iornare la rappresentazione interna del m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urre proprietà nascoste del mom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urre azioni 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mondo dei Wum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fig06_02" descr=""/>
          <p:cNvPicPr/>
          <p:nvPr/>
        </p:nvPicPr>
        <p:blipFill>
          <a:blip r:embed="rId1"/>
          <a:stretch/>
        </p:blipFill>
        <p:spPr>
          <a:xfrm>
            <a:off x="2367000" y="1209600"/>
            <a:ext cx="4410000" cy="4438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58672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 una buca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n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n fetore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ez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lle brezze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’o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mondo dei Wum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295280"/>
            <a:ext cx="8610480" cy="52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cezion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rezza, fetore, luccic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zion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ira sinistra, gira destra, avanza, prendi, posa, s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iettiv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ndere l’oro e portarlo nella posizione di partenza evitando le posizioni in cui c’è una buca o un Wum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bien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quadrati adiacenti al wumpus sono feti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quadrati adiacenti ad una buca sono ventil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ccichio solo nello quadrato dove c’è l’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rare uccide il wump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rivolti verso di l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rare utilizza l’unica frec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ndere e’ possibili se si è nello stesso quadrato dell’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a lascia l’oro nel medesimo quad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ire e ragionare nel mondo dei Wum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ig06_03" descr=""/>
          <p:cNvPicPr/>
          <p:nvPr/>
        </p:nvPicPr>
        <p:blipFill>
          <a:blip r:embed="rId1"/>
          <a:stretch/>
        </p:blipFill>
        <p:spPr>
          <a:xfrm>
            <a:off x="1166760" y="1843200"/>
            <a:ext cx="6810480" cy="3171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19320" y="5486400"/>
            <a:ext cx="678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situazione iniziale percezione = [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dopo una mossa percezione = [Brezz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ire e ragionare nel mondo dei Wum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5486400"/>
            <a:ext cx="678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dopo la terza mossa, percezione = [Fetor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dopo la quinta mossa percezione = [Fetore,Brezza,Luccichio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fig06_04" descr=""/>
          <p:cNvPicPr/>
          <p:nvPr/>
        </p:nvPicPr>
        <p:blipFill>
          <a:blip r:embed="rId1"/>
          <a:stretch/>
        </p:blipFill>
        <p:spPr>
          <a:xfrm>
            <a:off x="1143000" y="1833480"/>
            <a:ext cx="68580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295280"/>
            <a:ext cx="8534160" cy="56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logi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è un linguaggio formale per rappresentare delle informazioni e per trarre delle conclu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sintas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isce le proposizioni ammissibili del lingua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semanti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isce il “significato” delle proposizioni cioè la verità di una proposizione in un m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. il linguaggio dell’aritme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+ 2  &gt;=  y è una propos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2 + y &gt;   non è una propos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+ 2  &gt;=  y e’vera se e solo se  x+2 non è minore di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+ 2  &gt;=  y è vera in un mondo dove x = 7, y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+ 2  &gt;=  y è falsa in un mondo dove x = 0, y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pi di 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295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istono differenti tipi di log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fig06_06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81532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4T21:55:01Z</dcterms:created>
  <dc:creator>Administrator</dc:creator>
  <dc:description/>
  <dc:language>en-US</dc:language>
  <cp:lastModifiedBy>Dario Bianchi</cp:lastModifiedBy>
  <dcterms:modified xsi:type="dcterms:W3CDTF">1999-03-15T17:57:41Z</dcterms:modified>
  <cp:revision>4</cp:revision>
  <dc:subject/>
  <dc:title>No Slide Title</dc:title>
</cp:coreProperties>
</file>