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907588" cy="6858000"/>
  <p:notesSz cx="66452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6456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687760" y="9317160"/>
            <a:ext cx="12711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CE2C446-223B-42DC-8A27-61AF15A6269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855360" y="858600"/>
            <a:ext cx="493380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85600" y="4644720"/>
            <a:ext cx="4873320" cy="439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885600" y="4644720"/>
            <a:ext cx="4873320" cy="439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Nel caso in cui Err è minore di ErroreCumulato, si eliminano i figli dato che la loro introduzione aumenta la probabilità di err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ldImg"/>
          </p:nvPr>
        </p:nvSpPr>
        <p:spPr>
          <a:xfrm>
            <a:off x="855720" y="858960"/>
            <a:ext cx="493380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body"/>
          </p:nvPr>
        </p:nvSpPr>
        <p:spPr>
          <a:xfrm>
            <a:off x="885600" y="4644720"/>
            <a:ext cx="4873320" cy="439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Inconsistenza: non vengono aggiornate tutte le copie dei da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integrità: viene specificata tramite delle regole di consistenza che indicano i valori che può assum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oncorrenza: vincoli di mutua esclus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ldImg"/>
          </p:nvPr>
        </p:nvSpPr>
        <p:spPr>
          <a:xfrm>
            <a:off x="855720" y="858960"/>
            <a:ext cx="493380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885600" y="4644720"/>
            <a:ext cx="4873320" cy="439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eward-to-go(U</a:t>
            </a:r>
            <a:r>
              <a:rPr b="1" lang="it-IT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) è la somma dei premi che si ottengono fino al raggiungimento dello stato fin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it-IT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è il premio per essere nello stato 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Questo metodo coinvolge n equazioni e n incognite, quindi è poco utilizzabile per dominii con un grande numero di stati (backgammon 10</a:t>
            </a:r>
            <a:r>
              <a:rPr b="0" lang="it-IT" sz="1200" spc="-1" strike="noStrike" baseline="30000">
                <a:solidFill>
                  <a:srgbClr val="000000"/>
                </a:solidFill>
                <a:latin typeface="Arial"/>
              </a:rPr>
              <a:t>50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ldImg"/>
          </p:nvPr>
        </p:nvSpPr>
        <p:spPr>
          <a:xfrm>
            <a:off x="855720" y="858960"/>
            <a:ext cx="493380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885600" y="4644720"/>
            <a:ext cx="4873320" cy="439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ldImg"/>
          </p:nvPr>
        </p:nvSpPr>
        <p:spPr>
          <a:xfrm>
            <a:off x="855720" y="858960"/>
            <a:ext cx="493380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180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4180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9296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50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9296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50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4180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60912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180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4180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4180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180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49200" y="324000"/>
            <a:ext cx="9124920" cy="628632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853160" y="3176640"/>
            <a:ext cx="474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092240" y="171360"/>
            <a:ext cx="1942920" cy="266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rendi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05720" y="6496200"/>
            <a:ext cx="2108160" cy="266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ostino Pogg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49200" y="324000"/>
            <a:ext cx="9124920" cy="628632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23888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iversità degli Studi di Parma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40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’apprendiment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ostino Pogg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905120" y="609480"/>
            <a:ext cx="990360" cy="100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rendimento induttivo - Alberi di decisione per informazione incer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ricerca in avanti decide di espandere un nodo in più nodi in bas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 numero di istanze contenute nell’insieme corrispondente al nodo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loro ripartizione tra le classi corrispondenti ai possibili nodi figli in funzione dei diversi attributi su cui basare la partizion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 esempio se abbiamo 100 istanze e l’unico attributo su cui possiamo lavorare li divide in due classi di 99 e 1 elementi, possiamo decidere di non espandere il nodo ritenendo generata da un errore l’unica istanza della seconda class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rendimento induttivo - Alberi di decisione per informazione incer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77720" y="1987200"/>
            <a:ext cx="7149960" cy="4102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ricerca all’indietro genera tutto l’albero e poi decide quali nodi eliminare in base ad una stima euristica dell’errore di classificazio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a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rr(S) la probabilità di classificare erroneamente gli elementi dell’insieme 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rrore(nodo) = err(S) se il nodo è una fogli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rroreCumulato(nodo) =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rrore(nodo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, dove nodo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è un  figlio di nodo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llora si ha per i nodi non terminali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rrore(nodo) = min(Err(nodo),ErroreCumulato(nodo)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378080" y="609480"/>
            <a:ext cx="7156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ralizzazione e specializz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378080" y="1981080"/>
            <a:ext cx="7156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685800" indent="-228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is ?x gatto)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42960" indent="-1713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ossibile(accarezzare ?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is ?x felino)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42960" indent="-1713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ossibile(accarezzare ?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and (is ?x felino) (piccolo ?x))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42960" indent="-1713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ossibile(accarezzare ?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and (is ?x carnivoro) (piccolo ?x))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42960" indent="-1713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ossibile(accarezzare ?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rovare una definizione del concetto che descriva un insieme di situazioni (istanze positive) e non si applichi ad altre (istanze negativ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su a1 a2) (su a1 a3) (not (a-contatto a2 a3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parti a (a1 a2 a3)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is a1 mattone) (is a2 mattone) (is a3 matton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is a arco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oblema di identificazione della situazione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isogna ignorare tutte quelle caratteristiche non interessanti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oblema della descrizion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isogna avere delle descrizioni adeguate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isogna utilizzare descrizioni simili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371600" y="609480"/>
            <a:ext cx="7156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ralizzazione e specializz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240" y="19051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271440" indent="-27144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e variabili sono più generali delle costanti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and (su ?x tavolo) (su ?y tavolo))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pecific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and (su ?x ?z) (su ?y tavolo))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and (su ?x tavolo) (su ?y?z)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and (su ?x ?z) (su ?y ?z)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and (su ?x ?z) (su ?y ?v))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enera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problema di specializzazione diventa un problema di ricerc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78080" y="609480"/>
            <a:ext cx="73850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lvl="1" marL="45720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ralizzazione e specializz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ralizzazione e specializz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27144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ata la forma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su ?x tavolo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’aggiunta di una clausola in ‘or’ generalizza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or (su ?x tavolo) (sospeso ?x soffitto)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’aggiunta di una clausola in ‘and’ specializza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and (su ?x tavolo) (a-contatto ?x parete1)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oppiamento di descrizion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lvl="1" marL="6307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su a1 a2) (su a1 a3) (not (a-contatto a2 a3)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parti a (a1 a2 a3)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is a1 mattone) (is a2 mattone) (is a3 matton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is a arco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su a1 a2) (su a1 a3) (not (a-contatto a2 a3)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parti a (a1 a2 a3)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is a1 cuneo) (is a2 mattone) (is a3 matton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is a arco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800" indent="-262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sistema deve accoppiare le due descrizioni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is a1 prisma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or (is a1 mattone) (is a1 cuneo)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37124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-26568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ò essere che una situazione abbia delle similarità con delle situazioni passate e che il modo con cui ci eravamo comportati possa aiutare a decidere come comportarci adess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ttavia  non è un metodo che ci permette di generalizzare facilmen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a 1: dato un segmento RY e due punti su di esso O e N tali che valga RO = NY provare che RN = O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a 2: dato un segmento AD e due punti su di esso C e B tali che valga AB &gt; CD provare che AC &gt; B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378080" y="609480"/>
            <a:ext cx="7156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alo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137124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 è in grado di gestire dati perturbat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 maestro in certi casi imbroglia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lcuni casi non si riesce ad individuare la regola responsabile del fallimento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 è capace di gestire concetti che cambiano nel temp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 esempio per un animale il concetto «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uon posto per cercare di mangia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378080" y="609480"/>
            <a:ext cx="7156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lutazione dell’apprendimento indut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Reinforcement Lear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-28296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 può imparare senza avere degli esempi di comportamento corretto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n caso in cui si può imparare senza esempi è quando ad ogni passo o al raggiungimento di uno stato finale viene dato un premio (o una punizione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sistono due classi di problemi in cui viene diviso il reinforcement learn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assive learning, muovendosi tra i diversi stati del mondo si imparal’utilità di essere nei diversi stati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ctive learning, in ogni stato bisogna eseguire un’azione imparando l’utilità di eseguire una certa azione in un dato stato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37124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rarre conoscenza dal ripetersi di situazion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perienz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o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rtament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endo da quasi nessuna conoscenza, attraverso un metodo di apprendimento generale acquisire, via, via, nuova conoscenz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endo da un sistema con molta conoscenza organizzata si cerca di organizzarla sempre di più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160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inizione e obietti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71600" y="312408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Reinforcement Learning -</a:t>
            </a: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Passive Lear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inimi quadrato medi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= average(U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reward-to-go(U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ogrammazione dinamica adattiv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= R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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56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 si conoscono le probabilita M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on appena si conoscono i premi dei vari stati è possibile calcolare l’utilità dei vari stati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fferenza temporale (TD Learning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= U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+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+ U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- U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56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 il valore d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ecresce al crescere del numero delle iterazioni, allora U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nverge al valore corrett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Reinforcement Learning -</a:t>
            </a: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Active Lear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problema che deve risolvere è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= R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+ max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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it-IT" sz="18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problema di calcolare Ui si può trasformare nel problema di calcolare l’utilità di eseguire una certa azione in un dato stato. Infatti si ha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= max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Q(a,i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 Q(a,i) si calcola con l’equazion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Q(a,i) = R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it-IT" sz="18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a’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Q(a’,j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 può applicare il TD-Q Learn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Q(a,i) = Q(a,i) +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+ max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a’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Q(a’,j) -Q(a,i)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4479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 concetti imparati vengono applicati ed in caso di errore gli errori vengono utilizzati per la revisione dei concetti (Hacker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0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per-fare ?compito (ottieni (su ?x ?y)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sposta ?x ?y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per-fare ?compito (ottieni (su ?x ?y)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prog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12000" indent="-1677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per-ogni ?z (su ?z ?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959840" indent="-1677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 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liberati-di ?z)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12000" indent="-1677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sposta ?x ?y))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238400" y="762120"/>
            <a:ext cx="7759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454040" y="2057400"/>
            <a:ext cx="71564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78080" y="609480"/>
            <a:ext cx="7156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lvl="3" marL="13716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rendimento guidato da insucces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523880" y="76212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294920" y="21337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asi reali é poco plausibile che il sistema si possa rendere conto in modo netto delle ragioni del falliment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 questo metodo é solo possibile imparare dei casi speciali di concetti più generali, si può parlare di programmazione automatic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3716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390680" y="914400"/>
            <a:ext cx="7759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73160" y="1981080"/>
            <a:ext cx="7759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78080" y="609480"/>
            <a:ext cx="7156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rendimento guidato da insucces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37124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’insegnante comunica non solo se sta sbagliando o meno, ma anche il perché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l’insegnante non conosce la struttura interna del sistema, deve essere il sistema che trasforma il suggerimento in una forma uti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 problema é come dare i suggerimenti: l’insegnante deve capire a che livello il sistema vuole i suggeriment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19320" y="609480"/>
            <a:ext cx="74674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rendimento per insegnamento diret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rendimento per insegnamento dirett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262800" indent="-262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sempio di questo tipo di sistema é Teiresia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800" indent="-26280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eiresias opera all’indietro lungo la catena degli obiettivi fino a che l’insegnante non riconosce un punto di mal funzionament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-21024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na regola ha determinato P, le premesse della regola sono vere, ma P non segue da ess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-21024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 avrebbe dovuto essere determinata, ma ogni regola che poteva determinare P non é stata applicata perché delle premesse non erano ver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800" indent="-26280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el primo caso il sistema deve specializzare la regola che ha determinato P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800" indent="-26280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el secondo, o viene introdotta una nuova regola o viene generalizzato una regol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378080" y="609480"/>
            <a:ext cx="7156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0666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137124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etodo utilizzato da Eurisko e AM per la ricerca di configurazioni e generalizzazioni nei domini dei circuiti VLSI, dei giochi e della matematica elementar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antengono una base di dati contenente i concetti che accrescono attraverso l’utilizzo di euristich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programma esplora (non ricerca) lo spazio del problema sulla base di un’agenda di compiti da eseguire che sono ordinati in ordine decrescente di interess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378080" y="609480"/>
            <a:ext cx="7156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rendimento mediante esplor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37124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gni concetto é rappresentato da una struttura basata su slot e fille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d esempio il concetto insiem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ome: insie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pecializzazioni: insieme-vuoto, insieme-non-vuoto, .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eneralizzazioni: struttura-non-ordinata, .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sempi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ipici: [[]], [A, B]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imite []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Valore: 60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378080" y="609480"/>
            <a:ext cx="7156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rendimento mediante esplor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rendimento mediante esplor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 creare nuovi concetti deve essere in grado di mutare i concetti preesistenti. Ad esempio utilizza un’euristica per la generalizzazion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e il compito é generalizzare X allora considera la sua definizione D e la sostituisco con una generalizzazione in base ai seguenti criteri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e D é un concetto allora usa le sue generalizzazion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e D é una congiunzione allora elimina o generalizza una clausola-an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e D é una disgiunzione allora aggiungi o generalizza una clausola-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e D é una negazione (not D’), specializza D’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1371240" y="1676520"/>
            <a:ext cx="71629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ono capaci di scoprire nuove congetture non di dimostrarle (ad esempio, AM ipotizza che i numeri devono avere un’unica fattorizzazione: scomposizione in fattori primi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ono sistemi attivi e non passivi: generano essi stessi le cose su cui lavorar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uttavia hanno bisogno di una conoscenza iniziale. Ad esempio, AM ha scoperto il concetto di numero sulla base delle definizioni di lista, di insieme e di sacco (insieme che permette ripetizioni) e dell’uguaglianza in questi domin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rendimento mediante esplor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371600" y="213372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Viene utilizzato per apprendere dei concetti espressi in genere con delle regole la cui forma è: «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nella situazione X esegui l’’azione Y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ituazion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zion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00160" indent="-171360"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ituazion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zion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ituazion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gen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zion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30360" y="4724280"/>
            <a:ext cx="433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rendimento induttiv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37124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lvl="1" marL="67176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d esempi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ggetto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è un corv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ggetto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è ner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95984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ggetto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è un corv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ggetto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è ner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?x è un corv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?x è ner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iù in generale un algoritmo di apprendimento induttivo esegue il seguente compito: «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dato una collezione di esempi di f, ritorna una funzione h (ipotesi) che approssima f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38400" y="762120"/>
            <a:ext cx="7759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58960" y="3962520"/>
            <a:ext cx="501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294920" y="7617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rendimento induttiv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rendimento induttivo -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beri di decis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051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54240" y="2749680"/>
            <a:ext cx="596880" cy="44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063880" y="2749680"/>
            <a:ext cx="596880" cy="44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44960" y="2749680"/>
            <a:ext cx="1359000" cy="44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Wait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749680" y="1987560"/>
            <a:ext cx="113004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atr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9840" y="3740040"/>
            <a:ext cx="59688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359160" y="3740040"/>
            <a:ext cx="135900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416560" y="3740040"/>
            <a:ext cx="135900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Hung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6680" y="4502160"/>
            <a:ext cx="173988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Reser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92680" y="4502160"/>
            <a:ext cx="135864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Fri/S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58960" y="5264280"/>
            <a:ext cx="596880" cy="44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97640" y="3740040"/>
            <a:ext cx="59688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68440" y="5950080"/>
            <a:ext cx="596880" cy="44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49480" y="5950080"/>
            <a:ext cx="596880" cy="44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749680" y="5264280"/>
            <a:ext cx="596880" cy="44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654440" y="5264280"/>
            <a:ext cx="596880" cy="44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664080" y="5264280"/>
            <a:ext cx="596880" cy="44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568840" y="4502160"/>
            <a:ext cx="59688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559560" y="4502160"/>
            <a:ext cx="135900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645160" y="5264280"/>
            <a:ext cx="596880" cy="44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635880" y="5264280"/>
            <a:ext cx="1358640" cy="44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473960" y="5950080"/>
            <a:ext cx="596880" cy="44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483240" y="5950080"/>
            <a:ext cx="596880" cy="44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2279160" y="2444760"/>
            <a:ext cx="100332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82840" y="2444760"/>
            <a:ext cx="6372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82840" y="2444760"/>
            <a:ext cx="135900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2431800" y="3206880"/>
            <a:ext cx="2222280" cy="52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032360" y="3206880"/>
            <a:ext cx="622080" cy="52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654440" y="3206880"/>
            <a:ext cx="1359000" cy="52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54440" y="3206880"/>
            <a:ext cx="3035520" cy="52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279520" y="4197240"/>
            <a:ext cx="176544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044960" y="4197240"/>
            <a:ext cx="52056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861160" y="4197240"/>
            <a:ext cx="31752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178680" y="4197240"/>
            <a:ext cx="105408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2050920" y="4959360"/>
            <a:ext cx="39384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444760" y="4959360"/>
            <a:ext cx="59688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955680" y="4959360"/>
            <a:ext cx="54612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02160" y="4959360"/>
            <a:ext cx="44460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245360" y="4959360"/>
            <a:ext cx="6336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5937120" y="4959360"/>
            <a:ext cx="130824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7640" y="5721480"/>
            <a:ext cx="36828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6775560" y="5721480"/>
            <a:ext cx="62208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441080" y="5721480"/>
            <a:ext cx="62244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63880" y="5721480"/>
            <a:ext cx="59688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41560" y="2386080"/>
            <a:ext cx="57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46480" y="5586480"/>
            <a:ext cx="46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60880" y="2462040"/>
            <a:ext cx="617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51960" y="2386080"/>
            <a:ext cx="41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46840" y="3376440"/>
            <a:ext cx="483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41400" y="3376440"/>
            <a:ext cx="637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-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32120" y="3376440"/>
            <a:ext cx="637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-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66200" y="3376440"/>
            <a:ext cx="538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-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690600" y="5662440"/>
            <a:ext cx="379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90000" y="4976640"/>
            <a:ext cx="379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80720" y="4138560"/>
            <a:ext cx="379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23920" y="4214880"/>
            <a:ext cx="379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95120" y="4976640"/>
            <a:ext cx="379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57080" y="4900680"/>
            <a:ext cx="379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56480" y="5662440"/>
            <a:ext cx="379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327560" y="4138560"/>
            <a:ext cx="46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66200" y="4138560"/>
            <a:ext cx="46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803680" y="4900680"/>
            <a:ext cx="46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784760" y="4900680"/>
            <a:ext cx="46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299360" y="4976640"/>
            <a:ext cx="46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04280" y="5662440"/>
            <a:ext cx="46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rendimento induttivo -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beri di decis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158920" y="2489040"/>
          <a:ext cx="5334120" cy="185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58920" y="2489040"/>
                    <a:ext cx="5334120" cy="18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rendimento induttivo -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beri di decis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271440" indent="-27144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me si fa dagli esempi a imparare la funzione booleana che permette di decidere in funzione del valore degli attributi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-217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cegliere l’attributo che meglio separa gli esempi positivi da quelli negativi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-217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e l’attributo divide tutti gli esempi negativi da quelli positivi, allora abbiamo trovato la funzione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-217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ltrimenti bisogna applicare il primo punto ricorsivamente sui sottoinsiemi generati dall’algoritmo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-217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’iterazione termina anche nel caso in cui non abbiamo trovato la funzione, ma non abbiamo più attributi da utilizzare per suddividere gli esempi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ati incorretti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formazioni insufficienti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rendimento induttivo -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beri di decis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257040" indent="-25704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 troviamo una funzione che non usa tutti gli attributi ci possono essere problemi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 troviamo una funzione che usa tutti gli attributi ci possono essere problemi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me si scelgono gli attributi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Bisogna scegliere prima quelli che hanno un valore informativo maggiore, ossia il migliore guadagno informativ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000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17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ain(A) = I(p/(p+n),n/(p+n)) -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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+n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/(p+n) I(p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/(p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+n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,n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/(p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+n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704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ove:I(P(x),P(y)) = -P(x)log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x) - P(y)log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(y) è il contenuto informativo di una corretta risposta yes/no con probabilità P(x) e P(y) rispettivament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rendimento induttivo - Alberi di decisione per informazione incer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valori di un training set possono essere soggetti a rumor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insieme di attributi può essere considerato insufficiente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genera un albero inutilmente complesso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si sa che il training set può avere degli errori, possiamo limitarne la complessità tramite due strategi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atura in avanti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atura all’indietro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20T11:26:24Z</dcterms:created>
  <dc:creator>Agostino Poggi</dc:creator>
  <dc:description/>
  <dc:language>en-US</dc:language>
  <cp:lastModifiedBy>Dario Bianchi</cp:lastModifiedBy>
  <cp:lastPrinted>1999-05-03T13:28:59Z</cp:lastPrinted>
  <dcterms:modified xsi:type="dcterms:W3CDTF">2002-05-13T07:17:47Z</dcterms:modified>
  <cp:revision>3</cp:revision>
  <dc:subject/>
  <dc:title>                Università degli Studi di Parma      </dc:title>
</cp:coreProperties>
</file>