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8AB9-64BD-4D1A-B6AB-BBE292B7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6D6-1DDF-4B02-8FFD-BEBE0034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FDF6-B5FA-4179-BDA6-FFF1A093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DC1-7B98-440E-8026-C0EC8169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AFB-1032-4F5F-B33C-DA9EDFDD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479D-9827-496A-8C82-209CBCDD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E05-51D2-4CA6-B030-3537C623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696-0D35-4796-BCF2-84CB5BF5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DB2-05B0-48DF-AFA1-2901AFC8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A936-6ADD-4A8E-B5E5-E50EE7EE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770-19A6-4581-A6C7-221D7E5F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40C-C8F7-4ECC-9E3F-BC8D7C49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ED63-9DEA-4206-894A-6C37F3EFD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055960"/>
            <a:ext cx="85345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grammazione log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lo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609480"/>
            <a:ext cx="266724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:-q,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:-q,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22860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 p.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5909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5909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8560" y="304812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q,r.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78200" y="3809880"/>
            <a:ext cx="11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q,t,r.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77840" y="472428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q,t,t,r.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6240" y="3048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90920" y="26668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26668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34290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50080" y="3581280"/>
            <a:ext cx="410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clausola vuota può essere gener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 il Prolog non è in grado di trov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a solu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685800"/>
            <a:ext cx="2209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bero di risol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il go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-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648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7000" y="579132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mo di fal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in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609480"/>
            <a:ext cx="2286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 risol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profond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 back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51814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6019920"/>
            <a:ext cx="6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7480" y="556272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q,t,t,t,r.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838080"/>
            <a:ext cx="853416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ma logic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(0,X,X).                                            (c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(s(X),Y,s(Z)) :- sum(X,Y,Z).          (c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da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m(s(s(0)),s(0),W)              (g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olvendo il goal g0 con c2 con {X/s(0),Y/s(0),W/s(Z1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 sum(s(0),s(0),Z1)                     (g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olvendo il goal g1con c2 con {X/0,Y/s(0),Z1/s(Z2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 sum(0,s(0),Z2)                         (g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olvendo il goal g1con c1 con {X/0,Y/s(0),Z2/s(0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      clausola vu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risposta si ottiene dalla sequenza di sostitu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=s(Z1) Z1=s(Z2) Z2=s(Z1)  quindi W=s(s(s(0)))  cioè 2+1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96880" y="1066680"/>
                <a:ext cx="8278920" cy="453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ENTELE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ad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c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Femmina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Figli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,p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nn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c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p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y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,Mario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,Luca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inferisc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io,Luca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6040" y="838080"/>
                <a:ext cx="8560080" cy="545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ENTE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d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c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emmina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igli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,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nn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c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iver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c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isa,luc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io,marc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,mari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,luc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diver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co,mari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diver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io,luc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:- 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io,luc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200400" y="533520"/>
                <a:ext cx="2997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:- fratell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rio,luc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851360" y="1143000"/>
                <a:ext cx="23353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ario,c</m:t>
                                </m:r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uc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6320" y="1600200"/>
                <a:ext cx="90676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:- divers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rio,luc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 genitor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,mario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genitot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,luc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447920" y="3352680"/>
                <a:ext cx="14475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uis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324480" y="5334120"/>
                <a:ext cx="381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:-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46280" y="4267080"/>
                <a:ext cx="34606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:- genitor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isa,luc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724280" y="4267080"/>
                <a:ext cx="3962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:- genitot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iovanni,luc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514600" y="2514600"/>
                <a:ext cx="54421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:- genitor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,mario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genitot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,luc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724280" y="2057400"/>
                <a:ext cx="433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191120" y="91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362320" y="3048120"/>
            <a:ext cx="1752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297180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29400" y="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356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181480" y="3276720"/>
                <a:ext cx="204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iovann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129400" y="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356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609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- collega(a,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4952880"/>
            <a:ext cx="61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l1) collega(a,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l2) collega(c,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l3) collega(X,Z):- collega(X,Y),collega(Y,Z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l4) collega(X,Y):-collega(Y,X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4120" y="1295280"/>
            <a:ext cx="40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- collega(a,Y1), collega(Y1,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0000" y="198108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ga(b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8520" y="281952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- collega(b,Y2), collega(Y2,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1240" y="380988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- collega(b,Y3),collega(Y3,Z3), collega(Z3,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047760" y="990720"/>
            <a:ext cx="1904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17524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16765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98280" y="129528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- collega(c,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50560" y="220968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- collega(a,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990720"/>
            <a:ext cx="2133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15200" y="1676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324480" y="16765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72920" y="7621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6600" y="17524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15920" y="19051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15200" y="2666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3429000"/>
            <a:ext cx="16002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4343400"/>
            <a:ext cx="2210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o 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68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438280"/>
            <a:ext cx="2743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99160" y="27432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ga(c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10600" y="2286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34440" y="17524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10400" y="2438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10400" y="32767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10400" y="41911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920" y="27432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160020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6400" y="16002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685800"/>
            <a:ext cx="8305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:- Q,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pretazione dichiarati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è vero se sono veri Q e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pretazione procedur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problema P può essere scomposto nei sottoproblemi P e 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lo di esecuz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4495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4343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4952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19720" y="4495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4800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05320" y="3809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4343400"/>
            <a:ext cx="320040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catore successo/fall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anza delle variab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a di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5334120"/>
            <a:ext cx="7696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 goal può essere visto come una chiamata ad una proced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 regola può essere vista come la definizione di una procedura in cui la testa è l’intestazione mentre la parte destra è il cor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1371600"/>
            <a:ext cx="739116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guaggi imperativi (C , Pascal etc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 specifica come risolvere un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guaggi dichiarativ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zionali (Lisp pu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il concetto di funzione e d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sizione di fun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i (Prol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 descrivono le relazioni che intercorr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 i dati. Non ci sono assegnamenti. Non determin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914400"/>
            <a:ext cx="784872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rendere il Prolog un linguaggio effettivamente utilizza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gono aggiun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zione per le li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ilità di manipolare strutture d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zioni aritmet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canismi di controllo del back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ttamento della negaz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ati di input/out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canismi per modificare/accedere alla base di conoscen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canismi per il caricamento del codice prolo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4160" y="990720"/>
            <a:ext cx="7599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e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(X,[X|Resto]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(X,[Testa|Coda]) :- membro(X,Cod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itme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_rettangolo(Base,Altezza,Area) :- Are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se*Altez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o(X,Y,X) :- X &lt;=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o(X,Y,Y) :- X &gt;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52280"/>
            <a:ext cx="853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us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28600" y="1219320"/>
                <a:ext cx="7848720" cy="51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mplicazione:  </m:t>
                        </m:r>
                        <m:r>
                          <m:t xml:space="preserve">¬</m:t>
                        </m:r>
                        <m:r>
                          <m:t xml:space="preserve">B</m:t>
                        </m:r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A corrisponde a B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ppure A implicato da B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se 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:   A </m:t>
                        </m:r>
                        <m:r>
                          <m:t xml:space="preserve">←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 una clausola: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∨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ando ul teorema di De Morgan :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¬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990720"/>
            <a:ext cx="7924680" cy="56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T e controllo del back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 consideri la clausol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:- q1, q2,..  ,qi, !, qi+1,..  ,q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tte le scente fatte dalla scelta della clausola p e di q1,..,q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gono rese defini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risponde ad un pruning dell’albero di refutaz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(X,Y) :- b(X), ! ,c(Y).                              Modifica il significato dichi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(0,0) 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del program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(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(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(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(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il goal      :-a(X,Y).    Si hanno le rispos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X=1, Y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=1, Y=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990720"/>
            <a:ext cx="792468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zione per fal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lle clausole di Horn non è possibile rappresentare direttamente informazione negativa del tipo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otesi di Mondo Chiuso ( O di negazione per fall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è vero se è impossibile dimostrare che è vero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si dispone di una descrizione completa del mondo la negazione per fallimento coincide con la negazione log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809880" y="1905120"/>
                <a:ext cx="3049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57200" y="2895480"/>
                <a:ext cx="3049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990720"/>
            <a:ext cx="7924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zione per fallimento 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prolog usa la negazione per fallimento fini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P) ha successo su un insieme di clausole se e solo se la dimostrazione di P su tale insieme fallisce in modo fin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809880" y="1905120"/>
                <a:ext cx="3049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09480" y="3352680"/>
            <a:ext cx="327672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esempio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ta(X) :- capitale(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ta(X) :- capoluogo(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oluogo(bologn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e(rom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otti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- not(citta(parma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allimento fin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3352680"/>
            <a:ext cx="381024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re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ta(X) :- citta(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ta(X) :- capoluogo(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oluogo(bologn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si può otten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- not(citta(parma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allimento infin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990720"/>
            <a:ext cx="7924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zione per fallimento 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olog la definizione di negazione viene data c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P) :- call(P), !, f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3352680"/>
            <a:ext cx="327672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o il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occupato(X):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ulto(X), not occupato(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pato(giovann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ulto(mari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go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 disoccupato(Y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 yes, Y=m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67080" y="3429000"/>
            <a:ext cx="304812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mbiando l’ ordine dei goal nella regol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occupato(X):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occupato(X), adulto(X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 disoccupato(Y).   fallis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 disoccupato(mari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 suc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838080"/>
            <a:ext cx="85341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990720"/>
            <a:ext cx="7924680" cy="62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o del cut e della neg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deriamo il programma che realizza l’intersezione di due insiemi rappresen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e lis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zione([],S,[]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zione([X|Resto],S,[X|Resto1]) :- membro(X,S), intersezione(Resto,S,Resto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zione([X|Resto],S,Resto1) :- intersezione(Resto,S,Resto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- intersezione([1,2,3],[2,3,4],L). Da come risultato L=[2,3], L=[2], L=[3], L=[]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quanto manca la mutua esclusione fra le clausole 2 e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 ottiene il programma corretto usando un cu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zione([],S,[]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zione([X|Resto],S,[X|Resto1]) :- membro(X,S), intersezione(Resto,S,Resto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zione([X|Resto],S,Resto1) :- intersezione(Resto,S,Resto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in maniera dichiarativamente chara con il n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zione([],S,[]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zione([X|Resto],S,[X|Resto1]) :- membro(X,S), intersezione(Resto,S,Resto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sezione([X|Resto],S,Resto1) :- not membro(X,S), intersezione(Resto,S,Resto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905120" y="685800"/>
                <a:ext cx="5867280" cy="564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na clausola di Horn ha un solo letterale positivo: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∨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∨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particolar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gola                 A</m:t>
                        </m:r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atto                    A</m:t>
                        </m:r>
                        <m:r>
                          <m:t xml:space="preserve">←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oal                     </m:t>
                        </m:r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traddizione    </m:t>
                        </m:r>
                        <m:r>
                          <m:t xml:space="preserve">←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azione  PROLO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gola                 A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atto                    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oal                     :-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traddizione    </m:t>
                        </m:r>
                        <m:r>
                          <m:rPr>
                            <m:lit/>
                            <m:nor/>
                          </m:rPr>
                          <m:t xml:space="preserve">fals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838080"/>
            <a:ext cx="85341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ma logic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(0,0,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(s(X),Y,s(Z)) :- sum(X,Y,Z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amo interpretare s(N) come il successore del numer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ra 0, s(0), s(s(0)), s(s(s(0)))…  rappresentano 0,1,2,3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o programma definisce la somma fra due numeri naturali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80880" y="3429000"/>
                <a:ext cx="4038840" cy="315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mande:</m:t>
                        </m:r>
                      </m:e>
                      <m:e>
                        <m:r>
                          <m:t xml:space="preserve">∃</m:t>
                        </m:r>
                        <m:r>
                          <m:rPr>
                            <m:lit/>
                            <m:nor/>
                          </m:rPr>
                          <m:t xml:space="preserve">W su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0,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  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e>
                      <m:e>
                        <m:r>
                          <m:t xml:space="preserve">∃</m:t>
                        </m:r>
                        <m:r>
                          <m:rPr>
                            <m:lit/>
                            <m:nor/>
                          </m:rPr>
                          <m:t xml:space="preserve">W su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W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 negazioni sono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:- su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0,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         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:- su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 W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icordare che </m:t>
                        </m:r>
                        <m:r>
                          <m:t xml:space="preserve">¬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x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¬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33520"/>
            <a:ext cx="853452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o un insieme di clausole di Horn è possibile derivare la clausola vu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o se c`è una sola clausola senza testa e tutte le altre clausole hanno la te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ndi in un programma logico P tutte le clausole debbono avre la testa m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clausola goal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non avrà te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deve dimostrare che da                      è possibile derivare la clausola vuo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si tentassero ad ogni passo tutte le risoluzioni possibili e si aggiungessero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usole inferite all’ insieme di partenza si avrebbe una esplosione combinat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deve adottare una strategia di soluzione opportu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276720" y="2057400"/>
                <a:ext cx="11127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09480" y="4343400"/>
            <a:ext cx="769644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oluzione ad input line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risoluzione avviene sempre fra l’ultimo goal derivato in ciascun passo e una clausola di programma, mai fra due clausole di programma o fra una clausola di programma ed un goal derivato in preceden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534520" cy="23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oluzione ad input line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a dato un programma logico P e un goal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Si deve dimostrare che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è possibile derivare la clausola vuo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657600" y="1295280"/>
                <a:ext cx="111276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" y="2057400"/>
                <a:ext cx="5430960" cy="21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l goal 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    :-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 dalla regola regola         A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 esiste un unificatore 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 tale che 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  <m:r>
                          <m:t xml:space="preserve">ϑ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ϑ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ottiene in nuovo goal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57200" y="4343400"/>
            <a:ext cx="7696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risoluzione avviene sempre fra l’ultimo goal e una clausola di program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puo’ avere: successo (viene generata la clausola vuo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uccesso fin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uccesso infin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ostituzione di risposta è la sequenza di unificatori usati. Applicati alle variabili del goal iniziale danno la rispo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85800"/>
            <a:ext cx="7620120" cy="59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egia di risoluzione in profondità con back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ono esserci più clausole di programma utilizzabili per applicare la risoluzione con il goal corr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possono adottare diverse strategie di rice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profondità 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sceglie una clausola e si mantiene fissa questa scelta, finchè non si arriva alla clausola vuota o alla impossibilità di fare nuove risoluzioni. In questo ultimo caso si riconsiderano le scelte fatte precedente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mpiez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i considerano in parallelo tutte le possibili altern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prolog adotta una strategia di risoluzione in profondità con backtrac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mette di risparmiare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 è completa per le clausole di Ho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09480"/>
            <a:ext cx="853452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:-q,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:-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:-s,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6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:-u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7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:-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22860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 p.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25909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5909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78560" y="304812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q,r.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5560" y="380988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u,r.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0680" y="380988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v,r.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3720" y="411480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w,t. 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0400" y="533412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t. (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3720" y="304812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s,t.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90920" y="26668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26668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294920" y="33526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352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3429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33526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581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48769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5867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6172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usola vuota - suc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5715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762120"/>
            <a:ext cx="2209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bero di risol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il go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-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4648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42120" y="464832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33526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3048120"/>
            <a:ext cx="2286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 risol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profond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 back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zione logica e Pr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609480"/>
            <a:ext cx="853452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:-q,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:-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:-s,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6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:-u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7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:-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22860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 p.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25909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5909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78560" y="304812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q,r.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5560" y="380988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u,r.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0680" y="380988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v,r.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3720" y="411480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w,t. 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0400" y="533412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t. (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3720" y="304812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s,t.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90920" y="26668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26668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294920" y="33526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352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429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33526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3581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48769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5867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6172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usola vuota - suc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5715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762120"/>
            <a:ext cx="2209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bero di risol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il go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-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648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2120" y="464832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33526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048120"/>
            <a:ext cx="2286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 risol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profond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 back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4T22:35:17Z</dcterms:created>
  <dc:creator>Administrator</dc:creator>
  <dc:description/>
  <dc:language>en-US</dc:language>
  <cp:lastModifiedBy>Dario Bianchi</cp:lastModifiedBy>
  <cp:lastPrinted>1999-04-27T14:22:25Z</cp:lastPrinted>
  <dcterms:modified xsi:type="dcterms:W3CDTF">1999-04-28T21:06:21Z</dcterms:modified>
  <cp:revision>16</cp:revision>
  <dc:subject/>
  <dc:title>No Slide Title</dc:title>
</cp:coreProperties>
</file>