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989-8EFF-4B1F-8EBD-CEDB6A3B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CDE-F482-49EE-8D91-AAFAF25C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121-4382-46D2-BFCF-446400F4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043-46ED-4753-A9B2-D5A4F43C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F43-E124-4602-AF52-6FCC90D4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702-460B-4E65-BB0F-5D2EB26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2A8-464F-43AB-8BD6-040C3612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48B-893D-487D-BAAD-557934FE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70A-900C-4B0E-86AE-E0FE6347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66E-D7E1-47B2-992A-385B17D3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904-3A19-49A4-8F57-49C673B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D6B-E8C4-4512-B036-8CDF9F1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74E-5754-49DF-82C7-261110FF0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05596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52280" y="457200"/>
                <a:ext cx="52675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Mario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L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,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,Luc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può chieder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risposta sarà s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 risposta sarà: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Mario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ppure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/Luc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6520" y="22860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53416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logica dei predicati del primo ordine permette di rappresen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getti: persone, cose, numer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zioni: fratello, maggiore, parte d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à: rosso, primo, grand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: successore, somma, padre d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o più due uguale tre” - uno,due,tre sono oggetti, più è una funzione, uguale è un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diabolico Re Giovanni imperversò in Inghilterra nel 1200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ovanni, Inghilterra e 1200 sono oggetti, imperversò è una relazione, re e diabolico sono proprietà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79440"/>
            <a:ext cx="85341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costante: A,B,C,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predicato: Tondo, Frat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i di funzione: Padre_di, Quad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in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imboli di costante sono termini es. Giov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ndo una funzione n-adica a una n-pla di termini si ottiene un termine es. Padre_di(Giov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ule atomic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ormata da un simbnolo di predicato seguito da una lista di termini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tello(Riccardo,Giov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sati(Madre_di(Riccardo),Padre_di(Riccardo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279440"/>
            <a:ext cx="85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ule comples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ottengono dalle formule atomiche usando i connetivi logi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71800" y="2362320"/>
                <a:ext cx="2895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⇒</m:t>
                    </m:r>
                    <m:r>
                      <m:t xml:space="preserve">,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3200400"/>
                <a:ext cx="7924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ccard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iccard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ùGrand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PiùGiova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ig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iùGrand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PiùGiovan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066680"/>
            <a:ext cx="80769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dare un significato a una formula bisogna interpretarla come una affermazione sul dominio del disco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minio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un insieme non vuoto (anche infinito) ad es. Insieme di persone, l’insieme dei naturali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pret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 ottiene associ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simbolo costante un elemento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simbolo di funzione una funzione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predicato n-ario una relazione n-aria s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formula atomica si assegnare un valo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ogni formula complessa si assegna un valo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tilizzando le tavole di ve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5596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066680"/>
            <a:ext cx="8076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empio di interpre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a data la 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a,f(b,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possibile interpretazione è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il dominio degli int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funzi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a relazio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ggior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questa interpretazione si afferma che: 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è maggiore di 4 +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.In questa interpretazione la formula ha valo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al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a seconda interpretazione possiamo di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l’intero 11e la formula assume valore v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5800" y="2819520"/>
                <a:ext cx="66499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,0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3520" y="15238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icat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niamo che P sia la relazione MaggioreUg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0760" y="4038480"/>
            <a:ext cx="5606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icat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istenzi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niamo che Q sia una qualche propr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057400" y="5486400"/>
                <a:ext cx="33465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ili e quant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43000" y="1600200"/>
                <a:ext cx="5684760" cy="460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uantificatori annidati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'elemento y che esiste dipende a 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gono le segeunti equivalenze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6581880"/>
            <a:ext cx="79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19320"/>
            <a:ext cx="853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7360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6520" y="228600"/>
            <a:ext cx="47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 dei predicati del primo o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3840" y="882720"/>
                <a:ext cx="8280360" cy="453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ENTELE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d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emmina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,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igli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,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n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c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,p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,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Genito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iovann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inferisc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atell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i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uc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7:10:17Z</dcterms:created>
  <dc:creator>Dario Bianchi</dc:creator>
  <dc:description/>
  <dc:language>en-US</dc:language>
  <cp:lastModifiedBy>Dario Bianchi</cp:lastModifiedBy>
  <cp:lastPrinted>1999-03-17T18:13:09Z</cp:lastPrinted>
  <dcterms:modified xsi:type="dcterms:W3CDTF">1999-04-28T21:03:43Z</dcterms:modified>
  <cp:revision>11</cp:revision>
  <dc:subject/>
  <dc:title>No Slide Title</dc:title>
</cp:coreProperties>
</file>