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95F-17C8-4052-A874-EB16B796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649-B289-4866-9F7D-CCA517A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D7A-4100-4363-8732-0085CA7A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00B-B103-4B00-903C-90916846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482-4B01-4D0D-BAED-2BE2063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8DB-CC96-446B-A17E-F3F0B736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E2F-544E-4157-B384-F8729D0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B5C-653A-4D39-BCDD-82D4438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B87-B28F-424F-9DAC-2CA47D0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896-8F2C-41DC-8A59-B393610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9D0-0731-4669-B382-6F01C56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770-C234-4327-8F21-67F9E6F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5859-AECA-44B7-9137-6FB4D2D6E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renza nella logica dei predicati del primo ord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0920" y="63244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lide09b_03" descr=""/>
          <p:cNvPicPr/>
          <p:nvPr/>
        </p:nvPicPr>
        <p:blipFill>
          <a:blip r:embed="rId1"/>
          <a:stretch/>
        </p:blipFill>
        <p:spPr>
          <a:xfrm>
            <a:off x="1076400" y="985680"/>
            <a:ext cx="69912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00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lide09b_04" descr=""/>
          <p:cNvPicPr/>
          <p:nvPr/>
        </p:nvPicPr>
        <p:blipFill>
          <a:blip r:embed="rId1"/>
          <a:stretch/>
        </p:blipFill>
        <p:spPr>
          <a:xfrm>
            <a:off x="847800" y="1557360"/>
            <a:ext cx="7448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812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lide09b_05" descr=""/>
          <p:cNvPicPr/>
          <p:nvPr/>
        </p:nvPicPr>
        <p:blipFill>
          <a:blip r:embed="rId1"/>
          <a:stretch/>
        </p:blipFill>
        <p:spPr>
          <a:xfrm>
            <a:off x="1228680" y="833400"/>
            <a:ext cx="66866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58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lide09b_06" descr=""/>
          <p:cNvPicPr/>
          <p:nvPr/>
        </p:nvPicPr>
        <p:blipFill>
          <a:blip r:embed="rId1"/>
          <a:stretch/>
        </p:blipFill>
        <p:spPr>
          <a:xfrm>
            <a:off x="1062000" y="814320"/>
            <a:ext cx="7020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58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lide09b_07" descr=""/>
          <p:cNvPicPr/>
          <p:nvPr/>
        </p:nvPicPr>
        <p:blipFill>
          <a:blip r:embed="rId1"/>
          <a:stretch/>
        </p:blipFill>
        <p:spPr>
          <a:xfrm>
            <a:off x="1057320" y="1228680"/>
            <a:ext cx="7029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slide09b_08" descr=""/>
          <p:cNvPicPr/>
          <p:nvPr/>
        </p:nvPicPr>
        <p:blipFill>
          <a:blip r:embed="rId1"/>
          <a:stretch/>
        </p:blipFill>
        <p:spPr>
          <a:xfrm>
            <a:off x="1100160" y="1095480"/>
            <a:ext cx="69436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49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lide09b_09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972120" cy="401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3880" y="4724280"/>
                <a:ext cx="6934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futazione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mostrazione per assurdo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t xml:space="preserve">P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alse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lide09b_10" descr=""/>
          <p:cNvPicPr/>
          <p:nvPr/>
        </p:nvPicPr>
        <p:blipFill>
          <a:blip r:embed="rId1"/>
          <a:stretch/>
        </p:blipFill>
        <p:spPr>
          <a:xfrm>
            <a:off x="1090440" y="895320"/>
            <a:ext cx="6963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49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66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consideri il problem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se Marcia va ovunque vada John, e John è a scuola, dovè Marcia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1600200"/>
                <a:ext cx="5638680" cy="45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ssiomi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chool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manda </m:t>
                        </m:r>
                        <m:r>
                          <m:rPr>
                            <m:lit/>
                            <m:nor/>
                          </m:rPr>
                          <m:t xml:space="preserve"> ital </m:t>
                        </m:r>
                        <m:r>
                          <m:t xml:space="preserve">Dov</m:t>
                        </m:r>
                        <m:r>
                          <m:t xml:space="preserve">'</m:t>
                        </m:r>
                        <m:r>
                          <m:t xml:space="preserve">è</m:t>
                        </m:r>
                        <m:r>
                          <m:t xml:space="preserve">Marcia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gazione della domanda:  </m:t>
                        </m:r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 si può scrivere come: 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forma a clausole:</m:t>
                        </m:r>
                      </m:e>
                      <m:e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choo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ci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66680" y="1219320"/>
                <a:ext cx="18795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57800" y="1676520"/>
                <a:ext cx="7556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1219320"/>
                <a:ext cx="35528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981080" y="2438280"/>
                <a:ext cx="162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75200" y="2438280"/>
                <a:ext cx="2040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oh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cho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191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8120" y="1523520"/>
            <a:ext cx="31240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5238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81080" y="3124080"/>
                <a:ext cx="13287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hoo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895480" y="274320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95680" y="27432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4956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zione di rispos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endo nella doman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09880" y="4572000"/>
                <a:ext cx="13287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hoo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19720" y="5105520"/>
                <a:ext cx="17190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i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stituzion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520" y="1600200"/>
                <a:ext cx="8229600" cy="39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pplica la sostituzion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alla formula 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am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am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iac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ia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m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liminazione degli universali 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 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ostituendo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/Ben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i ha </m:t>
                    </m:r>
                    <m:r>
                      <m:rPr>
                        <m:lit/>
                        <m:nor/>
                      </m:rPr>
                      <m:t xml:space="preserve">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en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liminazione degli esistenziali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x Uccid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Vittim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possiamo inferire </m:t>
                    </m:r>
                    <m:r>
                      <m:rPr>
                        <m:lit/>
                        <m:nor/>
                      </m:rPr>
                      <m:t xml:space="preserve">Uccid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ss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o,Vitti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ssassino è una qualsisasi costante che non compare nella formul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Introduzione degli esistenziali</m:t>
                    </m:r>
                    <m:r>
                      <m:rPr>
                        <m:lit/>
                        <m:nor/>
                      </m:rPr>
                      <m:t xml:space="preserve">da </m:t>
                    </m:r>
                    <m:r>
                      <m:rPr>
                        <m:lit/>
                        <m:nor/>
                      </m:rPr>
                      <m:t xml:space="preserve">Piac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erry,Gelat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possiamo inferire 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xPiac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Gelat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360" y="658332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080" y="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3520" y="685800"/>
                <a:ext cx="8288280" cy="581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lle formul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Fast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 la nuova formula:  </m:t>
                        </m:r>
                        <m:r>
                          <m:rPr>
                            <m:lit/>
                            <m:nor/>
                          </m:rPr>
                          <m:t xml:space="preserve">Buffa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P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 col Modus Ponens:  </m:t>
                        </m:r>
                        <m:r>
                          <m:rPr>
                            <m:lit/>
                            <m:nor/>
                          </m:rPr>
                          <m:t xml:space="preserve">Faste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DUS </m:t>
                        </m:r>
                        <m:r>
                          <m:rPr>
                            <m:lit/>
                            <m:nor/>
                          </m:rPr>
                          <m:t xml:space="preserve">PONE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c'è una sostituzione 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ost</m:t>
                            </m:r>
                            <m:r>
                              <m:t xml:space="preserve">(</m:t>
                            </m:r>
                            <m:r>
                              <m:t xml:space="preserve">ϑ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q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è una formula di Hor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 solo letterale positiv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una disgiunzion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oè:  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3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unzione UNIFICA prende due formule atomic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estitusce una sostituzione che ren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ugu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7440" y="2895480"/>
                <a:ext cx="8709120" cy="23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 dove 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ost</m:t>
                        </m:r>
                        <m:r>
                          <m:t xml:space="preserve">(</m:t>
                        </m:r>
                        <m:r>
                          <m:t xml:space="preserve">ϑ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empi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Jan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Jane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,Leoni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Leonid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John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,Madr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/John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dre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ohn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FIC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ohn,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nos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Jan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a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3244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28840" y="30636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lide09a_11" descr=""/>
          <p:cNvPicPr/>
          <p:nvPr/>
        </p:nvPicPr>
        <p:blipFill>
          <a:blip r:embed="rId1"/>
          <a:stretch/>
        </p:blipFill>
        <p:spPr>
          <a:xfrm>
            <a:off x="442800" y="1147680"/>
            <a:ext cx="82584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724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lide09a_13" descr=""/>
          <p:cNvPicPr/>
          <p:nvPr/>
        </p:nvPicPr>
        <p:blipFill>
          <a:blip r:embed="rId1"/>
          <a:stretch/>
        </p:blipFill>
        <p:spPr>
          <a:xfrm>
            <a:off x="757080" y="2038320"/>
            <a:ext cx="7629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49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lide09a_14" descr=""/>
          <p:cNvPicPr/>
          <p:nvPr/>
        </p:nvPicPr>
        <p:blipFill>
          <a:blip r:embed="rId1"/>
          <a:stretch/>
        </p:blipFill>
        <p:spPr>
          <a:xfrm>
            <a:off x="1181160" y="1400040"/>
            <a:ext cx="67816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e09a_15" descr=""/>
          <p:cNvPicPr/>
          <p:nvPr/>
        </p:nvPicPr>
        <p:blipFill>
          <a:blip r:embed="rId1"/>
          <a:stretch/>
        </p:blipFill>
        <p:spPr>
          <a:xfrm>
            <a:off x="1157400" y="1590840"/>
            <a:ext cx="68292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560" y="640080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27400" y="30636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enza nella logica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lide09a_16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6705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01:53Z</dcterms:created>
  <dc:creator>Dario Bianchi</dc:creator>
  <dc:description/>
  <dc:language>en-US</dc:language>
  <cp:lastModifiedBy>Dario Bianchi</cp:lastModifiedBy>
  <dcterms:modified xsi:type="dcterms:W3CDTF">1999-04-28T16:29:11Z</dcterms:modified>
  <cp:revision>7</cp:revision>
  <dc:subject/>
  <dc:title>No Slide Title</dc:title>
</cp:coreProperties>
</file>