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147-52F0-4A66-BBE6-58DC3B60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9A3-D74F-4137-9019-27406561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826-848A-4628-948E-4DECED13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304-960D-4221-9063-FBE781D2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EE5-5B23-4D25-BD5C-0268E4E5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221-DA08-4F83-B9E0-E1D799E3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D37-D6F9-427D-9CF8-149BA5E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604-7668-4D22-8CD4-643EC79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FCC-9BFC-47E5-A54E-94C4601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BBB-4000-44B9-9248-532D02D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03B-A0AC-43E3-B551-EBBE8C6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71D-50B2-4BDD-92E2-286E472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DA3D-4953-4A01-9BF5-B4B3BF59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740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e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ig03_0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34200" cy="317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4343400"/>
            <a:ext cx="86868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o dell’aspirapolvere (singolo sta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tat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o degli 8 stati della fig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postati a destra, spostati a sinistra, aspi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 obiettivo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lasciare alcuna sporcizia nei quadr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sto del cammino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iascuna azione costa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olvere il problema da uno stato di partenza comporta seguire le frecce nel diagramma degli stati fino a uno statoi obiet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373392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do dell’aspirapolvere (stato multipl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gni istante l’apirapolvere si trovain uno stato di un insieme ma non sa quale stato dell’insieme è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tat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ttoinsiemi degli stati 1-8 della fig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postati a destra, spostati a sinistra, aspi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st obiettivo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ti gli stati dell’insieme degli stati non contengono sporciz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sto del cammino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iascuna azione costa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soluzione del problema è una qualsiasi sequenza che porti dall’insieme iniziale degli stati ad un insieme di stati senza sporciz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fig03_07" descr=""/>
          <p:cNvPicPr/>
          <p:nvPr/>
        </p:nvPicPr>
        <p:blipFill>
          <a:blip r:embed="rId1"/>
          <a:stretch/>
        </p:blipFill>
        <p:spPr>
          <a:xfrm>
            <a:off x="3724200" y="838080"/>
            <a:ext cx="5419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2120"/>
            <a:ext cx="83822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care sol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re sequenze di 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spansion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parte da uno stato e apllicando gli operatori (o la funzione successore) si generano nuovi st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rategia di ricerc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 ogni passo scegliere qiale stato espand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bero di ricerc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ppresenta l’espansione degli stati a partire dallo stato iniziale (la radice dell’albero). Le fogle dell’albero rappresentano gli stati da espande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762120"/>
            <a:ext cx="83822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care sol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tture dati per l’ albero di ricerca (struttura di un no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 stato nello spazio degli stati a cui il nodo corrispo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odo geni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peratore che è stato applicato per ottenere il n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fondità del n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costo del cammino dallo stato iniziale al no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lide03_21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59817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ig03_08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00920" cy="416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533412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ero di ricerca parziale per trovare un itinerario da Arad a Buca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g03_09" descr=""/>
          <p:cNvPicPr/>
          <p:nvPr/>
        </p:nvPicPr>
        <p:blipFill>
          <a:blip r:embed="rId1"/>
          <a:stretch/>
        </p:blipFill>
        <p:spPr>
          <a:xfrm>
            <a:off x="1528920" y="2362320"/>
            <a:ext cx="608616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7920" y="1371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lgoritmo generale di ri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ig03_10" descr=""/>
          <p:cNvPicPr/>
          <p:nvPr/>
        </p:nvPicPr>
        <p:blipFill>
          <a:blip r:embed="rId1"/>
          <a:stretch/>
        </p:blipFill>
        <p:spPr>
          <a:xfrm>
            <a:off x="1271520" y="2276640"/>
            <a:ext cx="6600960" cy="230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84080" y="1143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lgoritmo generale di ri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8769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mite l’argomen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uing-F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ne passata una funzione per accodare i nodi ottenuti dall’espans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295280"/>
            <a:ext cx="762012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e di ri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strategia di ricerca è un ordine di espansione dei no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ezz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strategia garantisce di trovare una soluzione quando ne esiste u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ssità tempora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o tempo ci vuole per trovare una soluzi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ssità spazia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a memoria occorre per effettuare una ricer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timalità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 strategia trova una soluzione ottima (a costo minimo) quando ci sono varie soluzioni differen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ssità temporale e spazi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misurata in termini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o fattore di diramazione dell’albero di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ofondità della soluzione a costo mi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a profondità dello spazio degli stati (può essere infin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ig03_11" descr=""/>
          <p:cNvPicPr/>
          <p:nvPr/>
        </p:nvPicPr>
        <p:blipFill>
          <a:blip r:embed="rId1"/>
          <a:stretch/>
        </p:blipFill>
        <p:spPr>
          <a:xfrm>
            <a:off x="1552680" y="2766960"/>
            <a:ext cx="6038640" cy="1324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371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rca in ampi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648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ing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etti i successori alla fine della c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lide03_2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47920" y="4648320"/>
            <a:ext cx="655308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o fattore di diramazione dell’albero di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ofondità della soluzione a costo mi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a profondità dello spazio degli stati (può essere infin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ig03_01" descr=""/>
          <p:cNvPicPr/>
          <p:nvPr/>
        </p:nvPicPr>
        <p:blipFill>
          <a:blip r:embed="rId1"/>
          <a:stretch/>
        </p:blipFill>
        <p:spPr>
          <a:xfrm>
            <a:off x="1805040" y="1461960"/>
            <a:ext cx="5533920" cy="393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5715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semplice agente risolutore di probl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371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rca in ampi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6483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 svantaggio principale è l’eccessiva occupazione di memo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ell’esempio si suppone che il fattore di ramificazione sia b=10. Si espandono 1000 nodi/secondo. Ogni nodo occupa 100 byte di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fig03_1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91440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rca a cos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ascun nodo è etichettato con il cost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ing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erisci i successori in ordine di costo di cammino 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ig03_13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38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762120"/>
            <a:ext cx="5943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rca in profond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 assume che i nodi di profondità 3 non abbiano success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ing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erisci i successori all’inizio della co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fig03_14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05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lide03_50" descr=""/>
          <p:cNvPicPr/>
          <p:nvPr/>
        </p:nvPicPr>
        <p:blipFill>
          <a:blip r:embed="rId1"/>
          <a:stretch/>
        </p:blipFill>
        <p:spPr>
          <a:xfrm>
            <a:off x="1162080" y="1628640"/>
            <a:ext cx="6819840" cy="360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4935600"/>
            <a:ext cx="64008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o fattore di diramazione dell’albero di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ofondità della soluzione a costo mi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a profondità dello spazio degli stati (può essere infin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219320"/>
            <a:ext cx="7467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con limite di profon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cende lungo un ramo finchè non si trova la soluzione o si raggiunge il limite di profond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vita di scendere lungo rami infin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con approfondimento it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ig03_15" descr=""/>
          <p:cNvPicPr/>
          <p:nvPr/>
        </p:nvPicPr>
        <p:blipFill>
          <a:blip r:embed="rId1"/>
          <a:stretch/>
        </p:blipFill>
        <p:spPr>
          <a:xfrm>
            <a:off x="1314360" y="2519280"/>
            <a:ext cx="6515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con approfondimento it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ig03_16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5054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lide03_62" descr=""/>
          <p:cNvPicPr/>
          <p:nvPr/>
        </p:nvPicPr>
        <p:blipFill>
          <a:blip r:embed="rId1"/>
          <a:stretch/>
        </p:blipFill>
        <p:spPr>
          <a:xfrm>
            <a:off x="1123920" y="1862280"/>
            <a:ext cx="6896160" cy="3133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5280" y="4724280"/>
            <a:ext cx="6553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o fattore di diramazione dell’albero di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ofondità della soluzione a costo mi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massima profondità dello spazio degli stati (può essere infin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bidire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ig03_17" descr=""/>
          <p:cNvPicPr/>
          <p:nvPr/>
        </p:nvPicPr>
        <p:blipFill>
          <a:blip r:embed="rId1"/>
          <a:stretch/>
        </p:blipFill>
        <p:spPr>
          <a:xfrm>
            <a:off x="1900080" y="2052720"/>
            <a:ext cx="53438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o fra le strategie di rice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ig03_18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1946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426708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fattore di ramificazione; d = profondià della soluzione; m=profondità massima dell’albero di ricerca; l=limite di profondità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143000"/>
            <a:ext cx="78487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esempio: vacanza in Ro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ualmente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a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aereo parte domani d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ucar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ulare un go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ssere in Buc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ulare un 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t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rie cit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uidare da una città all’al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ovare una soluzio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za di citt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: Arad, Sibiu, Faragas, Buc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tare ripetizioni di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fig03_19" descr=""/>
          <p:cNvPicPr/>
          <p:nvPr/>
        </p:nvPicPr>
        <p:blipFill>
          <a:blip r:embed="rId1"/>
          <a:stretch/>
        </p:blipFill>
        <p:spPr>
          <a:xfrm>
            <a:off x="1414440" y="2214720"/>
            <a:ext cx="6315120" cy="2428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43000" y="51055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o spazio degli stati che genera un albero di ricerca esponenziale . Il lato sinistro mostra lo spazio degli stati, nel quale ci sono due azioni possibili che conducono da A a B, due da B a C e così via. Il lato destro mostra l`albero di ricerca corrispon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143000"/>
            <a:ext cx="761976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odi di ricerca inform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n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osce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ca relativa a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Best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 un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zione di valutaz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calcola un numero che rappresenta la desiderabilità relativa all’espansione di n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st-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ifica scegliere come nodo da espandere quello che sembra più desider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uing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serisce I successori in ordine decrescente di desiderabil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i particol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cer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golo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cerca A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143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fig04_01" descr=""/>
          <p:cNvPicPr/>
          <p:nvPr/>
        </p:nvPicPr>
        <p:blipFill>
          <a:blip r:embed="rId1"/>
          <a:stretch/>
        </p:blipFill>
        <p:spPr>
          <a:xfrm>
            <a:off x="1424160" y="2638440"/>
            <a:ext cx="6295680" cy="1581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6680" y="457200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realizzazione del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best-fir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usa l’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ricerca generale e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zione di valut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al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143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g04_0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4305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a della Romania con distanze stradali e distanze in linea d’aria da Buca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143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14300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greedy (golo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e di valutazi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eurist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ima del costo dal no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za in linea d’aria fr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ca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icerca golosa espande quel nodo che sembra essere il più vicino all’obiettivo (go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143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fog04_03" descr=""/>
          <p:cNvPicPr/>
          <p:nvPr/>
        </p:nvPicPr>
        <p:blipFill>
          <a:blip r:embed="rId1"/>
          <a:stretch/>
        </p:blipFill>
        <p:spPr>
          <a:xfrm>
            <a:off x="704880" y="1028880"/>
            <a:ext cx="773424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5867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di di una ricerca golosa per Bucarest usando come funzione di valutazione la distanza in linea d’aria. I nodi sono etichettati con i valori d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143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066680"/>
            <a:ext cx="83818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rc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ta di espandere quei cammini che sono già costo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e di valutazion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n)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effettivo dalla radice al no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n)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stimato dal no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nodo obiettivo (go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n)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totale stimato di un cammino che arriva al goal passando p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icerc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 una euristica ammissibile cioè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(n)  &lt;= h*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*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il vero costo d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 go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l nostro esempio la distanza in linea d’aria non svrastima mai l’effettiva distanza strad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orema: la ricerc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ti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 compl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715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fig04_04" descr=""/>
          <p:cNvPicPr/>
          <p:nvPr/>
        </p:nvPicPr>
        <p:blipFill>
          <a:blip r:embed="rId1"/>
          <a:stretch/>
        </p:blipFill>
        <p:spPr>
          <a:xfrm>
            <a:off x="905040" y="1519200"/>
            <a:ext cx="7333920" cy="3819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14400" y="56386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di di una ricerc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 Bucarest usando come funzione di valu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 = g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distanza in linea d’aria per Bucarest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71500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ig04_05" descr=""/>
          <p:cNvPicPr/>
          <p:nvPr/>
        </p:nvPicPr>
        <p:blipFill>
          <a:blip r:embed="rId1"/>
          <a:stretch/>
        </p:blipFill>
        <p:spPr>
          <a:xfrm>
            <a:off x="1357200" y="1309680"/>
            <a:ext cx="6429600" cy="423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71600" y="838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timalità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55627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a della Romania che mostra le frontiere  f=380, f=400, f=420, con Arad come stato iniziale. I nodi dentro una frontiera hanno valori più bassi del valore della frontie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5715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143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 euri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ig04_07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314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648320"/>
            <a:ext cx="784872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’possibile definire differenti funzioni euristiche. Ad 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o di tessere che sono fuori posto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la somma delle distanze dalle posizioni che le tessere devono assumere nella configurazione obiettivo. La distanza è una somma delle distanze orizzontali e verticali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za di Manhatt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Le tessere da 1 a 8 nello stato iniziale danno una distanz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+3+3+2+4+2+0+2 =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ig03_03" descr=""/>
          <p:cNvPicPr/>
          <p:nvPr/>
        </p:nvPicPr>
        <p:blipFill>
          <a:blip r:embed="rId1"/>
          <a:stretch/>
        </p:blipFill>
        <p:spPr>
          <a:xfrm>
            <a:off x="1743120" y="1681200"/>
            <a:ext cx="56577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715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fig04_08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7708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43000" y="4648320"/>
            <a:ext cx="67816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o fra la ricerca ad approfondimento it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l’algoritm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8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ondo dell’aspirapol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ig03_02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810240" cy="3432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676520"/>
            <a:ext cx="4800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i di proble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o Singolo : {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o Multiplo: {1,2,3,4,5,7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a produce {2,4,6,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za: {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re dove non c’è polvere può produrre dello spo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necessario un sens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257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io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tra, sinistra, asp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90720"/>
            <a:ext cx="861048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zione di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 singolo st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ssere “in Ar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rad -&gt; Zerind, Arad -&gt; Sibiu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funzione successore S fa passare dallo stato x agli stati S(x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insieme degli stgati raggiungibili definisce l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pazio degli s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obiet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licit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in Bucar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licit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NonSporco(x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to del cam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 Somma delle distanze, numero di operatori applicati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zi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sequenza di operatori che porta da uno stato inizi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no stato obiettiv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733920"/>
            <a:ext cx="86104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tipica istanza del rompicapo dell’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o stato specifica la posizione di ciascuna delle 8 tess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 spazio vuoto si muove a destra, a sinistra, sopra, so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obiettiv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 stato rispecchia la configurazione obiettivo (Go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to del cammin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ascun passo costa 1. Il costo del cam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incide con la sua lunghez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g03_04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8290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03_0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43520" cy="3209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590920"/>
            <a:ext cx="4191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lsiasi configurazione da 0 a 8 regine sulla scacch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ggiungi una regina in qualsiasi quad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obiettiv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 regine sulla scacchiera, nessuna minacci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to cammin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roblema delle 8 re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64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lide03_1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21:22:31Z</dcterms:created>
  <dc:creator>Dario Bianchi</dc:creator>
  <dc:description/>
  <dc:language>en-US</dc:language>
  <cp:lastModifiedBy>Dario Bianchi</cp:lastModifiedBy>
  <cp:lastPrinted>1999-03-08T10:31:11Z</cp:lastPrinted>
  <dcterms:modified xsi:type="dcterms:W3CDTF">1999-03-08T10:44:36Z</dcterms:modified>
  <cp:revision>8</cp:revision>
  <dc:subject/>
  <dc:title>No Slide Title</dc:title>
</cp:coreProperties>
</file>