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3DE-383B-41D7-909B-8988AD6A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DC7-A3CB-40D9-9B35-01300A48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A47-5D80-4F2F-A319-3309AC97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16B-7F76-47C4-9285-8AF85092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D25-9486-4969-9B4C-C6EA0DCF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37E-9C0E-4541-9DA7-200D8A34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5E2-6166-4B3F-A641-F1183189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570-919E-49A0-A2D5-1AE3F9A6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71A-DE61-45A5-9443-048E64DA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B39-D3E0-4993-BB17-3CFA01DD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B19-12D1-4A5E-9497-262ABF3D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F3A-6BB8-4219-9913-5BCED5FC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3542-D012-465E-AD68-0DB306FBD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65960" y="4724280"/>
            <a:ext cx="53438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cune definizioni dell’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i che pensano come gli esseri umani: modellizzazione cogni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i che operano come gli esseri umani: test di Tu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i che pensano razionalmente: le leggi del pens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i che agiscono razionalmente: l’agente raziona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fig01_01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0958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i intellig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3160" y="4888080"/>
            <a:ext cx="775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 agente basato su una tabella di consultazione. L’agente tiene conto della sequenza di perce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 si limita a consultare l’azione migli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ig02_05" descr=""/>
          <p:cNvPicPr/>
          <p:nvPr/>
        </p:nvPicPr>
        <p:blipFill>
          <a:blip r:embed="rId1"/>
          <a:stretch/>
        </p:blipFill>
        <p:spPr>
          <a:xfrm>
            <a:off x="1152360" y="2633760"/>
            <a:ext cx="683928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i intellig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886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agente di tipo tass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495680"/>
            <a:ext cx="8229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i con riflessi sempl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i che tengono conto del m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i basati su obiet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i basati su uti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fig02_06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0960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i intellig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fig02_07" descr=""/>
          <p:cNvPicPr/>
          <p:nvPr/>
        </p:nvPicPr>
        <p:blipFill>
          <a:blip r:embed="rId1"/>
          <a:stretch/>
        </p:blipFill>
        <p:spPr>
          <a:xfrm>
            <a:off x="2719440" y="2247840"/>
            <a:ext cx="3705120" cy="2362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6680" y="49528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agente con riflessi sempl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5715000"/>
            <a:ext cx="7162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ola condizione-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acchina-davanti-sta-frenand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izia-a-fren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i intellig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4572000"/>
            <a:ext cx="8534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 agente con riflessi semplici. Funziona trovando una regola le cui condizioni si accorda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 lo stato corrente (come definito dalla percezione) e quindi compiendo l’azione associata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lla rego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fig02_08" descr=""/>
          <p:cNvPicPr/>
          <p:nvPr/>
        </p:nvPicPr>
        <p:blipFill>
          <a:blip r:embed="rId1"/>
          <a:stretch/>
        </p:blipFill>
        <p:spPr>
          <a:xfrm>
            <a:off x="2243160" y="2529000"/>
            <a:ext cx="46576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fig02_09" descr=""/>
          <p:cNvPicPr/>
          <p:nvPr/>
        </p:nvPicPr>
        <p:blipFill>
          <a:blip r:embed="rId1"/>
          <a:stretch/>
        </p:blipFill>
        <p:spPr>
          <a:xfrm>
            <a:off x="2719440" y="2247840"/>
            <a:ext cx="3705120" cy="23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0760" y="4862520"/>
            <a:ext cx="5340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 agente con riflessi che ha uno stato interno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 stato interno serve a tenere conto del mon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 stato viene aggiorna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base a informazioni su come il mondo ev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nedo conto che le azioni dell’agente modificano il mon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i intellig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800600"/>
            <a:ext cx="853452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agente con riflessi con stato inte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ziona trovando una regola la cui condizione si accorda con la situazione corrente (come definita dalla percezione e dallo stato interno memorizzato) e compie quindi l`azione associata a questa rego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fig02_10" descr=""/>
          <p:cNvPicPr/>
          <p:nvPr/>
        </p:nvPicPr>
        <p:blipFill>
          <a:blip r:embed="rId1"/>
          <a:stretch/>
        </p:blipFill>
        <p:spPr>
          <a:xfrm>
            <a:off x="2023920" y="2214720"/>
            <a:ext cx="50961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ig02_11" descr=""/>
          <p:cNvPicPr/>
          <p:nvPr/>
        </p:nvPicPr>
        <p:blipFill>
          <a:blip r:embed="rId1"/>
          <a:stretch/>
        </p:blipFill>
        <p:spPr>
          <a:xfrm>
            <a:off x="2719440" y="2247840"/>
            <a:ext cx="3705120" cy="2362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5181480"/>
            <a:ext cx="777240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agente con obiettivi espliciti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sulta più flessi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e trovare sequenze di azioni opportune per raggiungere l’obiettivo usando ricerca e pianific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i intellig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ig02_12" descr=""/>
          <p:cNvPicPr/>
          <p:nvPr/>
        </p:nvPicPr>
        <p:blipFill>
          <a:blip r:embed="rId1"/>
          <a:stretch/>
        </p:blipFill>
        <p:spPr>
          <a:xfrm>
            <a:off x="2719440" y="2247840"/>
            <a:ext cx="3705120" cy="2362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4724280"/>
            <a:ext cx="8153280" cy="15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e completo basato sull’ utili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ciascuno stato corrisponde un grado di utilità o di felicità per l’ag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 possono essere più obiettivi contrastanti e l’utilità fornosce un opportuno bilanciam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 possono essere diversi obiettivi, nessuno dei quali può essere raggiunto con certezza: la probabilità di successo può essere valutata rispetto all’importanza degli obiet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i intellig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724280"/>
            <a:ext cx="84582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e può essere un amb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cessibile - l’apparato sensorio permette all’agente accesso allo stato completo dell’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terministico - Lo stato successivo è determinato dallo stato attuale e dalle azioni degli ag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pisodico - Le azioni vengono selezionate solo in base allo stato corrente (non tenendo conto della stori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ico/Dinamico - Se l’ambiente rimane fisso o varia mentre l’agente delibe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creto/Continuo - Se le percezioni e le azioni sono in numero limitato o variano con continuita’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fig02_13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629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i intellig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724280"/>
            <a:ext cx="84582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 programma di base di un simulatore di ambien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nisce ad ogni agente la sua perce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ceve una azione da ogni ag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ggiorna l’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fig02_14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8100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46800" y="4749840"/>
            <a:ext cx="18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133720"/>
            <a:ext cx="701028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i inizi (1952-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ioc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mostratori di teoremi (in logica, geometria) e risolutori di problemi matema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crom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odi basati sulla conoscenza (1969-197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stemi esper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ttori di certez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isi linguaggio natura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frontare problemi reali (1980-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licazioni di interesse industria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i neur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goritmi gene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209680"/>
            <a:ext cx="77724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i consigli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ssel e Norvig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lligenza Artificia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Utet libr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ston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stemi Esperti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cGraw-H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tko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mare in Prolog per l’intelligenza artificia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Ma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orni, Gaglio e Mass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uale di Intelligenza artificiale. Il linguaggio  Prolog e le sue applicazion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Nis La Nuova Italia Scient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6553080"/>
            <a:ext cx="4419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553080"/>
            <a:ext cx="83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ario Bianchi ,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ig01_02" descr=""/>
          <p:cNvPicPr/>
          <p:nvPr/>
        </p:nvPicPr>
        <p:blipFill>
          <a:blip r:embed="rId1"/>
          <a:stretch/>
        </p:blipFill>
        <p:spPr>
          <a:xfrm>
            <a:off x="2014560" y="2295360"/>
            <a:ext cx="5114880" cy="226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33720" y="4952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esempio di problema risolto con il programma ANALOGY di Evans (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fig01_03" descr=""/>
          <p:cNvPicPr/>
          <p:nvPr/>
        </p:nvPicPr>
        <p:blipFill>
          <a:blip r:embed="rId1"/>
          <a:stretch/>
        </p:blipFill>
        <p:spPr>
          <a:xfrm>
            <a:off x="1776240" y="2004840"/>
            <a:ext cx="5591520" cy="2848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5280" y="5562720"/>
            <a:ext cx="640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CROMONDI - Una scena dal mondo dei blocchi. Un compito per un robot potrebbe essere “prendi un blocco rosso grande”, espresso in linguaggio naturale o in una notazione forma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2133720"/>
            <a:ext cx="678204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i espe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ercano di trasferire la conoscenza di un esperto, in un settore limitato, in un insienme di reg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dizion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 esempio (da Myc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) the stain of the organism is gramneg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) the morphology of the organism is rod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3) the aerobicity of the organism is aerob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re is evidence 0.8 that the class of the organism is enterobacteriacea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068560"/>
            <a:ext cx="335268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oluzione di proble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solvere problemi con 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odi di ricerca inform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ioc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oscenza e rag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gica proposiz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gica del primo ord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si di conosc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stemi di ragionamento lo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anif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 ese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i neur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 rinforzo (algoritmi genetic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057400"/>
            <a:ext cx="396216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gionamento con incert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stemi di ragionamento probabili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gica fuz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s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mmatiche e linguaggi form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izzatori sintat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pretazione seman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bigu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aborazione del linguaggio natu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aborazione di immagi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conoscimento di ogge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conoscimento del linguaggio parl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bo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i intellig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37339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li agenti interagiscono con gli ambienti per mezzo di sensori e attu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01992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ura di pres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za di perce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oscenza del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oscenza predefin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ioni che l’agente puo’ eseg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ente razionale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er ogni szequenza di percezione deve compiere l’azione che massimizza la misura di presta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stema autonomo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: Il suo comportamento viene determinato dalla sua esperienza persona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fig02_01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2960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1522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i intellig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ig02_0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52480" y="1371600"/>
            <a:ext cx="7010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egneria della conoscenza e sistemi espert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i intellig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6553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rio Bianch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952880"/>
            <a:ext cx="853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o schema di agente. Ad ogni attivazione, la memoria dell’agente viene aggiornata per ripflettere la nuova percezione, viene scelta l’azione migliore e viene anche immagazzinato in memoria il fatto che l’azione è stata eseguita. La memoria persiste da una attivazione a quella successiv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fig02_04" descr=""/>
          <p:cNvPicPr/>
          <p:nvPr/>
        </p:nvPicPr>
        <p:blipFill>
          <a:blip r:embed="rId1"/>
          <a:stretch/>
        </p:blipFill>
        <p:spPr>
          <a:xfrm>
            <a:off x="2347920" y="2576520"/>
            <a:ext cx="44481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31:12Z</dcterms:created>
  <dc:creator>Dario Bianchi</dc:creator>
  <dc:description/>
  <dc:language>en-US</dc:language>
  <cp:lastModifiedBy>Dario Bianchi</cp:lastModifiedBy>
  <cp:lastPrinted>1999-03-01T18:06:27Z</cp:lastPrinted>
  <dcterms:modified xsi:type="dcterms:W3CDTF">1999-03-03T21:21:06Z</dcterms:modified>
  <cp:revision>15</cp:revision>
  <dc:subject/>
  <dc:title>Ingegneria della conoscenza e sistemi esperti</dc:title>
</cp:coreProperties>
</file>