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8FE-9BFB-4A71-AE24-57CA3274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A30-923A-4254-90CD-F418893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5E1-C42C-4A87-A8F4-4E984EDC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A8C-A98E-49C2-B595-B62DFAA6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758-9102-4786-B565-10B7A8A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648-6333-4FFC-AF10-5D7AC02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F58-5B2F-4B1F-B3DB-7E85FE6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C22-E3BA-4E1F-BF64-15A78EB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206-DA3D-4BD8-B57E-7DA3CD2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E34-D072-403D-97A1-DD1AA03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C2A-1CD8-4F7A-BB79-1CA3ABF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AF3-EBDF-4946-8C4F-A71125F4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4461-FA33-4B74-B853-9621F39EB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52280" y="457200"/>
                <a:ext cx="52675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può chied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 s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: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Mario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ppure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Luc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6520" y="22860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53416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ogica dei predicati del primo ordine permette di rappresen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getti: persone, cose, numer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zioni: fratello, maggiore, part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à: rosso, primo, grand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: successore, somma, padr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o più due uguale tre” - uno,due,tre sono oggetti, più è una funzione, uguale è un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diabolico Re Giovanni imperversò in Inghilterra nel 1200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ovanni, Inghilterra e 1200 sono oggetti, imperversò è una relazione, re e diabolico sono proprietà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79440"/>
            <a:ext cx="85341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costante: A,B,C,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predicato: Tondo, Frat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funzione: Padre_di, Quad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imboli di costante sono termini es. 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ndo una funzione n-adica a una n-pla di termini si ottiene un termine es. Padre_di(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atomi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ormata da un simbnolo di predicato seguito da una lista di termini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tello(Riccardo,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sati(Madre_di(Riccardo),Padre_di(Riccardo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79440"/>
            <a:ext cx="85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comples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ottengono dalle formule atomiche usando i connetivi log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71800" y="2362320"/>
                <a:ext cx="289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3200400"/>
                <a:ext cx="7924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ig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066680"/>
            <a:ext cx="80769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dare un significato a una formula bisogna interpretarla come una affermazione sul dominio del disco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minio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insieme non vuoto (anche infinito) ad es. Insieme di persone, l’insieme dei natural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ottiene associ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costante un elemento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di funzione una funzione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predicato n-ario una relazione n-aria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atomica si assegnare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complessa si assegna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tilizzando le tavole di ve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066680"/>
            <a:ext cx="8076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mpio di interpre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a data la 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a,f(b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possibile interpretazione è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il dominio degli in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fun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rela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ggior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esta interpretazione si afferma che: 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è maggiore di 4 +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.In questa interpretazione la formula ha valo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a seconda interpretazione possiamo di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11e la formula assume valore v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819520"/>
                <a:ext cx="66499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3520" y="15238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P sia la relazione Maggiore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760" y="4038480"/>
            <a:ext cx="5606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istenzi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Q sia una qualche prop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57400" y="5486400"/>
                <a:ext cx="33465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43000" y="1600200"/>
                <a:ext cx="5684760" cy="460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uantificatori annidati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'elemento y che esiste dipende a 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gono le segeunti equivalenze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3840" y="882720"/>
                <a:ext cx="8280360" cy="453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7:10:17Z</dcterms:created>
  <dc:creator>Dario Bianchi</dc:creator>
  <dc:description/>
  <dc:language>en-US</dc:language>
  <cp:lastModifiedBy>Dario Bianchi</cp:lastModifiedBy>
  <cp:lastPrinted>1999-03-17T18:13:09Z</cp:lastPrinted>
  <dcterms:modified xsi:type="dcterms:W3CDTF">1999-04-28T21:03:43Z</dcterms:modified>
  <cp:revision>11</cp:revision>
  <dc:subject/>
  <dc:title>No Slide Title</dc:title>
</cp:coreProperties>
</file>