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BDA-241F-42CB-91B1-7CAA93FF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F88-9B78-49E5-9D72-82205BBD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418-E032-4C18-ACD3-AC388832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C74-1BFD-4C0A-8A7F-C3B7B625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77D-DD65-4971-A7DB-84DE5552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321-1F3B-46A8-9ECD-F192F25E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3D9-D1B3-4483-8E4B-180B0B5B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899-C577-4DE3-B81B-1EA79941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C1D-B0FD-41E8-A63E-E9C8050A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94B-03F7-4EAB-97F4-8153F2D2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755-1EB2-4E5A-9300-EFC44ED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C29-CF69-49C2-9ABC-DFB714AF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8811-6383-4CEF-8354-9B25D43ED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055960"/>
            <a:ext cx="8534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erenza nella logica dei predicati del primo ord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0920" y="63244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slide09b_03" descr=""/>
          <p:cNvPicPr/>
          <p:nvPr/>
        </p:nvPicPr>
        <p:blipFill>
          <a:blip r:embed="rId1"/>
          <a:stretch/>
        </p:blipFill>
        <p:spPr>
          <a:xfrm>
            <a:off x="1076400" y="985680"/>
            <a:ext cx="699120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00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slide09b_04" descr=""/>
          <p:cNvPicPr/>
          <p:nvPr/>
        </p:nvPicPr>
        <p:blipFill>
          <a:blip r:embed="rId1"/>
          <a:stretch/>
        </p:blipFill>
        <p:spPr>
          <a:xfrm>
            <a:off x="847800" y="1557360"/>
            <a:ext cx="7448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6812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slide09b_05" descr=""/>
          <p:cNvPicPr/>
          <p:nvPr/>
        </p:nvPicPr>
        <p:blipFill>
          <a:blip r:embed="rId1"/>
          <a:stretch/>
        </p:blipFill>
        <p:spPr>
          <a:xfrm>
            <a:off x="1228680" y="833400"/>
            <a:ext cx="66866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58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slide09b_06" descr=""/>
          <p:cNvPicPr/>
          <p:nvPr/>
        </p:nvPicPr>
        <p:blipFill>
          <a:blip r:embed="rId1"/>
          <a:stretch/>
        </p:blipFill>
        <p:spPr>
          <a:xfrm>
            <a:off x="1062000" y="814320"/>
            <a:ext cx="7020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58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lide09b_07" descr=""/>
          <p:cNvPicPr/>
          <p:nvPr/>
        </p:nvPicPr>
        <p:blipFill>
          <a:blip r:embed="rId1"/>
          <a:stretch/>
        </p:blipFill>
        <p:spPr>
          <a:xfrm>
            <a:off x="1057320" y="1228680"/>
            <a:ext cx="70293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72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slide09b_08" descr=""/>
          <p:cNvPicPr/>
          <p:nvPr/>
        </p:nvPicPr>
        <p:blipFill>
          <a:blip r:embed="rId1"/>
          <a:stretch/>
        </p:blipFill>
        <p:spPr>
          <a:xfrm>
            <a:off x="1100160" y="1095480"/>
            <a:ext cx="694368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496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lide09b_09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972120" cy="401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23880" y="4724280"/>
                <a:ext cx="69343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futazione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imostrazione per assurdo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  <m:r>
                          <m:t xml:space="preserve">∧</m:t>
                        </m:r>
                        <m:r>
                          <m:t xml:space="preserve">¬</m:t>
                        </m:r>
                        <m:r>
                          <m:t xml:space="preserve">P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False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56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lide09b_10" descr=""/>
          <p:cNvPicPr/>
          <p:nvPr/>
        </p:nvPicPr>
        <p:blipFill>
          <a:blip r:embed="rId1"/>
          <a:stretch/>
        </p:blipFill>
        <p:spPr>
          <a:xfrm>
            <a:off x="1090440" y="895320"/>
            <a:ext cx="69631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496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0666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consideri il problem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se Marcia va ovunque vada John, e John è a scuola, dovè Marcia?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71600" y="1600200"/>
                <a:ext cx="5638680" cy="45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ssiomi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ia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chool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manda </m:t>
                        </m:r>
                        <m:r>
                          <m:rPr>
                            <m:lit/>
                            <m:nor/>
                          </m:rPr>
                          <m:t xml:space="preserve"> ital </m:t>
                        </m:r>
                        <m:r>
                          <m:t xml:space="preserve">Dov</m:t>
                        </m:r>
                        <m:r>
                          <m:t xml:space="preserve">'</m:t>
                        </m:r>
                        <m:r>
                          <m:t xml:space="preserve">è</m:t>
                        </m:r>
                        <m:r>
                          <m:t xml:space="preserve">Marcia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ia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gazione della domanda:  </m:t>
                        </m:r>
                        <m:r>
                          <m:t xml:space="preserve">¬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ia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 si può scrivere come: 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ia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forma a clausole:</m:t>
                        </m:r>
                      </m:e>
                      <m:e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ia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choo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ia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72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066680" y="1219320"/>
                <a:ext cx="18795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rcia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257800" y="1676520"/>
                <a:ext cx="75564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1219320"/>
                <a:ext cx="355284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John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rcia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981080" y="2438280"/>
                <a:ext cx="162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John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975200" y="2438280"/>
                <a:ext cx="2040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Joh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cho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19112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48120" y="1523520"/>
            <a:ext cx="31240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5238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981080" y="3124080"/>
                <a:ext cx="13287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hoo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895480" y="274320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95680" y="274320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4956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stituzione di rispost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stituendo nella doman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09880" y="4572000"/>
                <a:ext cx="13287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hoo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19720" y="5105520"/>
                <a:ext cx="17190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rcia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86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28840" y="30636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stituzioni e quantific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520" y="1600200"/>
                <a:ext cx="8229600" cy="39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st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pplica la sostituzione 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 alla formula 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st</m:t>
                        </m:r>
                        <m:r>
                          <m:t xml:space="preserve">(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am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Pam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iac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ia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am</m:t>
                        </m:r>
                        <m:r>
                          <m:t xml:space="preserve">)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Eliminazione degli universali </m:t>
                    </m:r>
                    <m:r>
                      <m:rPr>
                        <m:lit/>
                        <m:nor/>
                      </m:rPr>
                      <m:t xml:space="preserve">da 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x Piac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Gelat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ostituendo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/Ben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si ha </m:t>
                    </m:r>
                    <m:r>
                      <m:rPr>
                        <m:lit/>
                        <m:nor/>
                      </m:rPr>
                      <m:t xml:space="preserve">Piac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en,Gelat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liminazione degli esistenziali</m:t>
                    </m:r>
                    <m:r>
                      <m:rPr>
                        <m:lit/>
                        <m:nor/>
                      </m:rPr>
                      <m:t xml:space="preserve">da </m:t>
                    </m:r>
                    <m:r>
                      <m:t xml:space="preserve">∃</m:t>
                    </m:r>
                    <m:r>
                      <m:rPr>
                        <m:lit/>
                        <m:nor/>
                      </m:rPr>
                      <m:t xml:space="preserve">x Uccid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Vittim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possiamo inferire </m:t>
                    </m:r>
                    <m:r>
                      <m:rPr>
                        <m:lit/>
                        <m:nor/>
                      </m:rPr>
                      <m:t xml:space="preserve">Uccid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ss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o,Vittim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ssassino è una qualsisasi costante che non compare nella formul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Introduzione degli esistenziali</m:t>
                    </m:r>
                    <m:r>
                      <m:rPr>
                        <m:lit/>
                        <m:nor/>
                      </m:rPr>
                      <m:t xml:space="preserve">da </m:t>
                    </m:r>
                    <m:r>
                      <m:rPr>
                        <m:lit/>
                        <m:nor/>
                      </m:rPr>
                      <m:t xml:space="preserve">Piac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erry,Gelat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possiamo inferire </m:t>
                    </m:r>
                    <m:r>
                      <m:t xml:space="preserve">∃</m:t>
                    </m:r>
                    <m:r>
                      <m:rPr>
                        <m:lit/>
                        <m:nor/>
                      </m:rPr>
                      <m:t xml:space="preserve">xPiac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Gelat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636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78080" y="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33520" y="685800"/>
                <a:ext cx="8288280" cy="581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lle formul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ffa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o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i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Buffalo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Pi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Fast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inferisce la nuova formula:  </m:t>
                        </m:r>
                        <m:r>
                          <m:rPr>
                            <m:lit/>
                            <m:nor/>
                          </m:rPr>
                          <m:t xml:space="preserve">Buffa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ob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Pi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 col Modus Ponens:  </m:t>
                        </m:r>
                        <m:r>
                          <m:rPr>
                            <m:lit/>
                            <m:nor/>
                          </m:rPr>
                          <m:t xml:space="preserve">Faste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o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a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DUS </m:t>
                        </m:r>
                        <m:r>
                          <m:rPr>
                            <m:lit/>
                            <m:nor/>
                          </m:rPr>
                          <m:t xml:space="preserve">PONE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 c'è una sostituzione 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 tale che </m:t>
                        </m:r>
                        <m:r>
                          <m:rPr>
                            <m:lit/>
                            <m:nor/>
                          </m:rPr>
                          <m:t xml:space="preserve">Sost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ost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ost</m:t>
                            </m:r>
                            <m:r>
                              <m:t xml:space="preserve">(</m:t>
                            </m:r>
                            <m:r>
                              <m:t xml:space="preserve">ϑ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q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è una formula di Hor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 solo letterale positiv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una disgiunzion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oè:  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636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28840" y="30636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F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219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unzione UNIFICA prende due formule atomic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restitusce una sostituzione che ren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 ugu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17440" y="2895480"/>
                <a:ext cx="8709120" cy="23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IFICA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 dove </m:t>
                        </m:r>
                        <m:r>
                          <m:rPr>
                            <m:lit/>
                            <m:nor/>
                          </m:rPr>
                          <m:t xml:space="preserve">Sost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ost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empi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IFIC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,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,Jane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/Jane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IFIC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,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y,Leonid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/Leonid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John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IFIC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,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y,Madr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/John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adre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ohn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IFIC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,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Jane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a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8640" y="63244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28840" y="30636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lide09a_11" descr=""/>
          <p:cNvPicPr/>
          <p:nvPr/>
        </p:nvPicPr>
        <p:blipFill>
          <a:blip r:embed="rId1"/>
          <a:stretch/>
        </p:blipFill>
        <p:spPr>
          <a:xfrm>
            <a:off x="442800" y="1147680"/>
            <a:ext cx="82584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72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lide09a_13" descr=""/>
          <p:cNvPicPr/>
          <p:nvPr/>
        </p:nvPicPr>
        <p:blipFill>
          <a:blip r:embed="rId1"/>
          <a:stretch/>
        </p:blipFill>
        <p:spPr>
          <a:xfrm>
            <a:off x="757080" y="2038320"/>
            <a:ext cx="7629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496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lide09a_14" descr=""/>
          <p:cNvPicPr/>
          <p:nvPr/>
        </p:nvPicPr>
        <p:blipFill>
          <a:blip r:embed="rId1"/>
          <a:stretch/>
        </p:blipFill>
        <p:spPr>
          <a:xfrm>
            <a:off x="1181160" y="1400040"/>
            <a:ext cx="67816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56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lide09a_15" descr=""/>
          <p:cNvPicPr/>
          <p:nvPr/>
        </p:nvPicPr>
        <p:blipFill>
          <a:blip r:embed="rId1"/>
          <a:stretch/>
        </p:blipFill>
        <p:spPr>
          <a:xfrm>
            <a:off x="1157400" y="1590840"/>
            <a:ext cx="682920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356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lide09a_16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6705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01:53Z</dcterms:created>
  <dc:creator>Dario Bianchi</dc:creator>
  <dc:description/>
  <dc:language>en-US</dc:language>
  <cp:lastModifiedBy>Dario Bianchi</cp:lastModifiedBy>
  <dcterms:modified xsi:type="dcterms:W3CDTF">1999-04-28T16:29:11Z</dcterms:modified>
  <cp:revision>7</cp:revision>
  <dc:subject/>
  <dc:title>No Slide Title</dc:title>
</cp:coreProperties>
</file>